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4.wmf" ContentType="image/x-wmf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20880" y="744120"/>
            <a:ext cx="49608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8E46-3D08-45F2-AA55-ED4A2116A9E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20880" y="744480"/>
            <a:ext cx="4960800" cy="37227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– 0.3um, 180um separation, DC – 50um, 300um sep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37C6-F8C1-4DF5-B9C4-5BD22FDC7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5F75-CFC1-460B-9383-37757219B6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813F6-4352-4789-B81E-59F8B1598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9268A-4D1B-4085-AE34-D6001C64D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17DD0-1088-4231-B830-3AD0CC567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C6AF51-7ADA-44C8-A486-81F92F4ACA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BDA2F-5893-4BB5-B224-A090A8664C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1F73C-5F0A-482B-908E-95345B1B850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CD5BD-06B2-4F4E-827D-831FFBA9AD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A44A3-ED38-44B9-8EB0-3502B505AF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53416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0D687-720F-4F12-ABBB-F00C52BB69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8B732-57BB-4DB7-9245-13563FE648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B1BB1-EFCE-4B89-95DB-1F725E2990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FE4283-4FB3-420E-868F-CAFC178802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D34DD-965D-4D17-AF75-923B14E421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AAA42-E677-4A9A-AF1B-D0AF66795B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DD977-3D5A-4F72-AE86-7DD9DEA02D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22C2E-D1C6-4EAA-A231-3395D642584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89BF-6EC8-4DDE-94B3-EFE20F3380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EF092-C4F5-4484-8835-DAFB8C73C9E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9AA6-02A6-467A-A0E9-6082F1AFAE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24F7-72EA-4E2C-8838-CFADCA59B4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1A11-48FF-4C63-9F78-C1F068053B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C5C6C-617E-43CA-BBD2-FC8C028C42D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53416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5822-1875-4231-9E29-DB393754E7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190C-A6E2-443B-AC1C-B21AE962AF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EA000-54C9-4199-93A9-95F4EF2A523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C91C-79C2-4FBC-957C-2F2C575A53D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3061C-C45D-4E02-BDE0-B663548EDE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BB1D-BBBB-4700-AD28-909D2693B6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9C1C-6073-4351-93A2-7151CFD7C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5AD84-1823-400B-AE65-94767A9786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D0610-067F-4459-BA64-788CDA624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51920"/>
            <a:ext cx="8534160" cy="17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AA9F8-F1A1-4BCA-B6C5-0092706E2D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54A6E-754E-4FD9-B911-79B9A4BE87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2EE4F-4830-4A11-9DDB-BDE73559C7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82440"/>
            <a:ext cx="85341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0FB84-BCF5-47CC-B3FD-FD8C43A768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EU Workshop Padua Italy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0" y="22824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3EA6-2B1D-49EF-9F8A-470EDB5DE8EA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34920" y="609480"/>
            <a:ext cx="9067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0"/>
          <p:cNvSpPr/>
          <p:nvPr/>
        </p:nvSpPr>
        <p:spPr>
          <a:xfrm>
            <a:off x="457200" y="34920"/>
            <a:ext cx="0" cy="678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34920" y="609480"/>
            <a:ext cx="9067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457200" y="34920"/>
            <a:ext cx="0" cy="678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D 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0" y="22824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5FCC-6492-48AD-8B27-2EA08C77456E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Line 7"/>
          <p:cNvSpPr/>
          <p:nvPr/>
        </p:nvSpPr>
        <p:spPr>
          <a:xfrm>
            <a:off x="34920" y="609480"/>
            <a:ext cx="9067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10"/>
          <p:cNvSpPr/>
          <p:nvPr/>
        </p:nvSpPr>
        <p:spPr>
          <a:xfrm>
            <a:off x="457200" y="34920"/>
            <a:ext cx="0" cy="6781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ftr" idx="5"/>
          </p:nvPr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D 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0" y="22824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0770-9266-49CC-B337-B903FC1B3D76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citech.ac.uk/home.aspx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citech.ac.uk/home.aspx" TargetMode="External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velopment of a Segmented Planar Germanium Imaging Detector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857160" y="2755440"/>
            <a:ext cx="77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iversity of Liverpool, STFC Daresbury Laboratory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2v, Orte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4" descr="DSCN0005"/>
          <p:cNvPicPr/>
          <p:nvPr/>
        </p:nvPicPr>
        <p:blipFill>
          <a:blip r:embed="rId1"/>
          <a:stretch/>
        </p:blipFill>
        <p:spPr>
          <a:xfrm>
            <a:off x="6713640" y="4967280"/>
            <a:ext cx="2417760" cy="181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http://osxs.ch.liv.ac.uk/New%20Liverpool%20Logo%20RGB.jpg"/>
          <p:cNvPicPr/>
          <p:nvPr/>
        </p:nvPicPr>
        <p:blipFill>
          <a:blip r:embed="rId2"/>
          <a:stretch/>
        </p:blipFill>
        <p:spPr>
          <a:xfrm>
            <a:off x="658800" y="6110280"/>
            <a:ext cx="2951280" cy="642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STF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9040" y="6107040"/>
            <a:ext cx="2714760" cy="679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"/>
          <p:cNvPicPr/>
          <p:nvPr/>
        </p:nvPicPr>
        <p:blipFill>
          <a:blip r:embed="rId5"/>
          <a:stretch/>
        </p:blipFill>
        <p:spPr>
          <a:xfrm>
            <a:off x="857160" y="5286240"/>
            <a:ext cx="3056040" cy="785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"/>
          <p:cNvPicPr/>
          <p:nvPr/>
        </p:nvPicPr>
        <p:blipFill>
          <a:blip r:embed="rId6"/>
          <a:stretch/>
        </p:blipFill>
        <p:spPr>
          <a:xfrm>
            <a:off x="4286160" y="5357880"/>
            <a:ext cx="1666800" cy="46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D 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3276720" y="189000"/>
            <a:ext cx="5800680" cy="6669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Compton Imaging with HPG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30mm &amp; 50mm separation between scatterer &amp; analys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.6cm separation between poi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WHM ~ 8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he Potential Applica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228320" y="3785760"/>
            <a:ext cx="727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mples of the application of such dete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he Potential Applications: SPEC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57160" y="1357200"/>
            <a:ext cx="797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otivation: Factor of 100 increase in system sensitivit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development of a SPECT demonstrator. The system will be capable of imaging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99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c (141 keV) and other low energy SPECT isotop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tilise Compton Image reconstruction techniques, to electronically collimate the gamma-ray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ollow on the from the successful SmartPET proj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owever, will require more than one germanium crystal in a single cryost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ork with UK and international industry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379440"/>
            <a:ext cx="853416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he Potential Applications: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Homeland Security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14240" y="1214280"/>
            <a:ext cx="797256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otivation: Multi-nuclide gamma-ray imag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gh resolution spectroscopic capabilit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60keV – 10 MeV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igh sensitivity (with large field of view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cellent imaging capability (&lt;8mm FWHM for reconstructed point sourc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Environmental Ass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(n,n’), (n,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illicit substance det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uclear waste management and decommis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he identification, location and quantitative activity assessment of radioactive sources in 3-dimensional struct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aging in mixed radiation fields or high field imaging, e.g., integrity of containers, identification of contents using planar or tomographic techniqu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he Potential Applications: DESPEC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24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1" descr="rising-aida-4"/>
          <p:cNvPicPr/>
          <p:nvPr/>
        </p:nvPicPr>
        <p:blipFill>
          <a:blip r:embed="rId2"/>
          <a:srcRect l="24821" t="0" r="20523" b="0"/>
          <a:stretch/>
        </p:blipFill>
        <p:spPr>
          <a:xfrm>
            <a:off x="500040" y="747720"/>
            <a:ext cx="4656240" cy="6039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" descr=""/>
          <p:cNvPicPr/>
          <p:nvPr/>
        </p:nvPicPr>
        <p:blipFill>
          <a:blip r:embed="rId3"/>
          <a:srcRect l="4055" t="0" r="47383" b="0"/>
          <a:stretch/>
        </p:blipFill>
        <p:spPr>
          <a:xfrm>
            <a:off x="4857840" y="1928880"/>
            <a:ext cx="3765600" cy="32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ces in DESPEC gamma detection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ackground Rej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aging determines the location of the gamma-ray photon. This coupled with a signal from AIDA in the focal plane of the SFRS reduces background by factor of 10, keeping 80% of important events. Improves PT by factor 100. [1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ompt Fla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igh granularity allows detector system to recover from prompt gamma flash. Leads to access to shorter lived states and new physic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signed for AIDA, giving excellent solid angle covera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4"/>
          <p:cNvSpPr/>
          <p:nvPr/>
        </p:nvSpPr>
        <p:spPr>
          <a:xfrm>
            <a:off x="4393080" y="6357960"/>
            <a:ext cx="44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[1] S. Tashenov, J. Gerl, NIMA 586 (2008) 224–2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tatus &amp; Mileston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roject Milestone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00200" y="2189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tober 2008 – Project sta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vember 2008 – System specification complete (WP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anuary 2009 – Detector mounts complete (WP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y 2009 – Integration of detector 1 with mount complete (WP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y 2009 – Cryostat 1 complete (WP4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July 2009 – Preamplifier integration complete (WP5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t 2009 – System integration complete with crystal 1 (WP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c 2009 – One detector system performance characterised (WP7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b 2010 – Integration of detector 2 with mount complete (WP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y 2010 – System integration with complete with crystals 1 + 2 (WP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pt 2010 – Two detector system performance characterised (WP7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3031200" y="1395360"/>
            <a:ext cx="42498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nding decision due summer 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evelopment of a Segmented Planar Germanium Imaging Detector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857160" y="2755440"/>
            <a:ext cx="7786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University of Liverpool, STFC Daresbury Laboratory, e2v, Orte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DSCN0005"/>
          <p:cNvPicPr/>
          <p:nvPr/>
        </p:nvPicPr>
        <p:blipFill>
          <a:blip r:embed="rId1"/>
          <a:stretch/>
        </p:blipFill>
        <p:spPr>
          <a:xfrm>
            <a:off x="6713640" y="4967280"/>
            <a:ext cx="2417760" cy="18129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http://osxs.ch.liv.ac.uk/New%20Liverpool%20Logo%20RGB.jpg"/>
          <p:cNvPicPr/>
          <p:nvPr/>
        </p:nvPicPr>
        <p:blipFill>
          <a:blip r:embed="rId2"/>
          <a:stretch/>
        </p:blipFill>
        <p:spPr>
          <a:xfrm>
            <a:off x="658800" y="6110280"/>
            <a:ext cx="295128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STFC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29040" y="6107040"/>
            <a:ext cx="2714760" cy="6796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"/>
          <p:cNvPicPr/>
          <p:nvPr/>
        </p:nvPicPr>
        <p:blipFill>
          <a:blip r:embed="rId5"/>
          <a:stretch/>
        </p:blipFill>
        <p:spPr>
          <a:xfrm>
            <a:off x="857160" y="5286240"/>
            <a:ext cx="3056040" cy="7858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/>
          <p:cNvPicPr/>
          <p:nvPr/>
        </p:nvPicPr>
        <p:blipFill>
          <a:blip r:embed="rId6"/>
          <a:stretch/>
        </p:blipFill>
        <p:spPr>
          <a:xfrm>
            <a:off x="4286160" y="5357880"/>
            <a:ext cx="1666800" cy="46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he Objective of the Projec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70020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bjective of the project is “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to develop the capability in the UK to realise a compact highly segmented planar germanium detector system capable of gamma-ray imag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roject aims to get one and then two detector elements working in a custom designed cryosta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characterise the performance of the detector syste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o optimise performance fo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lications that focus on the use of Compton Imaging techniqu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roposal will then be developed in collaboration with e2v for future exploitation of the capability for SPECT imaging, Homeland Security and DESPEC at NuST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he System Requirement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56800" y="1600200"/>
            <a:ext cx="782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high performance Gamma-ray Imaging system require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tector perform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Excellent energy resol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ood time resol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Good position resolu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compact geomet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ximise system efficien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inimise dead mate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ectronic colli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aximises system efficienc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D 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D 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0" y="228600"/>
            <a:ext cx="457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8A03-990E-465A-B710-41983F15B3DA}" type="slidenum">
              <a:rPr b="0" lang="en-GB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HPGe detector manufacturing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9640" y="1125360"/>
            <a:ext cx="167652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oly Crystal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2340000" y="1125360"/>
            <a:ext cx="167652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fi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4140360" y="1125360"/>
            <a:ext cx="167616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ry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u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940360" y="1125360"/>
            <a:ext cx="167652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Ge Sing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ry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539640" y="2349360"/>
            <a:ext cx="167652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Bo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2340000" y="2349360"/>
            <a:ext cx="167652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4140360" y="2349360"/>
            <a:ext cx="167616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ith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if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5940360" y="2349360"/>
            <a:ext cx="167652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p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539640" y="3675240"/>
            <a:ext cx="167652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ad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ryost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6"/>
          <p:cNvSpPr/>
          <p:nvPr/>
        </p:nvSpPr>
        <p:spPr>
          <a:xfrm>
            <a:off x="2340000" y="3675240"/>
            <a:ext cx="167652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5940360" y="3675240"/>
            <a:ext cx="1676520" cy="612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Spectroscopy Te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539640" y="5014800"/>
            <a:ext cx="1676520" cy="642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Mechan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&amp; electro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2340000" y="5014800"/>
            <a:ext cx="1676520" cy="3988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2"/>
          <p:cNvSpPr/>
          <p:nvPr/>
        </p:nvSpPr>
        <p:spPr>
          <a:xfrm>
            <a:off x="5940360" y="5014800"/>
            <a:ext cx="1676520" cy="7038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23"/>
          <p:cNvSpPr/>
          <p:nvPr/>
        </p:nvSpPr>
        <p:spPr>
          <a:xfrm>
            <a:off x="4140360" y="3502080"/>
            <a:ext cx="1584000" cy="1152360"/>
          </a:xfrm>
          <a:prstGeom prst="flowChartDecision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25"/>
          <p:cNvSpPr/>
          <p:nvPr/>
        </p:nvSpPr>
        <p:spPr>
          <a:xfrm>
            <a:off x="4140360" y="4797360"/>
            <a:ext cx="1584000" cy="1152720"/>
          </a:xfrm>
          <a:prstGeom prst="flowChartDecision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26"/>
          <p:cNvSpPr/>
          <p:nvPr/>
        </p:nvSpPr>
        <p:spPr>
          <a:xfrm>
            <a:off x="7667640" y="981000"/>
            <a:ext cx="1476360" cy="1152720"/>
          </a:xfrm>
          <a:prstGeom prst="flowChartDecision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27"/>
          <p:cNvSpPr/>
          <p:nvPr/>
        </p:nvSpPr>
        <p:spPr>
          <a:xfrm>
            <a:off x="7667640" y="3573360"/>
            <a:ext cx="1476360" cy="1152720"/>
          </a:xfrm>
          <a:prstGeom prst="flowChartDecision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Go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8"/>
          <p:cNvSpPr/>
          <p:nvPr/>
        </p:nvSpPr>
        <p:spPr>
          <a:xfrm>
            <a:off x="6886800" y="6237360"/>
            <a:ext cx="196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urtesy Ort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9"/>
          <p:cNvSpPr/>
          <p:nvPr/>
        </p:nvSpPr>
        <p:spPr>
          <a:xfrm>
            <a:off x="8416800" y="4726080"/>
            <a:ext cx="0" cy="5745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30"/>
          <p:cNvSpPr/>
          <p:nvPr/>
        </p:nvSpPr>
        <p:spPr>
          <a:xfrm>
            <a:off x="8416800" y="2133720"/>
            <a:ext cx="0" cy="5745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31"/>
          <p:cNvSpPr/>
          <p:nvPr/>
        </p:nvSpPr>
        <p:spPr>
          <a:xfrm flipH="1">
            <a:off x="7596360" y="270828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32"/>
          <p:cNvSpPr/>
          <p:nvPr/>
        </p:nvSpPr>
        <p:spPr>
          <a:xfrm flipH="1">
            <a:off x="7596360" y="5300640"/>
            <a:ext cx="792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37"/>
          <p:cNvSpPr/>
          <p:nvPr/>
        </p:nvSpPr>
        <p:spPr>
          <a:xfrm>
            <a:off x="2556000" y="981000"/>
            <a:ext cx="37447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38"/>
          <p:cNvSpPr/>
          <p:nvPr/>
        </p:nvSpPr>
        <p:spPr>
          <a:xfrm flipH="1">
            <a:off x="2556000" y="2205000"/>
            <a:ext cx="37447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9"/>
          <p:cNvSpPr/>
          <p:nvPr/>
        </p:nvSpPr>
        <p:spPr>
          <a:xfrm>
            <a:off x="2556000" y="3429000"/>
            <a:ext cx="374472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40"/>
          <p:cNvSpPr/>
          <p:nvPr/>
        </p:nvSpPr>
        <p:spPr>
          <a:xfrm flipH="1">
            <a:off x="2771280" y="6021360"/>
            <a:ext cx="374508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ermanium Detector Developmen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85520" y="1428840"/>
            <a:ext cx="8072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eps required to deliver a segmented germanium detecto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high quality supplier of zone refined germaniu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t and shape the crystal with specific axis orien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act the crystal with lithographic mask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ryostat design and buil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eamplifier selection and integ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ystem Integ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System Characteris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he Track Record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D 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4"/>
          <p:cNvSpPr/>
          <p:nvPr/>
        </p:nvSpPr>
        <p:spPr>
          <a:xfrm>
            <a:off x="714240" y="928800"/>
            <a:ext cx="85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Lucida Sans"/>
              </a:rPr>
              <a:t>Double Sided HPGe Strip Det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Group 15"/>
          <p:cNvGrpSpPr/>
          <p:nvPr/>
        </p:nvGrpSpPr>
        <p:grpSpPr>
          <a:xfrm>
            <a:off x="560520" y="1571760"/>
            <a:ext cx="3868560" cy="5089320"/>
            <a:chOff x="560520" y="1571760"/>
            <a:chExt cx="3868560" cy="5089320"/>
          </a:xfrm>
        </p:grpSpPr>
        <p:pic>
          <p:nvPicPr>
            <p:cNvPr id="183" name="Picture 12" descr="smartPET1"/>
            <p:cNvPicPr/>
            <p:nvPr/>
          </p:nvPicPr>
          <p:blipFill>
            <a:blip r:embed="rId1"/>
            <a:stretch/>
          </p:blipFill>
          <p:spPr>
            <a:xfrm>
              <a:off x="560520" y="1571760"/>
              <a:ext cx="3852720" cy="202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13" descr="DSC05667"/>
            <p:cNvPicPr/>
            <p:nvPr/>
          </p:nvPicPr>
          <p:blipFill>
            <a:blip r:embed="rId2"/>
            <a:stretch/>
          </p:blipFill>
          <p:spPr>
            <a:xfrm>
              <a:off x="566640" y="3764160"/>
              <a:ext cx="3862440" cy="28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5" name="Text Box 14"/>
          <p:cNvSpPr/>
          <p:nvPr/>
        </p:nvSpPr>
        <p:spPr>
          <a:xfrm>
            <a:off x="4541760" y="1409760"/>
            <a:ext cx="445932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Lucida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60mm x 60mm x 20mm active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Lucida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7mm x 20mm guard 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Lucida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12 x 12 orthogonal stri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Lucida Sans"/>
              </a:rPr>
              <a:t>	</a:t>
            </a:r>
            <a:r>
              <a:rPr b="0" lang="en-GB" sz="1600" spc="-1" strike="noStrike">
                <a:solidFill>
                  <a:srgbClr val="002060"/>
                </a:solidFill>
                <a:latin typeface="Lucida Sans"/>
              </a:rPr>
              <a:t>- 5mm p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Lucida Sans"/>
              </a:rPr>
              <a:t>	</a:t>
            </a:r>
            <a:r>
              <a:rPr b="0" lang="en-GB" sz="1600" spc="-1" strike="noStrike">
                <a:solidFill>
                  <a:srgbClr val="002060"/>
                </a:solidFill>
                <a:latin typeface="Lucida Sans"/>
              </a:rPr>
              <a:t>- 5mm x 5mm x 20mm vox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Lucida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1mm Aluminium entrance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Lucida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Thin contact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Lucida 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Lucida Sans"/>
              </a:rPr>
              <a:t>Fast charge sensitive preampl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4572000" y="5214960"/>
            <a:ext cx="450072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Lucida Sans"/>
              </a:rPr>
              <a:t>Energy resolu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Lucida Sans"/>
              </a:rPr>
              <a:t>1.5 keV@122 keV &amp; 3.25keV FWHM at 511k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2060"/>
                </a:solidFill>
                <a:latin typeface="Lucida Sans"/>
              </a:rPr>
              <a:t>Intrinsic photopeak efficiency – 19% at 511ke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"/>
          <p:cNvSpPr/>
          <p:nvPr/>
        </p:nvSpPr>
        <p:spPr>
          <a:xfrm>
            <a:off x="533520" y="152280"/>
            <a:ext cx="853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martPET det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D 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5907600" y="6429240"/>
            <a:ext cx="290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. Boston et al., A579(2007) 104-1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7"/>
          <p:cNvSpPr/>
          <p:nvPr/>
        </p:nvSpPr>
        <p:spPr>
          <a:xfrm>
            <a:off x="571680" y="1076400"/>
            <a:ext cx="578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Three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Lucida Sans"/>
              </a:rPr>
              <a:t>22</a:t>
            </a: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Na point sources have been imaged with the SmartPE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Group 10"/>
          <p:cNvGrpSpPr/>
          <p:nvPr/>
        </p:nvGrpSpPr>
        <p:grpSpPr>
          <a:xfrm>
            <a:off x="500040" y="2000160"/>
            <a:ext cx="8643960" cy="3778200"/>
            <a:chOff x="500040" y="2000160"/>
            <a:chExt cx="8643960" cy="3778200"/>
          </a:xfrm>
        </p:grpSpPr>
        <p:pic>
          <p:nvPicPr>
            <p:cNvPr id="192" name="Picture 6" descr=""/>
            <p:cNvPicPr/>
            <p:nvPr/>
          </p:nvPicPr>
          <p:blipFill>
            <a:blip r:embed="rId1"/>
            <a:stretch/>
          </p:blipFill>
          <p:spPr>
            <a:xfrm>
              <a:off x="772920" y="2000160"/>
              <a:ext cx="8371080" cy="376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TextBox 8"/>
            <p:cNvSpPr/>
            <p:nvPr/>
          </p:nvSpPr>
          <p:spPr>
            <a:xfrm>
              <a:off x="1955880" y="5471280"/>
              <a:ext cx="100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Lucida Sans"/>
                </a:rPr>
                <a:t>60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TextBox 9"/>
            <p:cNvSpPr/>
            <p:nvPr/>
          </p:nvSpPr>
          <p:spPr>
            <a:xfrm rot="16200000">
              <a:off x="159480" y="3683520"/>
              <a:ext cx="98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Lucida Sans"/>
                </a:rPr>
                <a:t>60m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TextBox 12"/>
          <p:cNvSpPr/>
          <p:nvPr/>
        </p:nvSpPr>
        <p:spPr>
          <a:xfrm>
            <a:off x="500040" y="5715000"/>
            <a:ext cx="90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From MLEM reconstruction the point sources display FHWM of ~1.4m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Lucida Sans"/>
              </a:rPr>
              <a:t>Over 60% of events process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533520" y="152280"/>
            <a:ext cx="85341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oint Source Im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9" descr="SUC50794"/>
          <p:cNvPicPr/>
          <p:nvPr/>
        </p:nvPicPr>
        <p:blipFill>
          <a:blip r:embed="rId2"/>
          <a:stretch/>
        </p:blipFill>
        <p:spPr>
          <a:xfrm>
            <a:off x="6143760" y="785880"/>
            <a:ext cx="2666880" cy="2000160"/>
          </a:xfrm>
          <a:prstGeom prst="rect">
            <a:avLst/>
          </a:prstGeom>
          <a:ln w="0">
            <a:noFill/>
          </a:ln>
        </p:spPr>
      </p:pic>
      <p:sp>
        <p:nvSpPr>
          <p:cNvPr id="198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D 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5098320" y="6429240"/>
            <a:ext cx="377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. Cooper, H. Boston, NIMA 579 (2007) 313-31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 rot="16200000">
            <a:off x="-2209320" y="4191120"/>
            <a:ext cx="4876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PRD Germanium Development Propos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" descr="andy1"/>
          <p:cNvPicPr/>
          <p:nvPr/>
        </p:nvPicPr>
        <p:blipFill>
          <a:blip r:embed="rId1"/>
          <a:stretch/>
        </p:blipFill>
        <p:spPr>
          <a:xfrm>
            <a:off x="3276720" y="747720"/>
            <a:ext cx="6551640" cy="59943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"/>
          <p:cNvSpPr/>
          <p:nvPr/>
        </p:nvSpPr>
        <p:spPr>
          <a:xfrm>
            <a:off x="1042920" y="4581360"/>
            <a:ext cx="3960720" cy="172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Cone beam reconstruction with 10 ite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"/>
              </a:rPr>
              <a:t>~8mm image resolution x-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15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u point source imag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0 keV gate on 1408 keV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0mm detector separation with 1.6mm position resolu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gle interactions in each detecto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maging Progress : Compton Camer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7569360" y="2400480"/>
            <a:ext cx="0" cy="1676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274320" rIns="274320" tIns="91440" bIns="9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7667640" y="2752560"/>
            <a:ext cx="172872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91440" bIns="9144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 cm source to cry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4902120" y="4707000"/>
            <a:ext cx="18306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4320" rIns="274320" tIns="91440" bIns="9144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cm crystal to crys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Box 10"/>
          <p:cNvSpPr/>
          <p:nvPr/>
        </p:nvSpPr>
        <p:spPr>
          <a:xfrm>
            <a:off x="901440" y="6429240"/>
            <a:ext cx="329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. Boston et al., NIMA580 (2007) 929-9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22:12:02Z</dcterms:created>
  <dc:creator>Andy Boston</dc:creator>
  <dc:description/>
  <dc:language>en-US</dc:language>
  <cp:lastModifiedBy> Andy Boston</cp:lastModifiedBy>
  <cp:lastPrinted>2002-04-27T15:49:30Z</cp:lastPrinted>
  <dcterms:modified xsi:type="dcterms:W3CDTF">2008-07-10T16:41:56Z</dcterms:modified>
  <cp:revision>480</cp:revision>
  <dc:subject/>
  <dc:title>Liverpool Pulse Shape Presentation</dc:title>
</cp:coreProperties>
</file>