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Bitstream Vera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86000-FADF-4B57-AA28-3328BFB0C7B3}" type="slidenum">
              <a:rPr b="0" lang="en-GB" sz="12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7E7B3-FF89-44C1-8265-427BEB639326}" type="slidenum">
              <a:rPr b="0" lang="en-GB" sz="12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lang="en-US" sz="1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57B07-2361-446D-B993-4E317DAD47CB}" type="slidenum">
              <a:rPr b="0" lang="en-GB" sz="12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lang="en-US" sz="1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2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DCD85-4C77-4A04-A2C2-F063923A9AB3}" type="slidenum">
              <a:rPr b="0" lang="en-GB" sz="12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lang="en-US" sz="1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Espace réservé du numéro de diapositive 3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BABE5-738D-42C7-BA8E-2C6989C88CA7}" type="slidenum">
              <a:rPr b="0" lang="en-GB" sz="12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lang="en-US" sz="12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F034-AAF5-45E6-93B2-712F7AE7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4294-4C09-4053-973C-D4EC24D0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08EB-9C61-4204-AF56-14FF1CF2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63D8-B548-45B6-96E1-9E18FA38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3FFE-A2B6-43C5-B424-3B05F3EF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B823-D6A6-473F-B405-EAC250DD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1CF6-50CA-4DD7-BF70-6E824E3D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1EBB-C60F-46E4-A724-C9746B8E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6FEB-D2BC-43CF-B569-27FDAD91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3470-9831-4D75-BD96-7F1C8082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A965-8738-461C-92C5-303E2F3E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9FF6-5644-4BFB-85AD-582EFC8B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539A-35CE-40E7-945C-FAAAC5DA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7536-91E4-4773-8EAA-187FA853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56ED-50F3-49AB-AAFD-B4485E1A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6AE1-3E8A-4143-926C-35AB3E45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726B-280B-4FAD-8872-A59A0664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6707-3B1B-48CB-8517-12B397E6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116B-D185-4800-AF1A-1B5E99C8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17A7-FCF5-4A77-9755-F13BCA2F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CDB8-CB35-4560-98C0-AB21B4A5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80F6-E472-4A81-A5D4-7D347815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A2DE-41BA-4AFA-B95F-1221FA77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12C4-F16F-4D03-907C-09D82A57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Rectangle 3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def6f1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def6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8dc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00a8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E0A703-F0AA-4789-8AAB-5898002F070C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1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Rectangle 3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def6f1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def6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0" name="Rectangle 36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1" name="Rectangle 37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4" name="Rectangle 40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5" name="Rectangle 41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6" name="Rectangle 42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8" name="Rectangle 44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9" name="Rectangle 45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0" name="Rectangle 46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4" name="Rectangle 50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7" name="Rectangle 53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8" name="Rectangle 54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9" name="Rectangle 55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0" name="Rectangle 56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1" name="Rectangle 57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2" name="Rectangle 58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3" name="Rectangle 59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4" name="Rectangle 60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8" name="Rectangle 64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</p:grpSp>
      <p:sp>
        <p:nvSpPr>
          <p:cNvPr id="170" name="Freeform 70"/>
          <p:cNvSpPr/>
          <p:nvPr/>
        </p:nvSpPr>
        <p:spPr>
          <a:xfrm rot="16200000">
            <a:off x="3871080" y="1005120"/>
            <a:ext cx="150840" cy="4845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8dc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00a8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C11270-FCDC-4F5A-8A77-5134944A6D1F}" type="slidenum"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Forte"/>
              </a:rPr>
              <a:t>Agata Construction DataBa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428840" y="54291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Agata Week, 08/07/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.Aufranc, O.Stezow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bandeau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1273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/>
          <p:cNvPicPr/>
          <p:nvPr/>
        </p:nvPicPr>
        <p:blipFill>
          <a:blip r:embed="rId2"/>
          <a:srcRect l="0" t="0" r="92442" b="0"/>
          <a:stretch/>
        </p:blipFill>
        <p:spPr>
          <a:xfrm>
            <a:off x="7812000" y="333360"/>
            <a:ext cx="1100160" cy="15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64" name="Espace réservé du numéro de diapositive 2"/>
          <p:cNvSpPr/>
          <p:nvPr/>
        </p:nvSpPr>
        <p:spPr>
          <a:xfrm>
            <a:off x="8215200" y="6248520"/>
            <a:ext cx="85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34BEAF-1663-48F8-B352-65FED861A25F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65" name="Image 3" descr="Capture6.png"/>
          <p:cNvPicPr/>
          <p:nvPr/>
        </p:nvPicPr>
        <p:blipFill>
          <a:blip r:embed="rId1"/>
          <a:srcRect l="0" t="3126" r="0" b="2082"/>
          <a:stretch/>
        </p:blipFill>
        <p:spPr>
          <a:xfrm>
            <a:off x="142920" y="534960"/>
            <a:ext cx="8286840" cy="628344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5"/>
          <p:cNvSpPr/>
          <p:nvPr/>
        </p:nvSpPr>
        <p:spPr>
          <a:xfrm>
            <a:off x="468360" y="0"/>
            <a:ext cx="8064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Connection between 2 object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68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22B2BC-02D6-431E-B623-7B2C2F35BE76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69" name="Picture 4" descr="Capture7"/>
          <p:cNvPicPr/>
          <p:nvPr/>
        </p:nvPicPr>
        <p:blipFill>
          <a:blip r:embed="rId1"/>
          <a:srcRect l="0" t="2705" r="0" b="3691"/>
          <a:stretch/>
        </p:blipFill>
        <p:spPr>
          <a:xfrm>
            <a:off x="214200" y="609480"/>
            <a:ext cx="8248680" cy="617724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324000" y="0"/>
            <a:ext cx="822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History of a crystal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72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B5E667-EEA9-4EB5-B6AD-AE9565D3C176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73" name="Picture 8" descr="Capture8"/>
          <p:cNvPicPr/>
          <p:nvPr/>
        </p:nvPicPr>
        <p:blipFill>
          <a:blip r:embed="rId1"/>
          <a:srcRect l="0" t="2248" r="0" b="3709"/>
          <a:stretch/>
        </p:blipFill>
        <p:spPr>
          <a:xfrm>
            <a:off x="216000" y="785880"/>
            <a:ext cx="7596000" cy="5715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7"/>
          <p:cNvSpPr/>
          <p:nvPr/>
        </p:nvSpPr>
        <p:spPr>
          <a:xfrm>
            <a:off x="539640" y="0"/>
            <a:ext cx="82296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Report for a specific center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519ADA-6360-4FDF-B5A3-AD3FAB424C57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77" name="Picture 4" descr="Resolution1"/>
          <p:cNvPicPr/>
          <p:nvPr/>
        </p:nvPicPr>
        <p:blipFill>
          <a:blip r:embed="rId1"/>
          <a:srcRect l="0" t="2728" r="0" b="4293"/>
          <a:stretch/>
        </p:blipFill>
        <p:spPr>
          <a:xfrm>
            <a:off x="142920" y="647640"/>
            <a:ext cx="8250120" cy="61390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2"/>
          <p:cNvSpPr/>
          <p:nvPr/>
        </p:nvSpPr>
        <p:spPr>
          <a:xfrm>
            <a:off x="468360" y="71280"/>
            <a:ext cx="8229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Actions available for a crystal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-514440">
              <a:buClr>
                <a:srgbClr val="0070c0"/>
              </a:buClr>
              <a:buFont typeface="Helvetic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Adaptation of BigBr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1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588FD1-8571-4B90-A3F1-84B1C48000CA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214200" y="928800"/>
            <a:ext cx="8572680" cy="574884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9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BigBrother=portable applicatio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few modifications for Agata purpose (DataBase access, CMS specific vocabulary)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Conversion of numerical barcodes to alphanumerical one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not a difficult work but  modifications everywhere in the code. 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Development is finished and tested,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but bugs can remain: report me any problem (</a:t>
            </a:r>
            <a:r>
              <a:rPr b="0" i="1" lang="fr-FR" sz="2600" spc="-1" strike="noStrike">
                <a:solidFill>
                  <a:srgbClr val="000000"/>
                </a:solidFill>
                <a:latin typeface="Arial"/>
              </a:rPr>
              <a:t>cecile.aufranc@ipnl.in2p3.fr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Construction DataBase Agata Web Site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fr-FR" sz="2600" spc="-1" strike="noStrike" u="sng">
                <a:solidFill>
                  <a:srgbClr val="0063c6"/>
                </a:solidFill>
                <a:uFillTx/>
                <a:latin typeface="Arial"/>
              </a:rPr>
              <a:t>http://agata.in2p3.fr/DB/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BigBrowser download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fr-FR" sz="2600" spc="-1" strike="noStrike" u="sng">
                <a:solidFill>
                  <a:srgbClr val="0063c6"/>
                </a:solidFill>
                <a:uFillTx/>
                <a:latin typeface="Arial"/>
              </a:rPr>
              <a:t>ftp://lyoftp.in2p3.fr/AGATA/AgataDB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4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F1D416D-AF52-4C67-9870-7E6147985AC5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5" name="Titre 4"/>
          <p:cNvSpPr/>
          <p:nvPr/>
        </p:nvSpPr>
        <p:spPr>
          <a:xfrm>
            <a:off x="25092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Helvetic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Initialization of the DataBase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324000" y="674640"/>
            <a:ext cx="8820000" cy="557064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We must define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struc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 for the objects to insert in the DB: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which objects, with which hierarchy?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Fondamental quest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: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What is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meaningfu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 to put in the DataBase?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"/>
                <a:ea typeface="Osaka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  <a:ea typeface="Osaka"/>
              </a:rPr>
              <a:t>=&gt;must we put the </a:t>
            </a:r>
            <a:r>
              <a:rPr b="0" lang="en-GB" sz="2400" spc="-1" strike="noStrike" u="sng">
                <a:solidFill>
                  <a:srgbClr val="0066cc"/>
                </a:solidFill>
                <a:uFillTx/>
                <a:latin typeface="Arial"/>
                <a:ea typeface="Osaka"/>
              </a:rPr>
              <a:t>beam line, the chambers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  <a:ea typeface="Osaka"/>
              </a:rPr>
              <a:t> which are specific to each laboratory and not belong to AGATA?...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With which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degree of detai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?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  <a:ea typeface="Osaka"/>
              </a:rPr>
              <a:t>=&gt; must we put the </a:t>
            </a:r>
            <a:r>
              <a:rPr b="0" lang="en-GB" sz="2400" spc="-1" strike="noStrike" u="sng">
                <a:solidFill>
                  <a:srgbClr val="0066cc"/>
                </a:solidFill>
                <a:uFillTx/>
                <a:latin typeface="Arial"/>
                <a:ea typeface="Osaka"/>
              </a:rPr>
              <a:t>r</a:t>
            </a:r>
            <a:r>
              <a:rPr b="0" lang="en-GB" sz="2400" spc="-1" strike="noStrike" u="sng">
                <a:solidFill>
                  <a:srgbClr val="0066cc"/>
                </a:solidFill>
                <a:uFillTx/>
                <a:latin typeface="Arial"/>
              </a:rPr>
              <a:t>acks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 in the DB, the heat exchangers?...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Helvetic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And we must be as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homogeneou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as possible!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"/>
                <a:ea typeface="Osaka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  <a:ea typeface="Osaka"/>
              </a:rPr>
              <a:t>=&gt;the TCluster corresponds in the DB to the support, to the cryostat, to an abstract component?...must we create it?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8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D04EBD-4CC2-4EB9-A90D-ACC33ADE6470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9" name="Titre 4"/>
          <p:cNvSpPr/>
          <p:nvPr/>
        </p:nvSpPr>
        <p:spPr>
          <a:xfrm>
            <a:off x="250920" y="-270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Helvetic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Initialization of the DataBase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108000" y="549360"/>
            <a:ext cx="8785080" cy="634536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Definition of objects to insert in the DataBase: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Arial"/>
                <a:ea typeface="Osaka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Arial"/>
                <a:ea typeface="Osaka"/>
              </a:rPr>
              <a:t>=&gt;</a:t>
            </a:r>
            <a:r>
              <a:rPr b="1" lang="en-GB" sz="2800" spc="-1" strike="noStrike">
                <a:solidFill>
                  <a:srgbClr val="0066cc"/>
                </a:solidFill>
                <a:latin typeface="Arial"/>
                <a:ea typeface="Osaka"/>
              </a:rPr>
              <a:t>name, type (specie), version, isacable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	</a:t>
            </a:r>
            <a:r>
              <a:rPr b="0" lang="en-GB" sz="2800" spc="-1" strike="noStrike" u="sng">
                <a:solidFill>
                  <a:srgbClr val="0066cc"/>
                </a:solidFill>
                <a:uFillTx/>
                <a:latin typeface="Arial"/>
                <a:ea typeface="Osaka"/>
              </a:rPr>
              <a:t>ex:</a:t>
            </a:r>
            <a:r>
              <a:rPr b="0" lang="en-GB" sz="2800" spc="-1" strike="noStrike">
                <a:solidFill>
                  <a:srgbClr val="0066cc"/>
                </a:solidFill>
                <a:latin typeface="Arial"/>
                <a:ea typeface="Osaka"/>
              </a:rPr>
              <a:t> TCluster, Assymetric TC, version 1, not a cable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Definition of the assembly rul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tween those objects: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=&gt;</a:t>
            </a:r>
            <a:r>
              <a:rPr b="1" lang="en-GB" sz="2800" spc="-1" strike="noStrike">
                <a:solidFill>
                  <a:srgbClr val="0066cc"/>
                </a:solidFill>
                <a:latin typeface="Arial"/>
              </a:rPr>
              <a:t>Father/son and number of max sons in the father…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0066cc"/>
                </a:solidFill>
                <a:uFillTx/>
                <a:latin typeface="Arial"/>
              </a:rPr>
              <a:t>ex:</a:t>
            </a:r>
            <a:r>
              <a:rPr b="1" lang="en-GB" sz="28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father: Asym TC=&gt;son: Asym Cryostat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=&gt;1 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Asym TC</a:t>
            </a:r>
            <a:r>
              <a:rPr b="0" lang="en-GB" sz="2400" spc="-1" strike="noStrike">
                <a:solidFill>
                  <a:srgbClr val="def6f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is composed of only one Asym Cryostat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’ve sent a more precise documentation to each team leader and working group leader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2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BB3E7D-83B1-483A-87C4-09C53B5CBE3D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600120" y="1273320"/>
            <a:ext cx="7643880" cy="446436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Common forma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 for barcodes has been fixed: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Arial"/>
                <a:ea typeface="Osaka"/>
              </a:rPr>
              <a:t>=&gt;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16 digit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xxx_xxx_xxx_xxxx: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group_type_specificity_numbering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DET_TCL_ASY_0001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If stamps can’t be put: find another identification method (serial number…)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Becarefull to the confusion and mistakes between objects 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4" name="Titre 4"/>
          <p:cNvSpPr/>
          <p:nvPr/>
        </p:nvSpPr>
        <p:spPr>
          <a:xfrm>
            <a:off x="0" y="1890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olicy of barcodes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6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4DA5E7-CA52-44D1-B403-6DA335169DC2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7" name="Titre 4"/>
          <p:cNvSpPr/>
          <p:nvPr/>
        </p:nvSpPr>
        <p:spPr>
          <a:xfrm>
            <a:off x="179280" y="1890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Helvetic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Actions in the DataBase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684360" y="1125360"/>
            <a:ext cx="7529400" cy="500076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ctions in the DB =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measures on object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66cc"/>
                </a:solidFill>
                <a:latin typeface="Arial"/>
              </a:rPr>
              <a:t>=&gt; the resolution at 122keV: </a:t>
            </a:r>
            <a:r>
              <a:rPr b="1" i="1" lang="fr-FR" sz="2400" spc="-1" strike="noStrike">
                <a:solidFill>
                  <a:srgbClr val="0066cc"/>
                </a:solidFill>
                <a:latin typeface="Arial"/>
              </a:rPr>
              <a:t>Resolution122keV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posite actions (on single objects or on composite objects)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2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i="1" lang="fr-FR" sz="2600" spc="-1" strike="noStrike">
                <a:solidFill>
                  <a:srgbClr val="0066cc"/>
                </a:solidFill>
                <a:latin typeface="Arial"/>
              </a:rPr>
              <a:t>=&gt; the </a:t>
            </a:r>
            <a:r>
              <a:rPr b="1" i="1" lang="fr-FR" sz="2600" spc="-1" strike="noStrike">
                <a:solidFill>
                  <a:srgbClr val="0066cc"/>
                </a:solidFill>
                <a:latin typeface="Arial"/>
              </a:rPr>
              <a:t>Resolution</a:t>
            </a:r>
            <a:r>
              <a:rPr b="0" i="1" lang="fr-FR" sz="2600" spc="-1" strike="noStrike">
                <a:solidFill>
                  <a:srgbClr val="0066cc"/>
                </a:solidFill>
                <a:latin typeface="Arial"/>
              </a:rPr>
              <a:t> which is composed of 2 base actions: the </a:t>
            </a:r>
            <a:r>
              <a:rPr b="1" i="1" lang="fr-FR" sz="2600" spc="-1" strike="noStrike">
                <a:solidFill>
                  <a:srgbClr val="0066cc"/>
                </a:solidFill>
                <a:latin typeface="Arial"/>
              </a:rPr>
              <a:t>Resolution122keV</a:t>
            </a:r>
            <a:r>
              <a:rPr b="0" i="1" lang="fr-FR" sz="2600" spc="-1" strike="noStrike">
                <a:solidFill>
                  <a:srgbClr val="0066cc"/>
                </a:solidFill>
                <a:latin typeface="Arial"/>
              </a:rPr>
              <a:t> and the </a:t>
            </a:r>
            <a:r>
              <a:rPr b="1" i="1" lang="fr-FR" sz="2600" spc="-1" strike="noStrike">
                <a:solidFill>
                  <a:srgbClr val="0066cc"/>
                </a:solidFill>
                <a:latin typeface="Arial"/>
              </a:rPr>
              <a:t>Resolution1MeV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 objects have a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tatu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reference, valid, notvalid), and actions can invalidate some object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Consequenc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a «faulty» object can’t be assembled for instance/ but this object can be repaired by ordinary actions or special action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D3207E-028F-453C-B57F-B4FA36813F89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1" name="Titre 4"/>
          <p:cNvSpPr/>
          <p:nvPr/>
        </p:nvSpPr>
        <p:spPr>
          <a:xfrm>
            <a:off x="179280" y="1890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Helvetic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Actions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468360" y="1052640"/>
            <a:ext cx="8281800" cy="488052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66cc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 « Initialization » action can be necessary: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erial numbe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r-FR" sz="2800" spc="-1" strike="noStrike">
                <a:solidFill>
                  <a:srgbClr val="def6f1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ducer, purchaser… 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66cc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pecification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66cc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asures of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resolution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66cc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canning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of crystal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 u="sng">
                <a:solidFill>
                  <a:srgbClr val="0066cc"/>
                </a:solidFill>
                <a:uFillTx/>
                <a:latin typeface="Arial"/>
              </a:rPr>
              <a:t>NB</a:t>
            </a:r>
            <a:r>
              <a:rPr b="0" lang="fr-FR" sz="2400" spc="-1" strike="noStrike">
                <a:solidFill>
                  <a:srgbClr val="0066cc"/>
                </a:solidFill>
                <a:latin typeface="Arial"/>
              </a:rPr>
              <a:t>: the </a:t>
            </a:r>
            <a:r>
              <a:rPr b="0" lang="fr-FR" sz="2400" spc="-1" strike="noStrike" u="sng">
                <a:solidFill>
                  <a:srgbClr val="0066cc"/>
                </a:solidFill>
                <a:uFillTx/>
                <a:latin typeface="Arial"/>
              </a:rPr>
              <a:t>binary files</a:t>
            </a:r>
            <a:r>
              <a:rPr b="0" lang="fr-FR" sz="2400" spc="-1" strike="noStrike">
                <a:solidFill>
                  <a:srgbClr val="0066cc"/>
                </a:solidFill>
                <a:latin typeface="Arial"/>
              </a:rPr>
              <a:t> can’t be inserted in the BD, but you can create </a:t>
            </a:r>
            <a:r>
              <a:rPr b="0" lang="fr-FR" sz="2400" spc="-1" strike="noStrike" u="sng">
                <a:solidFill>
                  <a:srgbClr val="0066cc"/>
                </a:solidFill>
                <a:uFillTx/>
                <a:latin typeface="Arial"/>
              </a:rPr>
              <a:t>links</a:t>
            </a:r>
            <a:r>
              <a:rPr b="0" lang="fr-FR" sz="2400" spc="-1" strike="noStrike">
                <a:solidFill>
                  <a:srgbClr val="0066cc"/>
                </a:solidFill>
                <a:latin typeface="Arial"/>
              </a:rPr>
              <a:t> on files stored on an </a:t>
            </a:r>
            <a:r>
              <a:rPr b="0" lang="fr-FR" sz="2400" spc="-1" strike="noStrike" u="sng">
                <a:solidFill>
                  <a:srgbClr val="0066cc"/>
                </a:solidFill>
                <a:uFillTx/>
                <a:latin typeface="Arial"/>
              </a:rPr>
              <a:t>external media</a:t>
            </a:r>
            <a:r>
              <a:rPr b="0" lang="fr-FR" sz="2400" spc="-1" strike="noStrike">
                <a:solidFill>
                  <a:srgbClr val="0066cc"/>
                </a:solidFill>
                <a:latin typeface="Arial"/>
              </a:rPr>
              <a:t> (</a:t>
            </a:r>
            <a:r>
              <a:rPr b="0" lang="fr-FR" sz="2400" spc="-1" strike="noStrike" u="sng">
                <a:solidFill>
                  <a:srgbClr val="0066cc"/>
                </a:solidFill>
                <a:uFillTx/>
                <a:latin typeface="Arial"/>
              </a:rPr>
              <a:t>ex</a:t>
            </a:r>
            <a:r>
              <a:rPr b="0" lang="fr-FR" sz="2400" spc="-1" strike="noStrike">
                <a:solidFill>
                  <a:srgbClr val="0066cc"/>
                </a:solidFill>
                <a:latin typeface="Arial"/>
              </a:rPr>
              <a:t>: at the CCIN2P3, storage under HPSS of big files and automatized access via SRB)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numéro de diapositive 9"/>
          <p:cNvSpPr/>
          <p:nvPr/>
        </p:nvSpPr>
        <p:spPr>
          <a:xfrm>
            <a:off x="8429760" y="6248520"/>
            <a:ext cx="48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4E5AE8-CFBF-4131-9DDE-8E7EB14999D5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25" name="Espace réservé de la date 8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ut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642680" y="1143000"/>
            <a:ext cx="6929640" cy="500436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napsh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daptation of BigBr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nitialization of the Data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ctions=measures in the D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4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25B793-0CE3-4CD8-AC7B-27F6A308DD1A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5" name="Titre 4"/>
          <p:cNvSpPr/>
          <p:nvPr/>
        </p:nvSpPr>
        <p:spPr>
          <a:xfrm>
            <a:off x="395280" y="5493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Helvetica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Conclusion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1258920" y="1916280"/>
            <a:ext cx="6929280" cy="404928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Osaka"/>
              </a:rPr>
              <a:t>The urgency: to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fix the struc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Osaka"/>
              </a:rPr>
              <a:t> of the database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Osaka"/>
              </a:rPr>
              <a:t>After that: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define ac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Osaka"/>
              </a:rPr>
              <a:t> on those objects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See you at the Detector parameter DB meeting Thursday at 16:00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BAF41C-3611-4D62-8269-6302E3773F4A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9" name="Titre 4"/>
          <p:cNvSpPr/>
          <p:nvPr/>
        </p:nvSpPr>
        <p:spPr>
          <a:xfrm>
            <a:off x="395280" y="549360"/>
            <a:ext cx="864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Necessary information to define an action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684360" y="1341360"/>
            <a:ext cx="7775280" cy="466236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name, version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Objec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name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: a short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iption of the action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Results on the ac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name, type, unity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Composite Ac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? Yes/No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Input values for the test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value, unity, description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Too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: tool used for a specific center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Operato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name of the operator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468360" y="1700280"/>
            <a:ext cx="8353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2253C5-F8D8-45A5-8C34-2690856CF3A4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4" name="Titre 4"/>
          <p:cNvSpPr/>
          <p:nvPr/>
        </p:nvSpPr>
        <p:spPr>
          <a:xfrm>
            <a:off x="324000" y="260280"/>
            <a:ext cx="864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Exemple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250920" y="900000"/>
            <a:ext cx="8713800" cy="622008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RESOLUTION122kev, 1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Object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CRYSTAL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Give the resolution of a crystal and it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6 segments for 122keV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resCrystal float, resSegments Array of 36 floats 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Composite Actio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? No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Input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122, keV, Energy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Tool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test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Operator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Cecile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ex of composite actio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Resolution which contains 2 base actions: Resolution122keV and Resolution1MeV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468360" y="1700280"/>
            <a:ext cx="8353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numéro de diapositive 4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187E573-DAE3-453A-9945-086B84262ECA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29" name="Espace réservé de la date 3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0010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-743040">
              <a:buClr>
                <a:srgbClr val="0070c0"/>
              </a:buClr>
              <a:buFont typeface="Helvetica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14200" y="746280"/>
            <a:ext cx="8715600" cy="552060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racle DataBase (the server) and a graphical interfac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BigBrowser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java client) conceived and developed by the CMS Team Tra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is tool has been accepted by the «Agata Management Board = </a:t>
            </a:r>
            <a:r>
              <a:rPr b="1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the official Agata constructio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The Computer Center of the IN2P3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hosts the database part: a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st DB and  a production DB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ave been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The Infrastructure group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began to work with us to define the structure of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Espace réservé du numéro de diapositive 25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344F2C-2618-4FDD-86BB-2C06DAA569C1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33" name="Espace réservé de la date 24"/>
          <p:cNvSpPr/>
          <p:nvPr/>
        </p:nvSpPr>
        <p:spPr>
          <a:xfrm>
            <a:off x="571680" y="621504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grpSp>
        <p:nvGrpSpPr>
          <p:cNvPr id="234" name="Group 17"/>
          <p:cNvGrpSpPr/>
          <p:nvPr/>
        </p:nvGrpSpPr>
        <p:grpSpPr>
          <a:xfrm>
            <a:off x="500040" y="785880"/>
            <a:ext cx="8214840" cy="6030360"/>
            <a:chOff x="500040" y="785880"/>
            <a:chExt cx="8214840" cy="6030360"/>
          </a:xfrm>
        </p:grpSpPr>
        <p:pic>
          <p:nvPicPr>
            <p:cNvPr id="235" name="Picture 4" descr="Overview"/>
            <p:cNvPicPr/>
            <p:nvPr/>
          </p:nvPicPr>
          <p:blipFill>
            <a:blip r:embed="rId1"/>
            <a:stretch/>
          </p:blipFill>
          <p:spPr>
            <a:xfrm>
              <a:off x="500040" y="785880"/>
              <a:ext cx="8214840" cy="60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AutoShape 10"/>
            <p:cNvSpPr/>
            <p:nvPr/>
          </p:nvSpPr>
          <p:spPr>
            <a:xfrm>
              <a:off x="2284560" y="1367640"/>
              <a:ext cx="1339200" cy="872640"/>
            </a:xfrm>
            <a:custGeom>
              <a:avLst/>
              <a:gdLst>
                <a:gd name="textAreaLeft" fmla="*/ 0 w 1339200"/>
                <a:gd name="textAreaRight" fmla="*/ 1339560 w 1339200"/>
                <a:gd name="textAreaTop" fmla="*/ 113040 h 872640"/>
                <a:gd name="textAreaBottom" fmla="*/ 759600 h 87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d1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37" name="AutoShape 12"/>
            <p:cNvSpPr/>
            <p:nvPr/>
          </p:nvSpPr>
          <p:spPr>
            <a:xfrm>
              <a:off x="5852880" y="1295640"/>
              <a:ext cx="1562040" cy="116424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150840 h 1164240"/>
                <a:gd name="textAreaBottom" fmla="*/ 1013400 h 11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d1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Select and</a:t>
              </a: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  <a:p>
              <a:pPr algn="ctr"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insert</a:t>
              </a: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38" name="Text Box 13"/>
            <p:cNvSpPr/>
            <p:nvPr/>
          </p:nvSpPr>
          <p:spPr>
            <a:xfrm>
              <a:off x="669600" y="2314440"/>
              <a:ext cx="1008360" cy="5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400" spc="-1" strike="noStrike">
                  <a:solidFill>
                    <a:srgbClr val="def6f1"/>
                  </a:solidFill>
                  <a:latin typeface="Arial"/>
                </a:rPr>
                <a:t>JDBC</a:t>
              </a: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39" name="Text Box 14"/>
            <p:cNvSpPr/>
            <p:nvPr/>
          </p:nvSpPr>
          <p:spPr>
            <a:xfrm>
              <a:off x="7009200" y="2460240"/>
              <a:ext cx="1008360" cy="5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JDBC</a:t>
              </a: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40" name="Text Box 15"/>
            <p:cNvSpPr/>
            <p:nvPr/>
          </p:nvSpPr>
          <p:spPr>
            <a:xfrm>
              <a:off x="3331080" y="2968920"/>
              <a:ext cx="2198520" cy="5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Instant Client,</a:t>
              </a: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5630400" y="3987720"/>
              <a:ext cx="30484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[GUI or  Command </a:t>
              </a:r>
              <a:endParaRPr b="0" lang="en-US" sz="2000" spc="-1" strike="noStrike">
                <a:solidFill>
                  <a:srgbClr val="def6f1"/>
                </a:solidFill>
                <a:latin typeface="Arial"/>
              </a:endParaRPr>
            </a:p>
            <a:p>
              <a:pPr algn="ctr"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Line]</a:t>
              </a:r>
              <a:endParaRPr b="0" lang="en-US" sz="2000" spc="-1" strike="noStrike">
                <a:solidFill>
                  <a:srgbClr val="def6f1"/>
                </a:solidFill>
                <a:latin typeface="Arial"/>
              </a:endParaRPr>
            </a:p>
          </p:txBody>
        </p:sp>
      </p:grpSp>
      <p:sp>
        <p:nvSpPr>
          <p:cNvPr id="242" name="Rectangle 23"/>
          <p:cNvSpPr/>
          <p:nvPr/>
        </p:nvSpPr>
        <p:spPr>
          <a:xfrm>
            <a:off x="586800" y="-71280"/>
            <a:ext cx="325548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19000"/>
              </a:lnSpc>
              <a:buClr>
                <a:srgbClr val="0070c0"/>
              </a:buClr>
              <a:buFont typeface="Arial"/>
              <a:buAutoNum type="arabicParenR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Arial"/>
              </a:rPr>
              <a:t>Overview</a:t>
            </a:r>
            <a:endParaRPr b="0" lang="en-US" sz="44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numéro de diapositive 13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434082-0D72-400B-9019-4904DCAD5D28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44" name="Espace réservé de la date 12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45" name="Picture 7" descr="Capture1"/>
          <p:cNvPicPr/>
          <p:nvPr/>
        </p:nvPicPr>
        <p:blipFill>
          <a:blip r:embed="rId1"/>
          <a:srcRect l="0" t="2399" r="0" b="4592"/>
          <a:stretch/>
        </p:blipFill>
        <p:spPr>
          <a:xfrm>
            <a:off x="214200" y="633240"/>
            <a:ext cx="8286840" cy="6166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71280"/>
            <a:ext cx="763272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tructure of objects in the 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Espace réservé de la dat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48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CD34F3-D3A0-4FDB-8B27-270EFAFACBA0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0"/>
            <a:ext cx="82296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Registration of an object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50" name="Picture 7" descr="Capture2"/>
          <p:cNvPicPr/>
          <p:nvPr/>
        </p:nvPicPr>
        <p:blipFill>
          <a:blip r:embed="rId1"/>
          <a:srcRect l="0" t="2654" r="0" b="4363"/>
          <a:stretch/>
        </p:blipFill>
        <p:spPr>
          <a:xfrm>
            <a:off x="141120" y="619200"/>
            <a:ext cx="828864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C4867C-16D5-49C1-9F78-ADF2DB98BA8F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53" name="Picture 5" descr="Capture3"/>
          <p:cNvPicPr/>
          <p:nvPr/>
        </p:nvPicPr>
        <p:blipFill>
          <a:blip r:embed="rId1"/>
          <a:srcRect l="0" t="2189" r="0" b="3916"/>
          <a:stretch/>
        </p:blipFill>
        <p:spPr>
          <a:xfrm>
            <a:off x="214200" y="561960"/>
            <a:ext cx="8286840" cy="62247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"/>
          <p:cNvSpPr/>
          <p:nvPr/>
        </p:nvSpPr>
        <p:spPr>
          <a:xfrm>
            <a:off x="285840" y="0"/>
            <a:ext cx="73389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Assembly of a crystal in a capsule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56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F764D7-1C25-446F-9B37-CAF7A10778E8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57" name="Picture 8" descr="Capture4"/>
          <p:cNvPicPr/>
          <p:nvPr/>
        </p:nvPicPr>
        <p:blipFill>
          <a:blip r:embed="rId1"/>
          <a:srcRect l="0" t="2857" r="0" b="3580"/>
          <a:stretch/>
        </p:blipFill>
        <p:spPr>
          <a:xfrm>
            <a:off x="142920" y="571680"/>
            <a:ext cx="8300880" cy="621504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6"/>
          <p:cNvSpPr/>
          <p:nvPr/>
        </p:nvSpPr>
        <p:spPr>
          <a:xfrm>
            <a:off x="571680" y="0"/>
            <a:ext cx="82296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Transfer of an object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60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1955B1-528C-4580-BC15-9425F324965D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61" name="Picture 5" descr="Capture5"/>
          <p:cNvPicPr/>
          <p:nvPr/>
        </p:nvPicPr>
        <p:blipFill>
          <a:blip r:embed="rId1"/>
          <a:srcRect l="0" t="2174" r="0" b="4658"/>
          <a:stretch/>
        </p:blipFill>
        <p:spPr>
          <a:xfrm>
            <a:off x="82440" y="536400"/>
            <a:ext cx="8418600" cy="627552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4"/>
          <p:cNvSpPr/>
          <p:nvPr/>
        </p:nvSpPr>
        <p:spPr>
          <a:xfrm>
            <a:off x="46836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Insertion of data via an XML file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franc</cp:lastModifiedBy>
  <dcterms:modified xsi:type="dcterms:W3CDTF">2008-07-04T16:18:40Z</dcterms:modified>
  <cp:revision>107</cp:revision>
  <dc:subject/>
  <dc:title>An AGATA Construction DataBase</dc:title>
</cp:coreProperties>
</file>