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0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6C6B-930D-4542-AA96-3C7CFDE8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783D-9E8C-4545-868B-364D39F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D6E0-152C-4CA1-BC10-9A85FADC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F8A7-9D9A-4AFB-94FD-DFB11076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E50E-1932-499F-AAED-A11E5153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8257-BD09-4C3B-857B-A3A3053F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D5C-1D78-4BC1-AEFA-1AEF4E36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6A92-CC99-4D84-8776-E94E45D4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AC78-9048-4855-9699-141D8349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42560" y="-360"/>
            <a:ext cx="810108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85BB-5BB8-49D3-9030-96872C18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F806-AF8E-44A1-94F0-60C3B6E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C62E-0E98-43EC-B7C5-509FEC2E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2F2D-C7BC-4501-848F-ACE4E58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ABEB-A7A2-4DF9-91A9-0DE97A9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DB16-4A10-48A8-8D4F-4B580162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FC0E-3AF7-4890-9366-4571E2E6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8165-D2A2-4268-81A9-283CDF2C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07DB-6958-4CC0-B42B-7D05D3F9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5D2E-0E75-46B4-AC79-168BA570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7D7B-B88A-4C9B-9232-3FAB285A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42560" y="-360"/>
            <a:ext cx="810108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5892-673F-4A84-9637-9C7FD5C0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5915-1422-4DEC-9CC2-0F691C37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9F2F-359B-4C8B-ABD3-AF91D367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AAAF-1506-4DF4-9055-F948BC8D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EE74-7D3F-49BE-9A77-210DE3545DBA}" type="slidenum">
              <a:rPr b="0" lang="en-US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0"/>
          <p:cNvGrpSpPr/>
          <p:nvPr/>
        </p:nvGrpSpPr>
        <p:grpSpPr>
          <a:xfrm>
            <a:off x="57240" y="66600"/>
            <a:ext cx="914400" cy="914400"/>
            <a:chOff x="57240" y="66600"/>
            <a:chExt cx="914400" cy="914400"/>
          </a:xfrm>
        </p:grpSpPr>
        <p:pic>
          <p:nvPicPr>
            <p:cNvPr id="7" name="Picture 18" descr=""/>
            <p:cNvPicPr/>
            <p:nvPr/>
          </p:nvPicPr>
          <p:blipFill>
            <a:blip r:embed="rId2"/>
            <a:srcRect l="3712" t="0" r="37053" b="16895"/>
            <a:stretch/>
          </p:blipFill>
          <p:spPr>
            <a:xfrm>
              <a:off x="57240" y="666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Rectangle 19"/>
            <p:cNvSpPr/>
            <p:nvPr/>
          </p:nvSpPr>
          <p:spPr>
            <a:xfrm>
              <a:off x="644760" y="687240"/>
              <a:ext cx="322200" cy="2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0" y="1628640"/>
            <a:ext cx="91440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186-10182-2-A0-200"/>
          <p:cNvPicPr/>
          <p:nvPr/>
        </p:nvPicPr>
        <p:blipFill>
          <a:blip r:embed="rId2"/>
          <a:srcRect l="15465" t="0" r="21089" b="0"/>
          <a:stretch/>
        </p:blipFill>
        <p:spPr>
          <a:xfrm>
            <a:off x="270000" y="1666800"/>
            <a:ext cx="2286000" cy="258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22BC-51EF-47EB-9D7F-805C0F0CEBCD}" type="slidenum">
              <a:rPr b="0" lang="en-US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86040" y="1828800"/>
            <a:ext cx="6205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-beam performance of </a:t>
            </a:r>
            <a:r>
              <a:rPr b="1" lang="en-US" sz="3600" spc="-1" strike="noStrike">
                <a:solidFill>
                  <a:srgbClr val="ff0505"/>
                </a:solidFill>
                <a:latin typeface="Arial"/>
              </a:rPr>
              <a:t>AGATA-DEMONSTR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07204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s for the firsts commissioning experiments of the AGATA-DEMONSTRATOR campaign at LNL-Legna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2000160" y="435780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. Recchia  INFN-L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143920" y="4500720"/>
            <a:ext cx="857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82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ossibilities with LNL available b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Se (220 MeV) + 9Be→ 88Sr (35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6Sr (250 MeV) + 9Be→ 92Mo (20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Pd (350 MeV) + 9Be→ 110Sn (16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6Pd (350 MeV) + 9Be→ 112Sn (21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Rb (240 MeV) + 7Li→ 90Zr (9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Kr (300 MeV) + 9Be→ 90Zr (600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Se (385 MeV) + 12C→ 90Zr (700m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7Ag@ 360 MeV + 7Li → 112Sn (12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Ru@ 450 MeV + 12C → 112Sn (30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4Xe@ 600 MeV + 12C → 142Nd (39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5Ba@ 560 MeV + 12C → 144Sm (18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andidates with 2H and H targets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cross sec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 rot="16200000">
            <a:off x="6508440" y="3204720"/>
            <a:ext cx="410508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E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rcRect l="0" t="0" r="0" b="19998"/>
          <a:stretch/>
        </p:blipFill>
        <p:spPr>
          <a:xfrm>
            <a:off x="3130560" y="1268280"/>
            <a:ext cx="6337440" cy="5247000"/>
          </a:xfrm>
          <a:prstGeom prst="rect">
            <a:avLst/>
          </a:prstGeom>
          <a:ln w="0">
            <a:noFill/>
          </a:ln>
        </p:spPr>
      </p:pic>
      <p:sp>
        <p:nvSpPr>
          <p:cNvPr id="213" name="Line 7"/>
          <p:cNvSpPr/>
          <p:nvPr/>
        </p:nvSpPr>
        <p:spPr>
          <a:xfrm>
            <a:off x="5218200" y="1197000"/>
            <a:ext cx="0" cy="5184720"/>
          </a:xfrm>
          <a:prstGeom prst="line">
            <a:avLst/>
          </a:prstGeom>
          <a:ln w="381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6586560" y="1197000"/>
            <a:ext cx="0" cy="5184720"/>
          </a:xfrm>
          <a:prstGeom prst="line">
            <a:avLst/>
          </a:prstGeom>
          <a:ln w="381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5291280" y="4653000"/>
            <a:ext cx="1224000" cy="1152360"/>
          </a:xfrm>
          <a:prstGeom prst="leftRightArrow">
            <a:avLst>
              <a:gd name="adj1" fmla="val 50000"/>
              <a:gd name="adj2" fmla="val 21145"/>
            </a:avLst>
          </a:prstGeom>
          <a:solidFill>
            <a:srgbClr val="ff0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971640" y="1628640"/>
            <a:ext cx="230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atic parametric calculatio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 Carlo simulation not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116000" y="5157720"/>
            <a:ext cx="2232000" cy="947160"/>
          </a:xfrm>
          <a:prstGeom prst="rect">
            <a:avLst/>
          </a:prstGeom>
          <a:solidFill>
            <a:srgbClr val="ff0505"/>
          </a:solidFill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3"/>
          <p:cNvCxnSpPr>
            <a:stCxn id="215" idx="0"/>
            <a:endCxn id="217" idx="3"/>
          </p:cNvCxnSpPr>
          <p:nvPr/>
        </p:nvCxnSpPr>
        <p:spPr>
          <a:xfrm rot="5400000">
            <a:off x="4566600" y="4298760"/>
            <a:ext cx="118440" cy="2556720"/>
          </a:xfrm>
          <a:prstGeom prst="curvedConnector5">
            <a:avLst>
              <a:gd name="adj1" fmla="val 439024"/>
              <a:gd name="adj2" fmla="val 30981"/>
              <a:gd name="adj3" fmla="val 439024"/>
            </a:avLst>
          </a:prstGeom>
          <a:ln w="57240">
            <a:solidFill>
              <a:srgbClr val="ff0505"/>
            </a:solidFill>
            <a:miter/>
            <a:tailEnd len="med" type="triangle" w="med"/>
          </a:ln>
        </p:spPr>
      </p:cxnSp>
      <p:sp>
        <p:nvSpPr>
          <p:cNvPr id="219" name="Text Box 14"/>
          <p:cNvSpPr/>
          <p:nvPr/>
        </p:nvSpPr>
        <p:spPr>
          <a:xfrm rot="16200000">
            <a:off x="-1468080" y="3276720"/>
            <a:ext cx="410544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E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DEM b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6702480" cy="5060880"/>
          </a:xfrm>
          <a:prstGeom prst="rect">
            <a:avLst/>
          </a:prstGeom>
          <a:ln w="0">
            <a:noFill/>
          </a:ln>
        </p:spPr>
      </p:pic>
      <p:sp>
        <p:nvSpPr>
          <p:cNvPr id="222" name="Line 7"/>
          <p:cNvSpPr/>
          <p:nvPr/>
        </p:nvSpPr>
        <p:spPr>
          <a:xfrm>
            <a:off x="6659640" y="206064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 flipV="1">
            <a:off x="6516720" y="2781360"/>
            <a:ext cx="934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 flipV="1">
            <a:off x="6516720" y="2852280"/>
            <a:ext cx="9349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 flipV="1">
            <a:off x="6516720" y="2923920"/>
            <a:ext cx="9349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7451640" y="2205000"/>
            <a:ext cx="1584360" cy="1739880"/>
          </a:xfrm>
          <a:prstGeom prst="rect">
            <a:avLst/>
          </a:prstGeom>
          <a:solidFill>
            <a:srgbClr val="ff0505"/>
          </a:solidFill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distances between the target and the detectors: 3,7,10,1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7093080" y="5589720"/>
            <a:ext cx="1834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the Coulonb barrier for all possible conta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DEM + ALPI b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6770520" cy="51134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7093080" y="572760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 is a very simple target, as thin as we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4 CuadroTexto"/>
          <p:cNvSpPr/>
          <p:nvPr/>
        </p:nvSpPr>
        <p:spPr>
          <a:xfrm>
            <a:off x="7143840" y="1571760"/>
            <a:ext cx="2000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4Xe beam 600 MeV  12C target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142Nd (39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41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5 CuadroTexto"/>
          <p:cNvSpPr/>
          <p:nvPr/>
        </p:nvSpPr>
        <p:spPr>
          <a:xfrm>
            <a:off x="7997760" y="4175280"/>
            <a:ext cx="92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7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7 Conector recto"/>
          <p:cNvSpPr/>
          <p:nvPr/>
        </p:nvSpPr>
        <p:spPr>
          <a:xfrm>
            <a:off x="7491240" y="4389480"/>
            <a:ext cx="500400" cy="1440"/>
          </a:xfrm>
          <a:prstGeom prst="line">
            <a:avLst/>
          </a:prstGeom>
          <a:ln w="381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8 Conector recto"/>
          <p:cNvSpPr/>
          <p:nvPr/>
        </p:nvSpPr>
        <p:spPr>
          <a:xfrm>
            <a:off x="7491240" y="4770360"/>
            <a:ext cx="50040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9 Conector recto"/>
          <p:cNvSpPr/>
          <p:nvPr/>
        </p:nvSpPr>
        <p:spPr>
          <a:xfrm>
            <a:off x="7491240" y="5122800"/>
            <a:ext cx="50040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0 Conector recto"/>
          <p:cNvSpPr/>
          <p:nvPr/>
        </p:nvSpPr>
        <p:spPr>
          <a:xfrm>
            <a:off x="7491240" y="5518080"/>
            <a:ext cx="50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AVE+ALPI b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7056360" cy="53290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7093080" y="582624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 is a very simple target, as thin as we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.O.M. compar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-181080" y="1052640"/>
            <a:ext cx="7632720" cy="5743440"/>
          </a:xfrm>
          <a:prstGeom prst="rect">
            <a:avLst/>
          </a:prstGeom>
          <a:ln w="0">
            <a:noFill/>
          </a:ln>
        </p:spPr>
      </p:pic>
      <p:sp>
        <p:nvSpPr>
          <p:cNvPr id="242" name="Line 6"/>
          <p:cNvSpPr/>
          <p:nvPr/>
        </p:nvSpPr>
        <p:spPr>
          <a:xfrm flipV="1">
            <a:off x="1619280" y="1196640"/>
            <a:ext cx="0" cy="4537080"/>
          </a:xfrm>
          <a:prstGeom prst="line">
            <a:avLst/>
          </a:prstGeom>
          <a:ln w="7632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987640" y="1196640"/>
            <a:ext cx="0" cy="4537080"/>
          </a:xfrm>
          <a:prstGeom prst="line">
            <a:avLst/>
          </a:prstGeom>
          <a:ln w="7632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1763640" y="5013360"/>
            <a:ext cx="1079640" cy="792000"/>
          </a:xfrm>
          <a:prstGeom prst="leftRightArrow">
            <a:avLst>
              <a:gd name="adj1" fmla="val 50000"/>
              <a:gd name="adj2" fmla="val 27137"/>
            </a:avLst>
          </a:prstGeom>
          <a:solidFill>
            <a:srgbClr val="ff0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908000" y="5157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4500720" y="4797360"/>
            <a:ext cx="2808000" cy="1079640"/>
          </a:xfrm>
          <a:prstGeom prst="rect">
            <a:avLst/>
          </a:prstGeom>
          <a:noFill/>
          <a:ln w="572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7380360" y="4869000"/>
            <a:ext cx="1692360" cy="916920"/>
          </a:xfrm>
          <a:prstGeom prst="rect">
            <a:avLst/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measurement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m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cluster experiment performed in Colog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was 40 Hz (DAQ s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days of real beam time (= 170 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ing at 2 KHz/crystal we nee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 3-4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btain the same statistics (and having only one triple cluste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39640" y="5300640"/>
            <a:ext cx="820908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am time request depends on the time needed for setup the measurement, not on the ru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9440"/>
            <a:ext cx="339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city of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city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beam-time request: easy to recover in case of problem with th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solutions for the beam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: improvement of estimation of position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92720" y="1909440"/>
            <a:ext cx="339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nc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4 h to collect the same statistics of the triple-cluster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fferent solutions investigated and to be chosen on the basis of accelerators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improvement in precision, less dependency on Monte-Carlo simulations,  if just the same statistics avail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4071960" y="1643040"/>
            <a:ext cx="1147680" cy="394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0" y="6183360"/>
            <a:ext cx="9144000" cy="703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34920" y="112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ll the requirements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7 CuadroTexto"/>
          <p:cNvSpPr/>
          <p:nvPr/>
        </p:nvSpPr>
        <p:spPr>
          <a:xfrm>
            <a:off x="142920" y="538488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nte-Carlo simulations in next talk by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är-Anders Söderströ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“standard” experi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96720" y="4292640"/>
            <a:ext cx="2230560" cy="242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capsule"/>
          <p:cNvPicPr/>
          <p:nvPr/>
        </p:nvPicPr>
        <p:blipFill>
          <a:blip r:embed="rId1"/>
          <a:stretch/>
        </p:blipFill>
        <p:spPr>
          <a:xfrm>
            <a:off x="5435640" y="1620720"/>
            <a:ext cx="4176720" cy="390996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3"/>
          <p:cNvGrpSpPr/>
          <p:nvPr/>
        </p:nvGrpSpPr>
        <p:grpSpPr>
          <a:xfrm>
            <a:off x="5291280" y="5229360"/>
            <a:ext cx="1081080" cy="1152360"/>
            <a:chOff x="5291280" y="5229360"/>
            <a:chExt cx="1081080" cy="1152360"/>
          </a:xfrm>
        </p:grpSpPr>
        <p:sp>
          <p:nvSpPr>
            <p:cNvPr id="98" name="Oval 14"/>
            <p:cNvSpPr/>
            <p:nvPr/>
          </p:nvSpPr>
          <p:spPr>
            <a:xfrm>
              <a:off x="5364360" y="5302080"/>
              <a:ext cx="934920" cy="1008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5"/>
            <p:cNvSpPr/>
            <p:nvPr/>
          </p:nvSpPr>
          <p:spPr>
            <a:xfrm>
              <a:off x="5291280" y="5229360"/>
              <a:ext cx="72072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5291280" y="5662440"/>
              <a:ext cx="10810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Object 17"/>
              <p:cNvSpPr txBox="1"/>
              <p:nvPr/>
            </p:nvSpPr>
            <p:spPr>
              <a:xfrm>
                <a:off x="179280" y="2487600"/>
                <a:ext cx="46087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βcos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β,  θ and E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n Lab frame</m:t>
                            </m:r>
                          </m:e>
                        </m:d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sinθ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β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θ</m:t>
                                        </m:r>
                                      </m:e>
                                    </m:d>
                                  </m:num>
                                  <m:den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β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cosθ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Line 18"/>
          <p:cNvSpPr/>
          <p:nvPr/>
        </p:nvSpPr>
        <p:spPr>
          <a:xfrm>
            <a:off x="3203640" y="5950080"/>
            <a:ext cx="2124000" cy="0"/>
          </a:xfrm>
          <a:prstGeom prst="line">
            <a:avLst/>
          </a:prstGeom>
          <a:ln w="76320">
            <a:solidFill>
              <a:srgbClr val="cccc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5398920" y="5229360"/>
            <a:ext cx="50508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5904000" y="6238800"/>
            <a:ext cx="1008000" cy="7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5398920" y="5805360"/>
            <a:ext cx="289080" cy="28764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6264360" y="4221000"/>
            <a:ext cx="611280" cy="646200"/>
          </a:xfrm>
          <a:prstGeom prst="ellipse">
            <a:avLst/>
          </a:prstGeom>
          <a:solidFill>
            <a:srgbClr val="99ff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 flipV="1">
            <a:off x="5688000" y="4581360"/>
            <a:ext cx="828720" cy="12240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4"/>
          <p:cNvSpPr/>
          <p:nvPr/>
        </p:nvSpPr>
        <p:spPr>
          <a:xfrm>
            <a:off x="5543640" y="602136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5688000" y="5157720"/>
            <a:ext cx="2448000" cy="720720"/>
          </a:xfrm>
          <a:prstGeom prst="line">
            <a:avLst/>
          </a:prstGeom>
          <a:ln w="76320">
            <a:solidFill>
              <a:srgbClr val="cccc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5688000" y="4726080"/>
            <a:ext cx="1116000" cy="107928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 flipH="1">
            <a:off x="5688000" y="4438800"/>
            <a:ext cx="611280" cy="136656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989680" y="5157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 flipH="1" flipV="1">
            <a:off x="4621320" y="4941360"/>
            <a:ext cx="1458720" cy="27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 flipH="1" flipV="1">
            <a:off x="4427640" y="5446440"/>
            <a:ext cx="180000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4067280" y="51577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3995640" y="465444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607680" y="4419720"/>
            <a:ext cx="1794600" cy="3070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ition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14880" y="5284800"/>
            <a:ext cx="1764000" cy="3070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gular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5"/>
              <p:cNvSpPr txBox="1"/>
              <p:nvPr/>
            </p:nvSpPr>
            <p:spPr>
              <a:xfrm>
                <a:off x="179280" y="3089160"/>
                <a:ext cx="4608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βcos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β,  θ and E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n Lab frame</m:t>
                            </m:r>
                          </m:e>
                        </m:d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sinθ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β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θ</m:t>
                                        </m:r>
                                      </m:e>
                                    </m:d>
                                  </m:num>
                                  <m:den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β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cosθ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AutoShape 36"/>
          <p:cNvSpPr/>
          <p:nvPr/>
        </p:nvSpPr>
        <p:spPr>
          <a:xfrm>
            <a:off x="1403280" y="3643200"/>
            <a:ext cx="936720" cy="722520"/>
          </a:xfrm>
          <a:prstGeom prst="upArrow">
            <a:avLst>
              <a:gd name="adj1" fmla="val 57287"/>
              <a:gd name="adj2" fmla="val 43796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615240" y="6230880"/>
            <a:ext cx="1695600" cy="3070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ergy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9"/>
          <p:cNvSpPr/>
          <p:nvPr/>
        </p:nvSpPr>
        <p:spPr>
          <a:xfrm rot="10800000">
            <a:off x="961920" y="5733720"/>
            <a:ext cx="1008000" cy="431640"/>
          </a:xfrm>
          <a:prstGeom prst="upArrow">
            <a:avLst>
              <a:gd name="adj1" fmla="val 55870"/>
              <a:gd name="adj2" fmla="val 381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 rot="10800000">
            <a:off x="961920" y="4797360"/>
            <a:ext cx="1008000" cy="432000"/>
          </a:xfrm>
          <a:prstGeom prst="upArrow">
            <a:avLst>
              <a:gd name="adj1" fmla="val 55870"/>
              <a:gd name="adj2" fmla="val 381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250920" y="1197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” experiment: Doppler correction capabilities exploited to measure the position sensi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in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city of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city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beam-time request: easy to recover in case of problem with the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solutions for the beam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ssible: improved position resolu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9640" y="5548320"/>
            <a:ext cx="8209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r proposal should fulfill all thi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st experien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– MARS experi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ex re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icon detector in co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– In-beam experiment of a symmetric prototype detec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 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nc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– First AGATA experiment, triple clu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react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SD detector in co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TA experiments: no anc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0" descr="Picture1"/>
          <p:cNvPicPr/>
          <p:nvPr/>
        </p:nvPicPr>
        <p:blipFill>
          <a:blip r:embed="rId1"/>
          <a:stretch/>
        </p:blipFill>
        <p:spPr>
          <a:xfrm>
            <a:off x="4643280" y="414972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1" descr=""/>
          <p:cNvPicPr/>
          <p:nvPr/>
        </p:nvPicPr>
        <p:blipFill>
          <a:blip r:embed="rId2"/>
          <a:srcRect l="0" t="0" r="0" b="10527"/>
          <a:stretch/>
        </p:blipFill>
        <p:spPr>
          <a:xfrm>
            <a:off x="4859280" y="1238400"/>
            <a:ext cx="3241800" cy="2689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2"/>
          <p:cNvSpPr/>
          <p:nvPr/>
        </p:nvSpPr>
        <p:spPr>
          <a:xfrm>
            <a:off x="324000" y="4292640"/>
            <a:ext cx="3600360" cy="1728720"/>
          </a:xfrm>
          <a:prstGeom prst="rect">
            <a:avLst/>
          </a:prstGeom>
          <a:noFill/>
          <a:ln w="7632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le-cluster experi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spec_detsegpsa"/>
          <p:cNvPicPr/>
          <p:nvPr/>
        </p:nvPicPr>
        <p:blipFill>
          <a:blip r:embed="rId1"/>
          <a:stretch/>
        </p:blipFill>
        <p:spPr>
          <a:xfrm>
            <a:off x="-108000" y="2173320"/>
            <a:ext cx="6629400" cy="4495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spec_detsegpsa_zoom"/>
          <p:cNvPicPr/>
          <p:nvPr/>
        </p:nvPicPr>
        <p:blipFill>
          <a:blip r:embed="rId2"/>
          <a:stretch/>
        </p:blipFill>
        <p:spPr>
          <a:xfrm>
            <a:off x="3776760" y="1181160"/>
            <a:ext cx="5475240" cy="3713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6437160" y="5332320"/>
            <a:ext cx="2401920" cy="368280"/>
          </a:xfrm>
          <a:prstGeom prst="rect">
            <a:avLst/>
          </a:prstGeom>
          <a:solidFill>
            <a:srgbClr val="ff0505"/>
          </a:solidFill>
          <a:ln w="284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ull statistic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37160" y="5699160"/>
            <a:ext cx="240192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A algorithm:</a:t>
            </a:r>
            <a:br>
              <a:rPr sz="1600"/>
            </a:br>
            <a:r>
              <a:rPr b="1" lang="en-US" sz="16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505"/>
                </a:solidFill>
                <a:latin typeface="Arial"/>
              </a:rPr>
              <a:t>Grid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569920" y="3429000"/>
            <a:ext cx="11455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569920" y="2708280"/>
            <a:ext cx="1145520" cy="45972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11 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456520" y="1628640"/>
            <a:ext cx="1230840" cy="459720"/>
          </a:xfrm>
          <a:prstGeom prst="rect">
            <a:avLst/>
          </a:prstGeom>
          <a:noFill/>
          <a:ln w="284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505"/>
                </a:solidFill>
                <a:latin typeface="Arial"/>
              </a:rPr>
              <a:t>4.8 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 flipH="1" flipV="1">
            <a:off x="2555640" y="198900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H="1" flipV="1">
            <a:off x="2626920" y="1915920"/>
            <a:ext cx="252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79280" y="12682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,p) reaction through fusion-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7196760" y="1468440"/>
            <a:ext cx="1802160" cy="703440"/>
          </a:xfrm>
          <a:prstGeom prst="rect">
            <a:avLst/>
          </a:prstGeom>
          <a:solidFill>
            <a:srgbClr val="ff0505"/>
          </a:solidFill>
          <a:ln w="572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5 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6742080" y="1370160"/>
            <a:ext cx="36036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505"/>
          </a:solidFill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k points” of past measur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5651640" y="3790800"/>
            <a:ext cx="3528720" cy="2951280"/>
            <a:chOff x="5651640" y="3790800"/>
            <a:chExt cx="3528720" cy="2951280"/>
          </a:xfrm>
        </p:grpSpPr>
        <p:graphicFrame>
          <p:nvGraphicFramePr>
            <p:cNvPr id="148" name="Object 2"/>
            <p:cNvGraphicFramePr/>
            <p:nvPr/>
          </p:nvGraphicFramePr>
          <p:xfrm>
            <a:off x="5651640" y="3790800"/>
            <a:ext cx="3528720" cy="2951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51640" y="3790800"/>
                      <a:ext cx="3528720" cy="295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Line 3"/>
            <p:cNvSpPr/>
            <p:nvPr/>
          </p:nvSpPr>
          <p:spPr>
            <a:xfrm>
              <a:off x="6096600" y="4150080"/>
              <a:ext cx="24814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>
              <a:off x="8617680" y="4187880"/>
              <a:ext cx="0" cy="2051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6096600" y="4798800"/>
              <a:ext cx="17060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7898760" y="4875480"/>
              <a:ext cx="0" cy="13640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6096600" y="4875480"/>
              <a:ext cx="158976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03000" y="4951800"/>
              <a:ext cx="0" cy="1287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6096600" y="5333400"/>
              <a:ext cx="108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7229520" y="5399640"/>
              <a:ext cx="0" cy="83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Oval 18"/>
          <p:cNvSpPr/>
          <p:nvPr/>
        </p:nvSpPr>
        <p:spPr>
          <a:xfrm>
            <a:off x="5940360" y="5589720"/>
            <a:ext cx="360360" cy="361800"/>
          </a:xfrm>
          <a:prstGeom prst="ellipse">
            <a:avLst/>
          </a:prstGeom>
          <a:noFill/>
          <a:ln w="572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067280" y="5351400"/>
            <a:ext cx="15922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id Sear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067280" y="3825720"/>
            <a:ext cx="15922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ff00"/>
                </a:solidFill>
                <a:latin typeface="Arial"/>
              </a:rPr>
              <a:t>Recursive Subtrac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067280" y="4599000"/>
            <a:ext cx="15922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Matrix Met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067280" y="4919760"/>
            <a:ext cx="15922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</a:rPr>
              <a:t>Miniball Algorith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324000" y="4148280"/>
            <a:ext cx="2735280" cy="1313640"/>
          </a:xfrm>
          <a:prstGeom prst="rect">
            <a:avLst/>
          </a:prstGeom>
          <a:solidFill>
            <a:srgbClr val="66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 of simulation, few possibilities of cross-check on inpu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4067280" y="5691240"/>
            <a:ext cx="15922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ll segment folds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ull statistic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7"/>
          <p:cNvSpPr/>
          <p:nvPr/>
        </p:nvSpPr>
        <p:spPr>
          <a:xfrm>
            <a:off x="324000" y="5884920"/>
            <a:ext cx="3671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am sp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detector a posteriori posi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ular and beta dispersion of the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1096920" y="54118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447840" y="5411880"/>
            <a:ext cx="129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AutoShape 32"/>
          <p:cNvCxnSpPr>
            <a:stCxn id="158" idx="0"/>
            <a:endCxn id="163" idx="3"/>
          </p:cNvCxnSpPr>
          <p:nvPr/>
        </p:nvCxnSpPr>
        <p:spPr>
          <a:xfrm flipV="1" rot="16200000">
            <a:off x="4225320" y="3664800"/>
            <a:ext cx="743400" cy="3048840"/>
          </a:xfrm>
          <a:prstGeom prst="curvedConnector2">
            <a:avLst/>
          </a:prstGeom>
          <a:ln w="57240">
            <a:solidFill>
              <a:srgbClr val="ff0505"/>
            </a:solidFill>
            <a:miter/>
            <a:tailEnd len="med" type="triangle" w="med"/>
          </a:ln>
        </p:spPr>
      </p:cxnSp>
      <p:sp>
        <p:nvSpPr>
          <p:cNvPr id="169" name="Text Box 34"/>
          <p:cNvSpPr/>
          <p:nvPr/>
        </p:nvSpPr>
        <p:spPr>
          <a:xfrm>
            <a:off x="324000" y="1268280"/>
            <a:ext cx="8424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 year of pre-s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not available for the commissioning experiments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put parameters of simulation are not all well determined – they are the main source of errors of the final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250920" y="1268280"/>
            <a:ext cx="7705800" cy="936720"/>
          </a:xfrm>
          <a:prstGeom prst="rect">
            <a:avLst/>
          </a:prstGeom>
          <a:noFill/>
          <a:ln w="7632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strategy (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ancillary det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alysis will be concentrated only on gamma pa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identification using only g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ros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usion-evapora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pread in direction is required as average direction Doppler correction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channels with only neutrons evaporation (without Coulomb barr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enough to the target: the position uncertainty will dominate the peak broadening in the gamma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8"/>
          <p:cNvSpPr/>
          <p:nvPr/>
        </p:nvSpPr>
        <p:spPr>
          <a:xfrm>
            <a:off x="5184720" y="2349360"/>
            <a:ext cx="3635280" cy="439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7"/>
          <p:cNvSpPr/>
          <p:nvPr/>
        </p:nvSpPr>
        <p:spPr>
          <a:xfrm>
            <a:off x="254160" y="2349360"/>
            <a:ext cx="3600360" cy="439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strategy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4" descr="agata101106-a-plan"/>
          <p:cNvPicPr/>
          <p:nvPr/>
        </p:nvPicPr>
        <p:blipFill>
          <a:blip r:embed="rId1"/>
          <a:srcRect l="26741" t="26041" r="52809" b="44085"/>
          <a:stretch/>
        </p:blipFill>
        <p:spPr>
          <a:xfrm rot="13500000">
            <a:off x="1018080" y="2971080"/>
            <a:ext cx="2859120" cy="2952720"/>
          </a:xfrm>
          <a:prstGeom prst="rect">
            <a:avLst/>
          </a:prstGeom>
          <a:ln w="0">
            <a:noFill/>
          </a:ln>
        </p:spPr>
      </p:pic>
      <p:sp>
        <p:nvSpPr>
          <p:cNvPr id="177" name="Line 15"/>
          <p:cNvSpPr/>
          <p:nvPr/>
        </p:nvSpPr>
        <p:spPr>
          <a:xfrm flipV="1">
            <a:off x="973080" y="4435560"/>
            <a:ext cx="0" cy="22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828720" y="4435560"/>
            <a:ext cx="287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 flipV="1">
            <a:off x="973080" y="2708280"/>
            <a:ext cx="0" cy="172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396720" y="3930480"/>
            <a:ext cx="360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 rot="16200000">
            <a:off x="292680" y="5980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1405080" y="2852640"/>
            <a:ext cx="0" cy="316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104616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1077120" y="6165720"/>
            <a:ext cx="709560" cy="4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5"/>
          <p:cNvGrpSpPr/>
          <p:nvPr/>
        </p:nvGrpSpPr>
        <p:grpSpPr>
          <a:xfrm>
            <a:off x="5148360" y="2392560"/>
            <a:ext cx="4321800" cy="4276440"/>
            <a:chOff x="5148360" y="2392560"/>
            <a:chExt cx="4321800" cy="4276440"/>
          </a:xfrm>
        </p:grpSpPr>
        <p:pic>
          <p:nvPicPr>
            <p:cNvPr id="186" name="Picture 31" descr="agata101106-a-plan"/>
            <p:cNvPicPr/>
            <p:nvPr/>
          </p:nvPicPr>
          <p:blipFill>
            <a:blip r:embed="rId2"/>
            <a:srcRect l="26741" t="26041" r="52809" b="44085"/>
            <a:stretch/>
          </p:blipFill>
          <p:spPr>
            <a:xfrm rot="13500000">
              <a:off x="5985360" y="2971080"/>
              <a:ext cx="28591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35"/>
            <p:cNvSpPr/>
            <p:nvPr/>
          </p:nvSpPr>
          <p:spPr>
            <a:xfrm>
              <a:off x="5364000" y="3930480"/>
              <a:ext cx="360360" cy="10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>
              <a:off x="6372360" y="2852640"/>
              <a:ext cx="0" cy="316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8"/>
            <p:cNvSpPr/>
            <p:nvPr/>
          </p:nvSpPr>
          <p:spPr>
            <a:xfrm>
              <a:off x="5580000" y="595008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9"/>
            <p:cNvSpPr/>
            <p:nvPr/>
          </p:nvSpPr>
          <p:spPr>
            <a:xfrm>
              <a:off x="5580000" y="6165720"/>
              <a:ext cx="865080" cy="40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far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 flipV="1">
              <a:off x="5506920" y="4435560"/>
              <a:ext cx="1800" cy="2233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>
              <a:off x="5364000" y="4435560"/>
              <a:ext cx="2876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 flipV="1">
              <a:off x="5508720" y="2708280"/>
              <a:ext cx="0" cy="172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36"/>
            <p:cNvSpPr/>
            <p:nvPr/>
          </p:nvSpPr>
          <p:spPr>
            <a:xfrm rot="16200000">
              <a:off x="4828320" y="59806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40"/>
          <p:cNvSpPr/>
          <p:nvPr/>
        </p:nvSpPr>
        <p:spPr>
          <a:xfrm>
            <a:off x="395280" y="126828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the experimental result to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1"/>
          <p:cNvSpPr/>
          <p:nvPr/>
        </p:nvSpPr>
        <p:spPr>
          <a:xfrm>
            <a:off x="466560" y="1197000"/>
            <a:ext cx="33134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2"/>
          <p:cNvSpPr/>
          <p:nvPr/>
        </p:nvSpPr>
        <p:spPr>
          <a:xfrm flipH="1">
            <a:off x="539280" y="1197000"/>
            <a:ext cx="324036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3"/>
          <p:cNvSpPr/>
          <p:nvPr/>
        </p:nvSpPr>
        <p:spPr>
          <a:xfrm>
            <a:off x="4282920" y="1197000"/>
            <a:ext cx="57636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5148360" y="1125360"/>
            <a:ext cx="3600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the experimental results with the detectors at 2 different distances from the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4681440" cy="1559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stimation metho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position resolu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difference between the 2 positions is in the position uncertainty (once the count rate is adjus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(the position resolution) can be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the error on the estimation of the position resolution it is possible to express a F.O.M. to choose the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2"/>
          <a:stretch/>
        </p:blipFill>
        <p:spPr>
          <a:xfrm>
            <a:off x="5940360" y="2940120"/>
            <a:ext cx="2257560" cy="7048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474920" y="5761080"/>
            <a:ext cx="5976360" cy="692280"/>
            <a:chOff x="1474920" y="5761080"/>
            <a:chExt cx="5976360" cy="692280"/>
          </a:xfrm>
        </p:grpSpPr>
        <p:pic>
          <p:nvPicPr>
            <p:cNvPr id="205" name="Picture 9" descr=""/>
            <p:cNvPicPr/>
            <p:nvPr/>
          </p:nvPicPr>
          <p:blipFill>
            <a:blip r:embed="rId3"/>
            <a:srcRect l="0" t="0" r="8453" b="57840"/>
            <a:stretch/>
          </p:blipFill>
          <p:spPr>
            <a:xfrm>
              <a:off x="1474920" y="5761080"/>
              <a:ext cx="49525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0" descr=""/>
            <p:cNvPicPr/>
            <p:nvPr/>
          </p:nvPicPr>
          <p:blipFill>
            <a:blip r:embed="rId4"/>
            <a:srcRect l="15673" t="42186" r="8453" b="0"/>
            <a:stretch/>
          </p:blipFill>
          <p:spPr>
            <a:xfrm>
              <a:off x="3346200" y="5761080"/>
              <a:ext cx="410508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8 CuadroTexto"/>
          <p:cNvSpPr/>
          <p:nvPr/>
        </p:nvSpPr>
        <p:spPr>
          <a:xfrm>
            <a:off x="5857920" y="3643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unting rate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8:44:07Z</dcterms:created>
  <dc:creator>Francesco Recchia</dc:creator>
  <dc:description/>
  <dc:language>en-US</dc:language>
  <cp:lastModifiedBy> </cp:lastModifiedBy>
  <dcterms:modified xsi:type="dcterms:W3CDTF">2008-07-08T04:59:57Z</dcterms:modified>
  <cp:revision>186</cp:revision>
  <dc:subject/>
  <dc:title>Slide 1</dc:title>
</cp:coreProperties>
</file>