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AB06-73C0-4682-B7C6-C8AB77638C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2D19-81BD-40D0-B9B9-5EBE7024D8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9FE0-4AC2-412E-ADF2-85231EAC17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B87C-92A6-4455-AD8B-580E62991D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5945-EA18-4810-BB3A-B009E1D30F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E4F2-532E-4966-ACA7-456DEB3067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85FF-D3E2-4EAB-B581-BACE508D16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1575-AD07-4FF1-8FEE-ADF4C270FD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DC9A-243A-4467-9F6B-0601BA1BB5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26C1-8E3F-45AD-B172-E054B7B82D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08C5-558D-46A0-A129-902B59566A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735D-EDCE-4662-97C4-071DFEFE70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A53-57D2-4D2B-956F-0E9A4951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A2D-3A81-4269-801D-AB1E323E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4ED-EDAC-4356-ABFD-4483E296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7A8-E5A4-42DB-B26C-3F0D62D2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6D8-31D2-456D-B5C6-3D61B2A8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8CD-8C39-4D7B-A665-B2861570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F22-B210-4097-8AB6-63368FFF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F4A-AE7C-4DEF-A5E1-F2E03083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0B1-2337-43D6-AA46-21D8368F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EDC-A3C5-4100-8BB1-CBD7C9A5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77C-53F3-4C35-B5B3-C7C585BA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71E-077E-42C3-B3B5-49B01C39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10E1-D743-4272-B439-F9879AFA5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75160" y="189000"/>
            <a:ext cx="6307560" cy="1739880"/>
          </a:xfrm>
          <a:prstGeom prst="rect">
            <a:avLst/>
          </a:prstGeom>
          <a:solidFill>
            <a:srgbClr val="ffff00"/>
          </a:solidFill>
          <a:ln w="255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posal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for a commissio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xperiment with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GATA Demonst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260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548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1000" y="2133720"/>
            <a:ext cx="648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GATA Week, Uppsala 8-11 Jul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Q.T. Doan, O. Stézowski, D. Guinet, A. Vancraeyene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N. Re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IPN Lyon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9720" y="3789360"/>
            <a:ext cx="7610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 experiment to demonstrate the performance of the tracking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- for fusion-evaporation re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- with high </a:t>
            </a:r>
            <a:r>
              <a:rPr b="0" lang="fr-FR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multipl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- medium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nergy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-ray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~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1 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 experiment on well known and well populated superdefor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ucleus based on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FA5-43D4-4F78-BBF3-FE39B9ACBC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9800" y="501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ergy (k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85640" y="139500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8183" t="0" r="0" b="8911"/>
          <a:stretch/>
        </p:blipFill>
        <p:spPr>
          <a:xfrm>
            <a:off x="1187280" y="549360"/>
            <a:ext cx="6513840" cy="456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70C-67EB-4240-8712-686557B3ED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39640" y="115920"/>
            <a:ext cx="4032360" cy="85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mulations predict good performances for the AGATA Demonstrator at 140mm : excellent resolution and P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en with lower efficiency, AD gated spectra cleaner than EUROBALL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 propose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a fusion-evaporation test experi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baseline="30000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fr-FR" sz="2400" spc="-1" strike="noStrike" baseline="30000">
                <a:solidFill>
                  <a:srgbClr val="0000ff"/>
                </a:solidFill>
                <a:latin typeface="Arial"/>
              </a:rPr>
              <a:t>74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Ge +</a:t>
            </a:r>
            <a:r>
              <a:rPr b="0" lang="fr-FR" sz="2400" spc="-1" strike="noStrike" baseline="30000">
                <a:solidFill>
                  <a:srgbClr val="0000ff"/>
                </a:solidFill>
                <a:latin typeface="Arial"/>
              </a:rPr>
              <a:t>82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Se @ 328 MeV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v/c ≈ 4.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 observe the Superdeformed Band in </a:t>
            </a:r>
            <a:r>
              <a:rPr b="0" lang="fr-FR" sz="2400" spc="-1" strike="noStrike" baseline="30000">
                <a:solidFill>
                  <a:srgbClr val="ff0000"/>
                </a:solidFill>
                <a:latin typeface="Arial"/>
              </a:rPr>
              <a:t>152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Dy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d check the performances of the AGATA  Demonstrator at high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ulti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 will need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5 Triple Clusters at 140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B6C-7D7C-4B23-8F2F-B0AF07A19E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BB4-74DC-4DBE-8F06-7C9AAD8588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17000" y="279360"/>
            <a:ext cx="71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pulation of the SD band in 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15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y via a nea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ss-symmetric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400" spc="-1" strike="noStrike" baseline="30000">
                <a:solidFill>
                  <a:srgbClr val="0000ff"/>
                </a:solidFill>
                <a:latin typeface="Arial"/>
              </a:rPr>
              <a:t>82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Se + </a:t>
            </a:r>
            <a:r>
              <a:rPr b="0" lang="fr-FR" sz="2400" spc="-1" strike="noStrike" baseline="30000">
                <a:solidFill>
                  <a:srgbClr val="0000ff"/>
                </a:solidFill>
                <a:latin typeface="Arial"/>
              </a:rPr>
              <a:t>74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Ge  </a:t>
            </a:r>
            <a:r>
              <a:rPr b="0" lang="fr-F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fr-FR" sz="2400" spc="-1" strike="noStrike" baseline="30000">
                <a:solidFill>
                  <a:srgbClr val="0000ff"/>
                </a:solidFill>
                <a:latin typeface="Arial"/>
              </a:rPr>
              <a:t>156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Dy*  </a:t>
            </a:r>
            <a:r>
              <a:rPr b="0" lang="fr-F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 baseline="30000">
                <a:solidFill>
                  <a:srgbClr val="ff0000"/>
                </a:solidFill>
                <a:latin typeface="Arial"/>
              </a:rPr>
              <a:t>152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Dy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+ 4n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/c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≈ 4.9%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7669080" cy="46814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2916360" y="1413000"/>
            <a:ext cx="1008000" cy="2972880"/>
            <a:chOff x="2916360" y="1413000"/>
            <a:chExt cx="1008000" cy="2972880"/>
          </a:xfrm>
        </p:grpSpPr>
        <p:sp>
          <p:nvSpPr>
            <p:cNvPr id="60" name=""/>
            <p:cNvSpPr/>
            <p:nvPr/>
          </p:nvSpPr>
          <p:spPr>
            <a:xfrm>
              <a:off x="2988000" y="4078800"/>
              <a:ext cx="86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D(2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16360" y="1413000"/>
              <a:ext cx="1008000" cy="2605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156360" y="32846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Arial"/>
              </a:rPr>
              <a:t>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95A-53AF-4057-B4E6-73B18D6AAB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598920" cy="3587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932360" y="1989000"/>
            <a:ext cx="3598920" cy="3270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4120" y="189000"/>
            <a:ext cx="856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mulations have been realized to compare the perform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EUROBALL (EB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AGATA Demonstrator (AD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Q.T. Doan presentation, 6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GATA Week, November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5800" y="5445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45440" y="5443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AEC-2017-4E65-AC58-C65E289353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6629400" cy="4496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4680" y="404640"/>
            <a:ext cx="8310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otopeak efficiency goes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9.5% (EB)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4-5% (AD at 140mm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 1 MeV an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= 15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reduction of the Doppler broa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070-FD58-43A5-9068-62F6C97532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7381800" cy="4600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10760" y="279360"/>
            <a:ext cx="60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tistics with fold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≥ 2 with AD at 140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3160" y="5445000"/>
            <a:ext cx="24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coincid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4560" y="5551560"/>
            <a:ext cx="976320" cy="306360"/>
          </a:xfrm>
          <a:prstGeom prst="rightArrow">
            <a:avLst>
              <a:gd name="adj1" fmla="val 50000"/>
              <a:gd name="adj2" fmla="val 796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7B2-171A-4A46-8C73-B17212A55F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0" r="2280" b="0"/>
          <a:stretch/>
        </p:blipFill>
        <p:spPr>
          <a:xfrm>
            <a:off x="395280" y="189000"/>
            <a:ext cx="7716960" cy="5067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708360" y="2924280"/>
            <a:ext cx="4794120" cy="3268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76360" y="1700280"/>
            <a:ext cx="1152720" cy="2665440"/>
          </a:xfrm>
          <a:prstGeom prst="ellipse">
            <a:avLst/>
          </a:prstGeom>
          <a:noFill/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1700280"/>
            <a:ext cx="6120000" cy="136836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4365720"/>
            <a:ext cx="2303640" cy="129528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50C-B9B2-425E-B0C8-AB5E0059C4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6629400" cy="50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6EB-1389-4C41-9879-5A105C5045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71640" y="692280"/>
            <a:ext cx="6629400" cy="535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97B-AE1E-4B7D-826F-FC1474F8DB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6295" t="0" r="0" b="8911"/>
          <a:stretch/>
        </p:blipFill>
        <p:spPr>
          <a:xfrm>
            <a:off x="1332000" y="620640"/>
            <a:ext cx="6431040" cy="4415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38000" y="50324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ergy (k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917280" y="1431720"/>
            <a:ext cx="9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A7F-8F47-4C3C-B4A4-6FD0603F95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9:59:56Z</dcterms:created>
  <dc:creator>nadine</dc:creator>
  <dc:description/>
  <dc:language>en-US</dc:language>
  <cp:lastModifiedBy>nadine</cp:lastModifiedBy>
  <dcterms:modified xsi:type="dcterms:W3CDTF">2008-07-06T14:48:05Z</dcterms:modified>
  <cp:revision>12</cp:revision>
  <dc:subject/>
  <dc:title>Proposal for a commissioning experiment </dc:title>
</cp:coreProperties>
</file>