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51E-86CC-4DD3-A5B9-5D57F16B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5703-E69C-4EF6-B783-C5987990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D24-98AF-4EC3-B530-90E8750A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A71F-204C-4623-9BC0-EB623254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647-47E4-424A-861E-8E184E76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F31A-EE09-4D3A-8DBC-74C07CDC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E602-F019-438F-A611-B55CDCF5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63AD-A64D-4B0A-ADB8-2FD5B4A7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32AB-20EF-4B02-979D-33FE16CD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3FFA-5B26-40BE-AB89-AB8A2CA0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720-375E-4E52-B9CD-FABA110C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DA5-642C-4BEB-A995-80D05A76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C02A-FF70-4C31-8707-47508E1D9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2106720"/>
            <a:ext cx="9109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amma Trac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ustering : deterministic annealing filter (DA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a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21440" y="5877000"/>
            <a:ext cx="36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ATA week.  8 - 11 Jul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psala, Sw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5013360"/>
            <a:ext cx="37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çois DIDIERJ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144880" cy="1486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11271" t="12442" r="10148" b="12904"/>
          <a:stretch/>
        </p:blipFill>
        <p:spPr>
          <a:xfrm>
            <a:off x="7667640" y="333360"/>
            <a:ext cx="1008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92160" y="4762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ustering metho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terministic annealing filter (DA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564000" y="1989000"/>
                <a:ext cx="33843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 rot="18900000">
            <a:off x="469080" y="764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m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205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distor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9800" y="3141720"/>
            <a:ext cx="842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oal :  to minimize the global distortion with the smaller number of clu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y analogy with the statistical physics : introduce a Lagrange multiplier.  Then, the free energy :  F = D -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4508640"/>
            <a:ext cx="80978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he DAF method corresponds to minimize the Lagrangien F while lowering the system temp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As the temperature is lowered, the system undergoes a sequence of phase transitions which consists of a natural split of the cluster in two parts (conducting to an increase of the cluster numb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8000" y="1557360"/>
            <a:ext cx="8928000" cy="4960800"/>
          </a:xfrm>
          <a:prstGeom prst="ellipse">
            <a:avLst/>
          </a:prstGeom>
          <a:solidFill>
            <a:srgbClr val="0000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33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rocess stops when the system temperature, T, is smaller than Tmin. This stopping  temperature is empirically determined and   depends on the number of the data interaction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35280" y="2205000"/>
            <a:ext cx="3743280" cy="363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308720" y="364500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= 1 M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Multiplicity : M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270828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min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3933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min =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2000" y="5300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min = 0.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5640" y="333360"/>
            <a:ext cx="6048360" cy="6335640"/>
          </a:xfrm>
          <a:prstGeom prst="ellipse">
            <a:avLst/>
          </a:prstGeom>
          <a:solidFill>
            <a:srgbClr val="0000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5816" b="0"/>
          <a:stretch/>
        </p:blipFill>
        <p:spPr>
          <a:xfrm>
            <a:off x="1908000" y="1384200"/>
            <a:ext cx="3795840" cy="3845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rot="18077400">
            <a:off x="-255600" y="984240"/>
            <a:ext cx="246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156200"/>
                <a:tab algn="l" pos="831204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Search of the empirical stopping temperatur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95360" y="5213520"/>
            <a:ext cx="327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4156200"/>
                <a:tab algn="l" pos="831204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ariation of the efficiency (b) and the peak-to-total ratio (c) as a function of the stopping temperature for different </a:t>
            </a:r>
            <a:r>
              <a:rPr b="1" lang="en-US" sz="1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ray multiplic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636480"/>
            <a:ext cx="279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4156200"/>
                <a:tab algn="l" pos="8312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) Distribution of the number of interactions as a function of  1MeV 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ray multiplic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404640"/>
            <a:ext cx="28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156200"/>
                <a:tab algn="l" pos="831204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Tmin is chosen in respect of the phys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4437000"/>
            <a:ext cx="23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ep in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sion-evaporation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 high multip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1197000"/>
            <a:ext cx="23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fer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ulomb exc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 low multip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8000" y="333360"/>
            <a:ext cx="8928000" cy="6184800"/>
          </a:xfrm>
          <a:prstGeom prst="ellipse">
            <a:avLst/>
          </a:prstGeom>
          <a:solidFill>
            <a:srgbClr val="0000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52760" y="836640"/>
            <a:ext cx="3701880" cy="5214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2924280"/>
            <a:ext cx="22734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pectra of 1MeV </a:t>
            </a:r>
            <a:r>
              <a:rPr b="1" lang="en-US" sz="1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y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Original spectrum obtained from the GEANT4 simulation (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2349360"/>
            <a:ext cx="248148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Reconstructed spectra using the deterministic annealing filter and the forward tracking algorithm for different </a:t>
            </a:r>
            <a:r>
              <a:rPr b="1" lang="en-US" sz="1400" spc="-1" strike="noStrike">
                <a:solidFill>
                  <a:srgbClr val="ff00ff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-ray multiplicitie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(b)</a:t>
            </a: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M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(c)</a:t>
            </a: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M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(d)</a:t>
            </a: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M =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549360"/>
            <a:ext cx="6010200" cy="5221080"/>
            <a:chOff x="0" y="549360"/>
            <a:chExt cx="6010200" cy="5221080"/>
          </a:xfrm>
        </p:grpSpPr>
        <p:sp>
          <p:nvSpPr>
            <p:cNvPr id="72" name=""/>
            <p:cNvSpPr/>
            <p:nvPr/>
          </p:nvSpPr>
          <p:spPr>
            <a:xfrm>
              <a:off x="947880" y="735120"/>
              <a:ext cx="3935520" cy="480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3" name=""/>
            <p:cNvGraphicFramePr/>
            <p:nvPr/>
          </p:nvGraphicFramePr>
          <p:xfrm>
            <a:off x="0" y="549360"/>
            <a:ext cx="5848560" cy="5221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549360"/>
                      <a:ext cx="5848560" cy="522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>
              <a:off x="1144800" y="730080"/>
              <a:ext cx="486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156200"/>
                  <a:tab algn="l" pos="8312040"/>
                </a:tabLst>
              </a:pPr>
              <a:r>
                <a:rPr b="0" lang="fr-FR" sz="1800" spc="-1" strike="noStrike">
                  <a:solidFill>
                    <a:srgbClr val="009900"/>
                  </a:solidFill>
                  <a:latin typeface="Arial"/>
                </a:rPr>
                <a:t>E</a:t>
              </a:r>
              <a:r>
                <a:rPr b="0" lang="fr-FR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</a:t>
              </a:r>
              <a:r>
                <a:rPr b="0" lang="fr-FR" sz="1800" spc="-1" strike="noStrike">
                  <a:solidFill>
                    <a:srgbClr val="0099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multiplicity</a:t>
              </a:r>
              <a:r>
                <a:rPr b="0" lang="fr-FR" sz="1800" spc="-1" strike="noStrike">
                  <a:solidFill>
                    <a:srgbClr val="009900"/>
                  </a:solidFill>
                  <a:latin typeface="Arial"/>
                </a:rPr>
                <a:t>     </a:t>
              </a:r>
              <a:r>
                <a:rPr b="0" lang="fr-FR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</a:t>
              </a:r>
              <a:r>
                <a:rPr b="0" lang="fr-FR" sz="1800" spc="-1" strike="noStrike">
                  <a:solidFill>
                    <a:srgbClr val="009900"/>
                  </a:solidFill>
                  <a:latin typeface="Arial"/>
                </a:rPr>
                <a:t> (%)    P/T (%)</a:t>
              </a:r>
              <a:r>
                <a:rPr b="0" lang="fr-FR" sz="1800" spc="-1" strike="noStrike">
                  <a:solidFill>
                    <a:srgbClr val="00ff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334120" y="2382840"/>
            <a:ext cx="329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4156200"/>
                <a:tab algn="l" pos="831204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fficiency and peak-to-total ratio values calculated using the deterministic annealing filter clustering and the forward tracking algorithm for different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ray energies and different multiplic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33480" y="5907240"/>
            <a:ext cx="596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4156200"/>
                <a:tab algn="l" pos="8312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he values in brackets are obtained using the "cones" clustering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8000" y="333360"/>
            <a:ext cx="8928000" cy="6184800"/>
          </a:xfrm>
          <a:prstGeom prst="ellipse">
            <a:avLst/>
          </a:prstGeom>
          <a:solidFill>
            <a:srgbClr val="0000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2781360"/>
            <a:ext cx="1800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imulated spectra of a rotational band of 30 </a:t>
            </a:r>
            <a:r>
              <a:rPr b="1" lang="en-GB" sz="1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 rays in the 80 keV to 2690 keV energy region in steps of 90 ke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4438800" cy="4303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75640" y="2779560"/>
            <a:ext cx="201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Original spectrum obtained from the GEANT4 simulation (a) and reconstructed spectra (b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622840" y="3586320"/>
            <a:ext cx="2844720" cy="2885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42920" y="40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uture prospec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105264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parison between the DAF and the "cone" methods for a set of energies and  gamma multiplic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00536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pplication of the DAF method to the probabilistic trac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21636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st of the method with real data taken from the AGATA demonstr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301320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ptation of the probabilistic tracking method to the spherical geometry of AG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14760" y="1523880"/>
            <a:ext cx="3714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4:03:27Z</dcterms:created>
  <dc:creator>didierj</dc:creator>
  <dc:description/>
  <dc:language>en-US</dc:language>
  <cp:lastModifiedBy>didierj</cp:lastModifiedBy>
  <dcterms:modified xsi:type="dcterms:W3CDTF">2008-07-08T12:34:04Z</dcterms:modified>
  <cp:revision>28</cp:revision>
  <dc:subject/>
  <dc:title>Diapositive 1</dc:title>
</cp:coreProperties>
</file>