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.wmf" ContentType="image/x-wmf"/>
  <Override PartName="/ppt/media/image25.png" ContentType="image/png"/>
  <Override PartName="/ppt/media/image23.png" ContentType="image/png"/>
  <Override PartName="/ppt/media/image22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6F4E-02C2-42F6-B656-6CC8D2B8E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0F5B-C151-47CA-9C79-04DD442EA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7107-D385-43A9-BA5D-664FDD6E5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EBA1-36C7-42B9-8BCA-484B688BF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1556-83C2-4B14-BEF5-45194C972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5CB1-4346-46F3-9C04-EDCAB076D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3277-6421-4BBF-ADE5-7A7A4D578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BDA7-9514-44C2-AF58-3388760E4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1E96-7CCD-44B3-9A06-EF608AE70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4FF9-635B-44CF-9D44-3ABB4B61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3250-270C-480F-983D-33B7095C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B738-4158-49E0-8C1F-DE74BE2F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D69799-050E-4188-A012-407574B1F6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27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cc"/>
                </a:solidFill>
                <a:latin typeface="Monotype Corsiva"/>
              </a:rPr>
              <a:t>Neutron Gamma Discrimination in Ag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87560" y="800280"/>
            <a:ext cx="31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cript MT Bold"/>
              </a:rPr>
              <a:t>Ay</a:t>
            </a:r>
            <a:r>
              <a:rPr b="1" lang="en-GB" sz="2000" spc="-1" strike="noStrike">
                <a:solidFill>
                  <a:srgbClr val="000000"/>
                </a:solidFill>
                <a:latin typeface="Script MT Bold"/>
                <a:ea typeface="Times New Roman"/>
              </a:rPr>
              <a:t>ş</a:t>
            </a:r>
            <a:r>
              <a:rPr b="1" lang="en-GB" sz="2000" spc="-1" strike="noStrike">
                <a:solidFill>
                  <a:srgbClr val="000000"/>
                </a:solidFill>
                <a:latin typeface="Script MT Bold"/>
              </a:rPr>
              <a:t>e Ata</a:t>
            </a:r>
            <a:r>
              <a:rPr b="1" lang="en-GB" sz="2000" spc="-1" strike="noStrike">
                <a:solidFill>
                  <a:srgbClr val="000000"/>
                </a:solidFill>
                <a:latin typeface="Script MT Bold"/>
                <a:ea typeface="Times New Roman"/>
              </a:rPr>
              <a:t>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2708280"/>
            <a:ext cx="403884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16000" y="2205000"/>
            <a:ext cx="73436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ossibility of discriminating neutrons and gammas by trac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dentify the neutron interaction points in Agata det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Find a ‘pattern’ for neutron inter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05040" y="5670720"/>
            <a:ext cx="7705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Aim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 Reducing the background in th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 – ray spec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gata as a neuton detect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525456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iteria 2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g – θc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443640" y="3114720"/>
            <a:ext cx="2376360" cy="14666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250920" y="1773360"/>
            <a:ext cx="6121440" cy="45352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2771640" y="371628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03640" y="4262400"/>
            <a:ext cx="1944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cc0000"/>
                </a:solidFill>
                <a:latin typeface="Times New Roman"/>
              </a:rPr>
              <a:t>596 keV gam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635280" y="2637000"/>
            <a:ext cx="151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Times New Roman"/>
              </a:rPr>
              <a:t>1 MeV neut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71640" y="4508640"/>
            <a:ext cx="12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 &gt;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71640" y="234936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 &gt;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596360" y="350028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400800" y="380880"/>
            <a:ext cx="2438280" cy="16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the position of the interactio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om Compton form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3200400" y="396216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g - θ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1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84360" y="1846440"/>
            <a:ext cx="7632720" cy="45352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619280" y="515772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&gt;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762200" y="450864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 =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835280" y="3933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 =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763640" y="3429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 =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619280" y="285264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 =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19280" y="198900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 =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696080" cy="122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eduction in %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 MeV Neutrons on 74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, Eth = 5keV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no phde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752480" y="1700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596k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3580920" y="3809880"/>
            <a:ext cx="183060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902960" y="4419720"/>
            <a:ext cx="3584520" cy="1600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1903320" y="4419720"/>
            <a:ext cx="3432240" cy="1600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3657240" y="4495680"/>
            <a:ext cx="167796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325680" y="4745160"/>
            <a:ext cx="865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bu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406600" y="6519960"/>
            <a:ext cx="20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 (ke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16200000">
            <a:off x="-504720" y="171756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5410080" y="2133720"/>
            <a:ext cx="3730320" cy="2630160"/>
            <a:chOff x="5410080" y="2133720"/>
            <a:chExt cx="3730320" cy="2630160"/>
          </a:xfrm>
        </p:grpSpPr>
        <p:sp>
          <p:nvSpPr>
            <p:cNvPr id="230" name=""/>
            <p:cNvSpPr/>
            <p:nvPr/>
          </p:nvSpPr>
          <p:spPr>
            <a:xfrm>
              <a:off x="8406000" y="4025160"/>
              <a:ext cx="732960" cy="73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670160" y="4025160"/>
              <a:ext cx="735840" cy="73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939000" y="4025160"/>
              <a:ext cx="731160" cy="73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203160" y="4025160"/>
              <a:ext cx="735840" cy="73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410080" y="4025160"/>
              <a:ext cx="793080" cy="73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θg – θc or efirst or ese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406000" y="3509640"/>
              <a:ext cx="73296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670160" y="3509640"/>
              <a:ext cx="73584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7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939000" y="3509640"/>
              <a:ext cx="73116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203160" y="3509640"/>
              <a:ext cx="73584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10080" y="3509640"/>
              <a:ext cx="793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θg – θc or efir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406000" y="3206880"/>
              <a:ext cx="73296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670160" y="3206880"/>
              <a:ext cx="7358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6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939000" y="3206880"/>
              <a:ext cx="73116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203160" y="3206880"/>
              <a:ext cx="7358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410080" y="3206880"/>
              <a:ext cx="7930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efir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406000" y="2904120"/>
              <a:ext cx="73296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70160" y="2904120"/>
              <a:ext cx="7358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6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939000" y="2904120"/>
              <a:ext cx="73116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203160" y="2904120"/>
              <a:ext cx="7358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1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410080" y="2904120"/>
              <a:ext cx="7930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θg - θ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406000" y="2133720"/>
              <a:ext cx="732960" cy="77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596 keV gam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70160" y="2133720"/>
              <a:ext cx="735840" cy="77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um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939000" y="2133720"/>
              <a:ext cx="731160" cy="77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pea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596 ke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203160" y="2133720"/>
              <a:ext cx="735840" cy="77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410080" y="2133720"/>
              <a:ext cx="793080" cy="77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10080" y="2133720"/>
              <a:ext cx="37292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410080" y="2904120"/>
              <a:ext cx="37292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410080" y="3206880"/>
              <a:ext cx="37292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410080" y="3509640"/>
              <a:ext cx="3729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410080" y="4025160"/>
              <a:ext cx="3729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410080" y="4762800"/>
              <a:ext cx="37292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410080" y="2133720"/>
              <a:ext cx="1440" cy="262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203160" y="2133720"/>
              <a:ext cx="1440" cy="262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939000" y="2133720"/>
              <a:ext cx="1440" cy="262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70160" y="2133720"/>
              <a:ext cx="1440" cy="262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406000" y="2133720"/>
              <a:ext cx="1440" cy="262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9139320" y="2133720"/>
              <a:ext cx="1080" cy="262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2700360" y="1700280"/>
            <a:ext cx="1942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960720" y="1512720"/>
            <a:ext cx="1297080" cy="585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No cond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With cond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381480" y="1676520"/>
            <a:ext cx="581040" cy="144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429000" y="190512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3429000" y="2057040"/>
            <a:ext cx="533520" cy="324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596 keV line with and without PHDEF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 MeV Neutrons on 74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, Eth = 5keV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324000" y="1125360"/>
            <a:ext cx="8820000" cy="52563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2195640" y="3141720"/>
            <a:ext cx="9363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Times New Roman"/>
              </a:rPr>
              <a:t>596 k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59280" y="465300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bu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492360" y="501336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2554200" y="5013360"/>
            <a:ext cx="8668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940360" y="34941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GB" sz="1800" spc="-1" strike="noStrike">
                <a:solidFill>
                  <a:srgbClr val="0000ff"/>
                </a:solidFill>
                <a:latin typeface="Times New Roman"/>
              </a:rPr>
              <a:t>ph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508720" y="2781360"/>
            <a:ext cx="14396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706920" y="604512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 (ke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rot="16200000">
            <a:off x="8128080" y="362700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516720" y="5157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24360" y="2133720"/>
            <a:ext cx="1727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156360" y="3716280"/>
            <a:ext cx="431640" cy="1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12000" y="407664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Times New Roman"/>
              </a:rPr>
              <a:t>             </a:t>
            </a:r>
            <a:r>
              <a:rPr b="1" lang="en-GB" sz="1600" spc="-1" strike="noStrike">
                <a:solidFill>
                  <a:srgbClr val="cc0000"/>
                </a:solidFill>
                <a:latin typeface="Times New Roman"/>
              </a:rPr>
              <a:t>nophde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156360" y="4149720"/>
            <a:ext cx="4316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156360" y="4292640"/>
            <a:ext cx="431640" cy="144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0" y="50472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00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Reduction in % 1 MeV Neutrons on 74Ge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HDEF,  Eth = 5k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050920" y="15415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96ke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700360" y="638172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 (ke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7890120" y="2053440"/>
            <a:ext cx="14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u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724360" y="1916280"/>
            <a:ext cx="1656000" cy="21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3924360" y="1700280"/>
            <a:ext cx="4032000" cy="2950560"/>
            <a:chOff x="3924360" y="1700280"/>
            <a:chExt cx="4032000" cy="2950560"/>
          </a:xfrm>
        </p:grpSpPr>
        <p:sp>
          <p:nvSpPr>
            <p:cNvPr id="295" name=""/>
            <p:cNvSpPr/>
            <p:nvPr/>
          </p:nvSpPr>
          <p:spPr>
            <a:xfrm>
              <a:off x="7309440" y="4059360"/>
              <a:ext cx="645480" cy="59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300720" y="4059360"/>
              <a:ext cx="1008360" cy="59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112360" y="4059360"/>
              <a:ext cx="1188000" cy="59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924360" y="4059360"/>
              <a:ext cx="1188000" cy="59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θg – θc or efirst or ese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309440" y="3469680"/>
              <a:ext cx="6454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300720" y="3469680"/>
              <a:ext cx="10083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112360" y="3469680"/>
              <a:ext cx="118800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924360" y="3469680"/>
              <a:ext cx="118800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θg – θc or efir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309440" y="3116160"/>
              <a:ext cx="6454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300720" y="3116160"/>
              <a:ext cx="10083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112360" y="3116160"/>
              <a:ext cx="118800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924360" y="3116160"/>
              <a:ext cx="118800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efir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309440" y="2762280"/>
              <a:ext cx="645480" cy="3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300720" y="2762280"/>
              <a:ext cx="1008360" cy="3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112360" y="2762280"/>
              <a:ext cx="1188000" cy="3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924360" y="2762280"/>
              <a:ext cx="1188000" cy="3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θg - θ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309440" y="1700280"/>
              <a:ext cx="64548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596 keV </a:t>
              </a:r>
              <a:r>
                <a:rPr b="1" lang="en-GB" sz="1000" spc="-1" strike="noStrike">
                  <a:solidFill>
                    <a:srgbClr val="000000"/>
                  </a:solidFill>
                  <a:latin typeface="Times New Roman"/>
                </a:rPr>
                <a:t>gamm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300720" y="1700280"/>
              <a:ext cx="100836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peak + bum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596 ke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12360" y="1700280"/>
              <a:ext cx="1188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924360" y="1700280"/>
              <a:ext cx="1188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924360" y="1700280"/>
              <a:ext cx="403092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924360" y="2762280"/>
              <a:ext cx="4030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924360" y="3116160"/>
              <a:ext cx="40309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924360" y="3469680"/>
              <a:ext cx="40309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924360" y="4059360"/>
              <a:ext cx="4030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924360" y="4649760"/>
              <a:ext cx="403092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924360" y="1700280"/>
              <a:ext cx="1080" cy="294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112360" y="1700280"/>
              <a:ext cx="1080" cy="294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300720" y="1700280"/>
              <a:ext cx="1080" cy="294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309440" y="1700280"/>
              <a:ext cx="1440" cy="294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955280" y="1700280"/>
              <a:ext cx="1080" cy="294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684360" y="2349360"/>
            <a:ext cx="502920" cy="18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84360" y="2708280"/>
            <a:ext cx="50292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403280" y="2205000"/>
            <a:ext cx="1297080" cy="585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No cond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With cond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6912000" cy="485748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amma-ray energy spectra after tracking (mgt)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eutrons on 74Ge,  phde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495680" y="1600200"/>
            <a:ext cx="15242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5 M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495680" y="2913120"/>
            <a:ext cx="1447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495680" y="39625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495680" y="5105520"/>
            <a:ext cx="1447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16200000">
            <a:off x="2941560" y="16380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5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200400" y="6172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 (ke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rot="16200000">
            <a:off x="-463320" y="36054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181480" y="3962520"/>
            <a:ext cx="76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876920" y="388620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64832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3 M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724280" y="3962520"/>
            <a:ext cx="131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2 M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800600" y="52578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1 M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rot="16200000">
            <a:off x="2970000" y="297000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5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rot="16200000">
            <a:off x="3011400" y="39621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5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rot="16200000">
            <a:off x="2973240" y="5027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5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rot="16200000">
            <a:off x="3549600" y="20379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6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rot="16200000">
            <a:off x="3659040" y="3016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6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rot="16200000">
            <a:off x="3549600" y="4092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6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20120" y="1828800"/>
            <a:ext cx="761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620120" y="1447920"/>
            <a:ext cx="838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620120" y="2286000"/>
            <a:ext cx="761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001000" y="1447920"/>
            <a:ext cx="1440" cy="3808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001000" y="1828800"/>
            <a:ext cx="144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001000" y="1905120"/>
            <a:ext cx="1440" cy="3808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381880" y="12952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2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458200" y="1676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9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458200" y="21337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620120" y="23623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74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524720" y="1197000"/>
            <a:ext cx="1440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885080" y="1960560"/>
            <a:ext cx="57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Times New Roman"/>
              </a:rPr>
              <a:t>5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956720" y="148428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Times New Roman"/>
              </a:rPr>
              <a:t>6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324000" y="1906560"/>
            <a:ext cx="8424720" cy="454680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amma-ray energy spectrum after tracking (mgt)</a:t>
            </a:r>
            <a:br>
              <a:rPr sz="28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lat distribution on 1 –5 MeV neutrons 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phd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19920" y="243828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58080" y="1066680"/>
            <a:ext cx="1892160" cy="1123920"/>
          </a:xfrm>
          <a:custGeom>
            <a:avLst/>
            <a:gdLst/>
            <a:ahLst/>
            <a:rect l="l" t="t" r="r" b="b"/>
            <a:pathLst>
              <a:path w="1192" h="708">
                <a:moveTo>
                  <a:pt x="0" y="696"/>
                </a:moveTo>
                <a:cubicBezTo>
                  <a:pt x="11" y="637"/>
                  <a:pt x="36" y="455"/>
                  <a:pt x="72" y="341"/>
                </a:cubicBezTo>
                <a:cubicBezTo>
                  <a:pt x="108" y="227"/>
                  <a:pt x="160" y="22"/>
                  <a:pt x="216" y="11"/>
                </a:cubicBezTo>
                <a:cubicBezTo>
                  <a:pt x="272" y="0"/>
                  <a:pt x="360" y="198"/>
                  <a:pt x="408" y="275"/>
                </a:cubicBezTo>
                <a:cubicBezTo>
                  <a:pt x="456" y="352"/>
                  <a:pt x="473" y="424"/>
                  <a:pt x="504" y="473"/>
                </a:cubicBezTo>
                <a:cubicBezTo>
                  <a:pt x="535" y="522"/>
                  <a:pt x="549" y="534"/>
                  <a:pt x="592" y="568"/>
                </a:cubicBezTo>
                <a:cubicBezTo>
                  <a:pt x="635" y="602"/>
                  <a:pt x="687" y="657"/>
                  <a:pt x="760" y="680"/>
                </a:cubicBezTo>
                <a:cubicBezTo>
                  <a:pt x="833" y="703"/>
                  <a:pt x="960" y="700"/>
                  <a:pt x="1032" y="704"/>
                </a:cubicBezTo>
                <a:cubicBezTo>
                  <a:pt x="1104" y="708"/>
                  <a:pt x="1159" y="704"/>
                  <a:pt x="1192" y="704"/>
                </a:cubicBezTo>
                <a:cubicBezTo>
                  <a:pt x="1192" y="704"/>
                  <a:pt x="0" y="696"/>
                  <a:pt x="0" y="696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6" name=""/>
          <p:cNvCxnSpPr>
            <a:stCxn id="367" idx="1"/>
          </p:cNvCxnSpPr>
          <p:nvPr/>
        </p:nvCxnSpPr>
        <p:spPr>
          <a:xfrm rot="10800000">
            <a:off x="6171480" y="1515240"/>
            <a:ext cx="1829520" cy="123120"/>
          </a:xfrm>
          <a:prstGeom prst="curvedConnector5">
            <a:avLst>
              <a:gd name="adj1" fmla="val 49990"/>
              <a:gd name="adj2" fmla="val 49853"/>
              <a:gd name="adj3" fmla="val 49990"/>
            </a:avLst>
          </a:prstGeom>
          <a:ln w="0">
            <a:noFill/>
          </a:ln>
        </p:spPr>
      </p:cxnSp>
      <p:sp>
        <p:nvSpPr>
          <p:cNvPr id="368" name=""/>
          <p:cNvSpPr/>
          <p:nvPr/>
        </p:nvSpPr>
        <p:spPr>
          <a:xfrm>
            <a:off x="6477120" y="1905120"/>
            <a:ext cx="228600" cy="30456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144" y="192"/>
                </a:moveTo>
                <a:cubicBezTo>
                  <a:pt x="144" y="192"/>
                  <a:pt x="0" y="0"/>
                  <a:pt x="0" y="0"/>
                </a:cubicBezTo>
                <a:cubicBezTo>
                  <a:pt x="0" y="0"/>
                  <a:pt x="144" y="192"/>
                  <a:pt x="144" y="192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334120" y="990720"/>
            <a:ext cx="32763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19920" y="1066680"/>
            <a:ext cx="1981080" cy="1143000"/>
          </a:xfrm>
          <a:custGeom>
            <a:avLst/>
            <a:gdLst/>
            <a:ahLst/>
            <a:rect l="l" t="t" r="r" b="b"/>
            <a:pathLst>
              <a:path w="1248" h="720">
                <a:moveTo>
                  <a:pt x="0" y="720"/>
                </a:moveTo>
                <a:lnTo>
                  <a:pt x="144" y="288"/>
                </a:lnTo>
                <a:lnTo>
                  <a:pt x="288" y="0"/>
                </a:lnTo>
                <a:lnTo>
                  <a:pt x="384" y="192"/>
                </a:lnTo>
                <a:lnTo>
                  <a:pt x="480" y="480"/>
                </a:lnTo>
                <a:lnTo>
                  <a:pt x="576" y="624"/>
                </a:lnTo>
                <a:lnTo>
                  <a:pt x="768" y="672"/>
                </a:lnTo>
                <a:lnTo>
                  <a:pt x="1056" y="720"/>
                </a:lnTo>
                <a:lnTo>
                  <a:pt x="1152" y="720"/>
                </a:lnTo>
                <a:lnTo>
                  <a:pt x="1248" y="72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19920" y="1066680"/>
            <a:ext cx="1981080" cy="1143000"/>
          </a:xfrm>
          <a:custGeom>
            <a:avLst/>
            <a:gdLst/>
            <a:ahLst/>
            <a:rect l="l" t="t" r="r" b="b"/>
            <a:pathLst>
              <a:path w="1248" h="720">
                <a:moveTo>
                  <a:pt x="0" y="720"/>
                </a:moveTo>
                <a:lnTo>
                  <a:pt x="144" y="288"/>
                </a:lnTo>
                <a:lnTo>
                  <a:pt x="288" y="0"/>
                </a:lnTo>
                <a:lnTo>
                  <a:pt x="384" y="192"/>
                </a:lnTo>
                <a:lnTo>
                  <a:pt x="480" y="480"/>
                </a:lnTo>
                <a:lnTo>
                  <a:pt x="576" y="624"/>
                </a:lnTo>
                <a:lnTo>
                  <a:pt x="768" y="672"/>
                </a:lnTo>
                <a:lnTo>
                  <a:pt x="1056" y="720"/>
                </a:lnTo>
                <a:lnTo>
                  <a:pt x="1152" y="720"/>
                </a:lnTo>
                <a:lnTo>
                  <a:pt x="1248" y="72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76720" y="2971800"/>
            <a:ext cx="21333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943600" y="2057400"/>
            <a:ext cx="21337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5943600" y="988920"/>
            <a:ext cx="1440" cy="106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5943600" y="1446120"/>
            <a:ext cx="15228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6095880" y="1141200"/>
            <a:ext cx="152640" cy="30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248520" y="11430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477120" y="16002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6294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934320" y="1981080"/>
            <a:ext cx="3808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6019920" y="1293480"/>
            <a:ext cx="1440" cy="7650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019920" y="1295280"/>
            <a:ext cx="457200" cy="18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477120" y="1295280"/>
            <a:ext cx="1440" cy="7621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15000" y="20574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781680" y="20574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010280" y="205740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eutron energy (MeV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952880" y="114300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rot="16200000">
            <a:off x="5182560" y="144648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umber of 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181480" y="2908440"/>
            <a:ext cx="19051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289240" y="2976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cc0000"/>
                </a:solidFill>
                <a:latin typeface="Times New Roman"/>
              </a:rPr>
              <a:t>596 keV, 74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981080" y="458136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cc0000"/>
                </a:solidFill>
                <a:latin typeface="Times New Roman"/>
              </a:rPr>
              <a:t>608 keV, 74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067280" y="357336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cc0000"/>
                </a:solidFill>
                <a:latin typeface="Times New Roman"/>
              </a:rPr>
              <a:t>834 keV, 72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340000" y="61657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 (ke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rot="16200000">
            <a:off x="7485840" y="3955320"/>
            <a:ext cx="15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586560" y="4076640"/>
            <a:ext cx="1081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cc0000"/>
                </a:solidFill>
                <a:latin typeface="Times New Roman"/>
              </a:rPr>
              <a:t>1039 keV, 70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2340000" y="4866840"/>
            <a:ext cx="71280" cy="21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amma-ray energy spectrum after tracking (mgt)</a:t>
            </a:r>
            <a:br>
              <a:rPr sz="28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lat distribution on 1 –5 MeV neutrons 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hd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4932360" cy="5183280"/>
          </a:xfrm>
          <a:prstGeom prst="rect">
            <a:avLst/>
          </a:prstGeom>
          <a:ln w="0">
            <a:noFill/>
          </a:ln>
        </p:spPr>
      </p:pic>
      <p:grpSp>
        <p:nvGrpSpPr>
          <p:cNvPr id="398" name=""/>
          <p:cNvGrpSpPr/>
          <p:nvPr/>
        </p:nvGrpSpPr>
        <p:grpSpPr>
          <a:xfrm>
            <a:off x="4932360" y="2133720"/>
            <a:ext cx="3814560" cy="2754000"/>
            <a:chOff x="4932360" y="2133720"/>
            <a:chExt cx="3814560" cy="2754000"/>
          </a:xfrm>
        </p:grpSpPr>
        <p:sp>
          <p:nvSpPr>
            <p:cNvPr id="399" name=""/>
            <p:cNvSpPr/>
            <p:nvPr/>
          </p:nvSpPr>
          <p:spPr>
            <a:xfrm>
              <a:off x="8049240" y="4052160"/>
              <a:ext cx="696240" cy="83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359120" y="4052160"/>
              <a:ext cx="689760" cy="83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6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64320" y="4052160"/>
              <a:ext cx="694800" cy="83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974200" y="4052160"/>
              <a:ext cx="689760" cy="83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3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932360" y="4052160"/>
              <a:ext cx="1041840" cy="83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θg – θc or efirst or es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49240" y="3516120"/>
              <a:ext cx="69624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359120" y="3516120"/>
              <a:ext cx="68976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5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664320" y="3516120"/>
              <a:ext cx="69480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974200" y="3516120"/>
              <a:ext cx="68976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3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932360" y="3516120"/>
              <a:ext cx="104184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θg – θc or efir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049240" y="3162960"/>
              <a:ext cx="6962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359120" y="3162960"/>
              <a:ext cx="6897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3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64320" y="3162960"/>
              <a:ext cx="69480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974200" y="3162960"/>
              <a:ext cx="6897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932360" y="3162960"/>
              <a:ext cx="10418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efir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049240" y="2807640"/>
              <a:ext cx="69624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359120" y="2807640"/>
              <a:ext cx="68976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5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664320" y="2807640"/>
              <a:ext cx="694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974200" y="2807640"/>
              <a:ext cx="68976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932360" y="2807640"/>
              <a:ext cx="104184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θg - θ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049240" y="2133720"/>
              <a:ext cx="696240" cy="67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1 MeV gamm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359120" y="2133720"/>
              <a:ext cx="689760" cy="67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um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664320" y="2133720"/>
              <a:ext cx="694800" cy="67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peak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834 ke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974200" y="2133720"/>
              <a:ext cx="689760" cy="67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932360" y="2133720"/>
              <a:ext cx="1041840" cy="67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932360" y="2133720"/>
              <a:ext cx="38134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932360" y="2807640"/>
              <a:ext cx="38134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932360" y="3162960"/>
              <a:ext cx="38134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932360" y="3516120"/>
              <a:ext cx="38134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932360" y="4052160"/>
              <a:ext cx="381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932360" y="4886640"/>
              <a:ext cx="38134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932360" y="2133720"/>
              <a:ext cx="1080" cy="275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974200" y="2133720"/>
              <a:ext cx="1440" cy="275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664320" y="2133720"/>
              <a:ext cx="1440" cy="275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359120" y="2133720"/>
              <a:ext cx="1080" cy="275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049240" y="2133720"/>
              <a:ext cx="1440" cy="275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745840" y="2133720"/>
              <a:ext cx="1080" cy="275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3419640" y="2421000"/>
            <a:ext cx="108108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41440" y="2349360"/>
            <a:ext cx="9349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Times New Roman"/>
              </a:rPr>
              <a:t>834 ke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1545840" y="4365720"/>
            <a:ext cx="51879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1762200" y="4437000"/>
            <a:ext cx="590688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547640" y="5877000"/>
            <a:ext cx="20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  (keV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rot="5400000">
            <a:off x="4203000" y="247608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u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059280" y="2421000"/>
            <a:ext cx="57600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340000" y="2708280"/>
            <a:ext cx="576360" cy="144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340000" y="2997360"/>
            <a:ext cx="57636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59280" y="2577960"/>
            <a:ext cx="12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No cond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59280" y="285264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With cond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identified the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-rays produced by neuton inelastic scattering on Ge isotopes by checking its direction and by the small energy it deposits in the dete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n = 1-5 MeV, 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the recoil energy is included in a cluster during tracking, we can eliminate 69% of the backgrou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oss of 14 % in good γ-rays from the target pl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may improve the results by  doing the selection during the tracking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•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n &gt; 1 should be studi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•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ment with AGATA detectors  by using a 252C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Ba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plastic detectors for TOF of the neutr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 u="sng">
                <a:solidFill>
                  <a:srgbClr val="cc0000"/>
                </a:solidFill>
                <a:uFillTx/>
                <a:latin typeface="Times New Roman"/>
              </a:rPr>
              <a:t>Conclusion and Future Pl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9640" y="3886200"/>
            <a:ext cx="8064720" cy="144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0920" y="1112760"/>
            <a:ext cx="475272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cc"/>
                </a:solidFill>
                <a:latin typeface="Times New Roman"/>
              </a:rPr>
              <a:t>Hittites 1650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00cc"/>
                </a:solidFill>
                <a:latin typeface="Times New Roman"/>
              </a:rPr>
              <a:t>1200 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617400" y="1981080"/>
          <a:ext cx="38102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1981080"/>
                    <a:ext cx="38102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3" name="" descr=""/>
          <p:cNvPicPr/>
          <p:nvPr/>
        </p:nvPicPr>
        <p:blipFill>
          <a:blip r:embed="rId3"/>
          <a:stretch/>
        </p:blipFill>
        <p:spPr>
          <a:xfrm>
            <a:off x="5148360" y="4292640"/>
            <a:ext cx="3456000" cy="180036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4"/>
          <a:stretch/>
        </p:blipFill>
        <p:spPr>
          <a:xfrm>
            <a:off x="684360" y="2349360"/>
            <a:ext cx="3527280" cy="331164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5"/>
          <a:stretch/>
        </p:blipFill>
        <p:spPr>
          <a:xfrm>
            <a:off x="6300720" y="2133720"/>
            <a:ext cx="1079640" cy="187164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900000" y="1844640"/>
            <a:ext cx="33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Ceremonial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050920" y="4724280"/>
            <a:ext cx="863640" cy="64944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932360" y="752400"/>
            <a:ext cx="360036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akara </a:t>
            </a: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U: A.Ataç, A. Kaşkaş, S. Akkoyun, M. Şenyiğit, T. Hüyük, O.Kar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psala </a:t>
            </a: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U: J. Nyber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71160"/>
            <a:ext cx="777240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Cross-sections for the n +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at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Ge reaction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●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lastic scattering natGe (n,n)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●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elastic scattering natGe (n,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´γ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85960" y="2424240"/>
            <a:ext cx="3408120" cy="3228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148360" y="4005360"/>
            <a:ext cx="3168720" cy="2232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292720" y="6237360"/>
            <a:ext cx="302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J. Ljungvall, J. Nyberg, NIM A550 (2005)37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26920" y="5661000"/>
            <a:ext cx="309744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J. Ljungvall, J. Nyberg, NIM A546 (2005)55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515280" y="2133720"/>
            <a:ext cx="165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Inelastic scatte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788000" y="2565360"/>
            <a:ext cx="3363840" cy="97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990360"/>
            <a:ext cx="7988400" cy="29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 Simulations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eant4 with AGATA geomet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8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J. Allison et al. NIM A506(2003)250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8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. Farnea, D. Bazzacco LNL Anual Report 2003, p.158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J. Ljungvall, J. Nyberg, NIM A546 (2005)553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Geant4 correction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lse-height defect (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HDE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) 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Trackin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MGT code,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. Bazzac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60240" y="3990960"/>
            <a:ext cx="76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3594240"/>
            <a:ext cx="838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4360" y="4432320"/>
            <a:ext cx="761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5240" y="3594240"/>
            <a:ext cx="1440" cy="3808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5240" y="3975120"/>
            <a:ext cx="144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65240" y="4051440"/>
            <a:ext cx="1440" cy="3808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46120" y="344160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2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2440" y="382284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9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2440" y="428004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450864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74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570720" y="5102280"/>
            <a:ext cx="1892160" cy="1123920"/>
          </a:xfrm>
          <a:custGeom>
            <a:avLst/>
            <a:gdLst/>
            <a:ahLst/>
            <a:rect l="l" t="t" r="r" b="b"/>
            <a:pathLst>
              <a:path w="1192" h="708">
                <a:moveTo>
                  <a:pt x="0" y="696"/>
                </a:moveTo>
                <a:cubicBezTo>
                  <a:pt x="11" y="637"/>
                  <a:pt x="36" y="455"/>
                  <a:pt x="72" y="341"/>
                </a:cubicBezTo>
                <a:cubicBezTo>
                  <a:pt x="108" y="227"/>
                  <a:pt x="160" y="22"/>
                  <a:pt x="216" y="11"/>
                </a:cubicBezTo>
                <a:cubicBezTo>
                  <a:pt x="272" y="0"/>
                  <a:pt x="360" y="198"/>
                  <a:pt x="408" y="275"/>
                </a:cubicBezTo>
                <a:cubicBezTo>
                  <a:pt x="456" y="352"/>
                  <a:pt x="473" y="424"/>
                  <a:pt x="504" y="473"/>
                </a:cubicBezTo>
                <a:cubicBezTo>
                  <a:pt x="535" y="522"/>
                  <a:pt x="549" y="534"/>
                  <a:pt x="592" y="568"/>
                </a:cubicBezTo>
                <a:cubicBezTo>
                  <a:pt x="635" y="602"/>
                  <a:pt x="687" y="657"/>
                  <a:pt x="760" y="680"/>
                </a:cubicBezTo>
                <a:cubicBezTo>
                  <a:pt x="833" y="703"/>
                  <a:pt x="960" y="700"/>
                  <a:pt x="1032" y="704"/>
                </a:cubicBezTo>
                <a:cubicBezTo>
                  <a:pt x="1104" y="708"/>
                  <a:pt x="1159" y="704"/>
                  <a:pt x="1192" y="704"/>
                </a:cubicBezTo>
                <a:cubicBezTo>
                  <a:pt x="1192" y="704"/>
                  <a:pt x="0" y="696"/>
                  <a:pt x="0" y="696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67" idx="1"/>
          </p:cNvCxnSpPr>
          <p:nvPr/>
        </p:nvCxnSpPr>
        <p:spPr>
          <a:xfrm rot="10800000">
            <a:off x="6684120" y="5569920"/>
            <a:ext cx="1829520" cy="13068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0">
            <a:noFill/>
          </a:ln>
        </p:spPr>
      </p:cxnSp>
      <p:sp>
        <p:nvSpPr>
          <p:cNvPr id="68" name=""/>
          <p:cNvSpPr/>
          <p:nvPr/>
        </p:nvSpPr>
        <p:spPr>
          <a:xfrm>
            <a:off x="6989760" y="5940360"/>
            <a:ext cx="228600" cy="30492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144" y="192"/>
                </a:moveTo>
                <a:cubicBezTo>
                  <a:pt x="144" y="192"/>
                  <a:pt x="0" y="0"/>
                  <a:pt x="0" y="0"/>
                </a:cubicBezTo>
                <a:cubicBezTo>
                  <a:pt x="0" y="0"/>
                  <a:pt x="144" y="192"/>
                  <a:pt x="144" y="192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532560" y="5102280"/>
            <a:ext cx="1981080" cy="1143000"/>
          </a:xfrm>
          <a:custGeom>
            <a:avLst/>
            <a:gdLst/>
            <a:ahLst/>
            <a:rect l="l" t="t" r="r" b="b"/>
            <a:pathLst>
              <a:path w="1248" h="720">
                <a:moveTo>
                  <a:pt x="0" y="720"/>
                </a:moveTo>
                <a:lnTo>
                  <a:pt x="144" y="288"/>
                </a:lnTo>
                <a:lnTo>
                  <a:pt x="288" y="0"/>
                </a:lnTo>
                <a:lnTo>
                  <a:pt x="384" y="192"/>
                </a:lnTo>
                <a:lnTo>
                  <a:pt x="480" y="480"/>
                </a:lnTo>
                <a:lnTo>
                  <a:pt x="576" y="624"/>
                </a:lnTo>
                <a:lnTo>
                  <a:pt x="768" y="672"/>
                </a:lnTo>
                <a:lnTo>
                  <a:pt x="1056" y="720"/>
                </a:lnTo>
                <a:lnTo>
                  <a:pt x="1152" y="720"/>
                </a:lnTo>
                <a:lnTo>
                  <a:pt x="1248" y="72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532560" y="5157720"/>
            <a:ext cx="1981080" cy="1087560"/>
          </a:xfrm>
          <a:custGeom>
            <a:avLst/>
            <a:gdLst/>
            <a:ahLst/>
            <a:rect l="l" t="t" r="r" b="b"/>
            <a:pathLst>
              <a:path w="1248" h="720">
                <a:moveTo>
                  <a:pt x="0" y="720"/>
                </a:moveTo>
                <a:lnTo>
                  <a:pt x="144" y="288"/>
                </a:lnTo>
                <a:lnTo>
                  <a:pt x="288" y="0"/>
                </a:lnTo>
                <a:lnTo>
                  <a:pt x="384" y="192"/>
                </a:lnTo>
                <a:lnTo>
                  <a:pt x="480" y="480"/>
                </a:lnTo>
                <a:lnTo>
                  <a:pt x="576" y="624"/>
                </a:lnTo>
                <a:lnTo>
                  <a:pt x="768" y="672"/>
                </a:lnTo>
                <a:lnTo>
                  <a:pt x="1056" y="720"/>
                </a:lnTo>
                <a:lnTo>
                  <a:pt x="1152" y="720"/>
                </a:lnTo>
                <a:lnTo>
                  <a:pt x="1248" y="72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56240" y="6093000"/>
            <a:ext cx="21337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456240" y="5024520"/>
            <a:ext cx="1800" cy="106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56240" y="5481720"/>
            <a:ext cx="15264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6608880" y="5176800"/>
            <a:ext cx="152280" cy="30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61160" y="5178600"/>
            <a:ext cx="249120" cy="46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010280" y="56386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142040" y="58644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446960" y="6016680"/>
            <a:ext cx="3808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532560" y="5329080"/>
            <a:ext cx="1440" cy="76536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532560" y="5330880"/>
            <a:ext cx="457200" cy="144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010280" y="5334120"/>
            <a:ext cx="1800" cy="76176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227640" y="60930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294680" y="60930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6200000">
            <a:off x="5695200" y="548208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umber of 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195640" y="3500280"/>
            <a:ext cx="6480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First step: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1 MeV neutrons on 74Ge (with and without PHDE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596 keV from the center of Ag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riteria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small energy deposition produced by neutr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ion of the gam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300720" y="6381720"/>
            <a:ext cx="23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eutron Energy (MeV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280" y="5410080"/>
            <a:ext cx="495324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Second step: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1 – 5 MeV neutrons on nat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= 5 k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n, M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8915400" cy="42386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560" y="-76680"/>
            <a:ext cx="8458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umber of interaction points in 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fter trac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257800" y="1738440"/>
            <a:ext cx="803160" cy="28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3276720"/>
            <a:ext cx="1989360" cy="234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596 keV gam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66880" y="3809880"/>
            <a:ext cx="1951200" cy="3081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1 MeV neut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1676160" y="4114800"/>
            <a:ext cx="990360" cy="4572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1523880" y="3581280"/>
            <a:ext cx="317520" cy="424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197000"/>
            <a:ext cx="1152720" cy="1079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23880" y="2271600"/>
            <a:ext cx="419400" cy="565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35280" y="1773360"/>
            <a:ext cx="69840" cy="93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923640" y="141300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908000" y="1482480"/>
            <a:ext cx="1990800" cy="28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3995640" y="1195560"/>
            <a:ext cx="138240" cy="21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95640" y="1484280"/>
            <a:ext cx="314280" cy="1890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1828800"/>
            <a:ext cx="2438280" cy="2286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91628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Times New Roman"/>
              </a:rPr>
              <a:t>596 keV gam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484360" y="1341360"/>
            <a:ext cx="57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35640" y="3284640"/>
            <a:ext cx="158436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90792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18840" y="1295280"/>
            <a:ext cx="136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cc0000"/>
                </a:solidFill>
                <a:latin typeface="Times New Roman"/>
              </a:rPr>
              <a:t>596 keV gam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362320"/>
            <a:ext cx="17524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-211320" y="2878200"/>
            <a:ext cx="106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ou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6400800"/>
            <a:ext cx="380988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umber of interactio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4191120" y="1981080"/>
            <a:ext cx="380880" cy="763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267080" y="1600200"/>
            <a:ext cx="304920" cy="763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1280" y="1447920"/>
            <a:ext cx="4500720" cy="4303440"/>
          </a:xfrm>
          <a:prstGeom prst="rect">
            <a:avLst/>
          </a:prstGeom>
          <a:ln w="9360">
            <a:solidFill>
              <a:srgbClr val="008000"/>
            </a:solidFill>
            <a:round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334800"/>
            <a:ext cx="7772400" cy="8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coil Energy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astic scattering of 1- 5 MeV neutrons on Ge isoto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146560" y="1700280"/>
            <a:ext cx="3457800" cy="3527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653080" y="1413000"/>
            <a:ext cx="23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EN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58920" y="5734080"/>
            <a:ext cx="172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Ge recoil energy Erec (ke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6200000">
            <a:off x="3979440" y="3721320"/>
            <a:ext cx="106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u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8120" y="1828800"/>
            <a:ext cx="838080" cy="1388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1 M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6666ff"/>
                </a:solidFill>
                <a:latin typeface="Times New Roman"/>
              </a:rPr>
              <a:t>2 M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ff66cc"/>
                </a:solidFill>
                <a:latin typeface="Times New Roman"/>
              </a:rPr>
              <a:t>3 M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Times New Roman"/>
              </a:rPr>
              <a:t>4 M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8000"/>
                </a:solidFill>
                <a:latin typeface="Times New Roman"/>
              </a:rPr>
              <a:t>5 M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19520" y="1981080"/>
            <a:ext cx="22860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19520" y="228600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19520" y="2514600"/>
            <a:ext cx="228600" cy="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19520" y="2819520"/>
            <a:ext cx="2286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19520" y="3048120"/>
            <a:ext cx="2286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79280" y="2133720"/>
            <a:ext cx="4248360" cy="41781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coil Energy</a:t>
            </a:r>
            <a:br>
              <a:rPr sz="32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elastic scattering of 1- 5 MeV neutrons on nat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609588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00400" y="6172200"/>
            <a:ext cx="609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2743200"/>
            <a:ext cx="9907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Times New Roman"/>
              </a:rPr>
              <a:t>1 M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2895480"/>
            <a:ext cx="10670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601992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0" y="3124080"/>
            <a:ext cx="1371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924680" y="6095880"/>
            <a:ext cx="22860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16200000">
            <a:off x="8375400" y="41907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90920" y="3048120"/>
            <a:ext cx="380880" cy="144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90920" y="3276720"/>
            <a:ext cx="380880" cy="1440"/>
          </a:xfrm>
          <a:prstGeom prst="line">
            <a:avLst/>
          </a:prstGeom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90920" y="3581280"/>
            <a:ext cx="380880" cy="1800"/>
          </a:xfrm>
          <a:prstGeom prst="line">
            <a:avLst/>
          </a:prstGeom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90920" y="3809880"/>
            <a:ext cx="380880" cy="1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66880" y="4038480"/>
            <a:ext cx="381240" cy="18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8120" y="312408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8120" y="32004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60880" y="3876840"/>
            <a:ext cx="168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76720" y="3886200"/>
            <a:ext cx="168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8120" y="3124080"/>
            <a:ext cx="838080" cy="1110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6666ff"/>
                </a:solidFill>
                <a:latin typeface="Times New Roman"/>
              </a:rPr>
              <a:t>2 M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ff66cc"/>
                </a:solidFill>
                <a:latin typeface="Times New Roman"/>
              </a:rPr>
              <a:t>3 M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Times New Roman"/>
              </a:rPr>
              <a:t>4 M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8000"/>
                </a:solidFill>
                <a:latin typeface="Times New Roman"/>
              </a:rPr>
              <a:t>5 M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66880" y="2819520"/>
            <a:ext cx="38124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81240" y="24922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19520" y="2971800"/>
            <a:ext cx="22860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643280" y="2133720"/>
            <a:ext cx="4500720" cy="4174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523880" y="220968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phd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172200" y="2209680"/>
            <a:ext cx="1447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d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6840720" cy="48006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492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mma-ray spectra after tracking (mgt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MeV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utrons on 74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no phd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451640" y="1484280"/>
            <a:ext cx="151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67640" y="2421000"/>
            <a:ext cx="576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67640" y="1989000"/>
            <a:ext cx="577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67640" y="1557360"/>
            <a:ext cx="576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244000" y="227664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172360" y="17733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066160" y="141300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2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956720" y="1989000"/>
            <a:ext cx="1440" cy="4320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67640" y="256536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74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076720" y="515772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9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58920" y="5157720"/>
            <a:ext cx="43164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66920" y="16416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 = 6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11280" y="2852640"/>
            <a:ext cx="86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40000" y="243360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340000" y="315432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68360" y="3801960"/>
            <a:ext cx="7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40000" y="45943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340000" y="517032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5280" y="6308640"/>
            <a:ext cx="439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 = number of interaction point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291280" y="162864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80000" y="1268280"/>
            <a:ext cx="7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u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209680" y="5181480"/>
            <a:ext cx="9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596 k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438280" y="1066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38080" y="5334120"/>
            <a:ext cx="9144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4343400"/>
            <a:ext cx="7621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 =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38080" y="3429000"/>
            <a:ext cx="9144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 =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38080" y="2514600"/>
            <a:ext cx="9144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 =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523880"/>
            <a:ext cx="6858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 =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38080" y="609480"/>
            <a:ext cx="8384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 =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90920" y="880920"/>
            <a:ext cx="9144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 k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781680" y="304920"/>
            <a:ext cx="198144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MeV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utrons on 74G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no ph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859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teria 1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ergy of the first and second interaction points</a:t>
            </a:r>
            <a:br>
              <a:rPr sz="28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utrons and gammas  on 74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8136000" cy="4896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403280" y="23493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Times New Roman"/>
              </a:rPr>
              <a:t>1 MeV neutr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02480" y="306864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Times New Roman"/>
              </a:rPr>
              <a:t>596 keV gam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1546200" y="2781360"/>
            <a:ext cx="434880" cy="2160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2266920" y="3357720"/>
            <a:ext cx="434880" cy="288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463760" y="472428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Times New Roman"/>
              </a:rPr>
              <a:t>1 MeV neutr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050920" y="522936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Times New Roman"/>
              </a:rPr>
              <a:t>596 keV gam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1401840" y="5013360"/>
            <a:ext cx="434880" cy="287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2409840" y="5516640"/>
            <a:ext cx="147600" cy="2174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348000" y="654840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Energy (ke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16200000">
            <a:off x="101880" y="493488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u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32360" y="2492280"/>
            <a:ext cx="1944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Efir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n = 2 -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35640" y="4653000"/>
            <a:ext cx="1368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Esec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n = 3 -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3733920"/>
            <a:ext cx="20520" cy="250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yse</dc:creator>
  <dc:description/>
  <dc:language>en-US</dc:language>
  <cp:lastModifiedBy>ayse</cp:lastModifiedBy>
  <dcterms:modified xsi:type="dcterms:W3CDTF">2008-07-07T13:27:54Z</dcterms:modified>
  <cp:revision>32</cp:revision>
  <dc:subject/>
  <dc:title>1 MeV Neutrons on 74Ge Eth = 5keV</dc:title>
</cp:coreProperties>
</file>