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44FA-CC81-45A1-B7CD-95563203C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2708-2417-4044-8AE2-B30BA09F39C1}" type="slidenum">
              <a:rPr b="1" lang="de-D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971C-86F6-46CF-B8A9-93532876CFB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AAA-9F1F-4F09-9969-0358482AA8F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8E6-151D-4BAA-BC0A-3869C2500A2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1C6-B8F5-445B-AA48-3E3461F9BEA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F158-A336-48D7-8113-3BF583CAAD7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957-43FB-4631-A06A-6A8AA52EC1C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C59-2116-4F4A-8F03-F74AF0E92C1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224A-A129-47BA-BE7E-44E432D7361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3DE-84FE-4830-B068-7174C926742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783-97A9-4F58-9142-3078FA39DDD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1CBC-A479-4583-8CCD-9DF3F30571D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DF0C-42F6-48C3-AB1F-1B88C4B959D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B4F-8C71-42B0-8A64-746118300F9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65A5-F188-4156-82DB-C6526860335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6F33-0B4F-46EA-8E27-72847B7E2D9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D8A-F283-4B2B-BE97-2EB11DF4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AB8-71AA-4908-9967-39AAF29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FEB-F815-44F1-8779-82CF429D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878-D3AB-46A0-BE26-AA346902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017-8E3B-4457-8F85-83F951DD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193-3241-42C5-AEA2-F5026AF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7C72-4F4D-4E50-A3E7-199613A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168A-5E1F-42CE-9699-30EEFD0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DC5F-3403-4E86-A84C-AEB2A09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12A-C7E2-430C-86CF-7DB34F2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3E7-27D1-4E0A-8DBA-801457C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DB5-9D57-4592-B0A0-661E8F1F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3A0-E414-4021-AC4E-2E21F50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50C0-C030-4693-BD75-3E85903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D88-B1FF-4DFA-8CB2-9DE6BC0B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A98-00AA-4D36-AFF5-5BA3170B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8CF5-C2C2-45F0-9FE5-35053682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CFF-0874-48E7-A8C9-535525F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0F4-5E96-474D-BC42-2A198D7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2C3-4FF0-4ECA-B51B-5A37AC9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5AB-B0F0-448B-B0F7-9FD17F17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1F8-266F-45DD-A4CD-7737479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7D6-0584-40AA-9253-8B97CAA1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2FC-1A8F-497C-943A-CB3B93B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A64-8FF6-4216-B7F7-44FE17E68C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F3D-B41F-4A30-B7DE-7E1B42F2DE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6715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tectors and Preampl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2714400"/>
            <a:ext cx="8359560" cy="28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ctor deli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 Acceptanc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l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ATA tripl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an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215120" y="115920"/>
            <a:ext cx="1765440" cy="24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163440" y="163440"/>
            <a:ext cx="1395360" cy="76536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245160" y="6286680"/>
            <a:ext cx="86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. Reiter IKP University Cologne               AGATA week 8-11 July 2008 Uppsa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961920" y="141120"/>
            <a:ext cx="735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1</a:t>
            </a:r>
            <a:r>
              <a:rPr b="0" lang="en-GB" sz="2900" spc="-1" strike="noStrike" u="sng" baseline="30000">
                <a:solidFill>
                  <a:srgbClr val="000080"/>
                </a:solidFill>
                <a:uFillTx/>
                <a:latin typeface="Arial"/>
              </a:rPr>
              <a:t>st</a:t>
            </a: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 Tripel Cluster Energies: 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-1440" y="850680"/>
            <a:ext cx="9144000" cy="3069000"/>
            <a:chOff x="-1440" y="850680"/>
            <a:chExt cx="9144000" cy="3069000"/>
          </a:xfrm>
        </p:grpSpPr>
        <p:graphicFrame>
          <p:nvGraphicFramePr>
            <p:cNvPr id="124" name="Object 4"/>
            <p:cNvGraphicFramePr/>
            <p:nvPr/>
          </p:nvGraphicFramePr>
          <p:xfrm>
            <a:off x="262080" y="1170000"/>
            <a:ext cx="4451040" cy="2744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170000"/>
                      <a:ext cx="445104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Object 5"/>
            <p:cNvGraphicFramePr/>
            <p:nvPr/>
          </p:nvGraphicFramePr>
          <p:xfrm>
            <a:off x="4691160" y="1174680"/>
            <a:ext cx="4451400" cy="274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91160" y="1174680"/>
                      <a:ext cx="4451400" cy="274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Text Box 6"/>
            <p:cNvSpPr/>
            <p:nvPr/>
          </p:nvSpPr>
          <p:spPr>
            <a:xfrm rot="16200000">
              <a:off x="-924120" y="1773360"/>
              <a:ext cx="21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001 – FWHM [keV]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-9720" y="2608200"/>
            <a:ext cx="9152280" cy="2779920"/>
            <a:chOff x="-9720" y="2608200"/>
            <a:chExt cx="9152280" cy="2779920"/>
          </a:xfrm>
        </p:grpSpPr>
        <p:sp>
          <p:nvSpPr>
            <p:cNvPr id="130" name="Text Box 8"/>
            <p:cNvSpPr/>
            <p:nvPr/>
          </p:nvSpPr>
          <p:spPr>
            <a:xfrm rot="16163400">
              <a:off x="-766440" y="337608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002 – FWHM [keV]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Object 9"/>
            <p:cNvGraphicFramePr/>
            <p:nvPr/>
          </p:nvGraphicFramePr>
          <p:xfrm>
            <a:off x="4691160" y="2638440"/>
            <a:ext cx="4451400" cy="27446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3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1160" y="2638440"/>
                      <a:ext cx="445140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0"/>
            <p:cNvGraphicFramePr/>
            <p:nvPr/>
          </p:nvGraphicFramePr>
          <p:xfrm>
            <a:off x="258840" y="2643120"/>
            <a:ext cx="4451400" cy="27450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3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8840" y="2643120"/>
                      <a:ext cx="4451400" cy="274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5" name="Group 11"/>
          <p:cNvGrpSpPr/>
          <p:nvPr/>
        </p:nvGrpSpPr>
        <p:grpSpPr>
          <a:xfrm>
            <a:off x="4680" y="4110120"/>
            <a:ext cx="9142560" cy="2744640"/>
            <a:chOff x="4680" y="4110120"/>
            <a:chExt cx="9142560" cy="2744640"/>
          </a:xfrm>
        </p:grpSpPr>
        <p:graphicFrame>
          <p:nvGraphicFramePr>
            <p:cNvPr id="136" name="Object 12"/>
            <p:cNvGraphicFramePr/>
            <p:nvPr/>
          </p:nvGraphicFramePr>
          <p:xfrm>
            <a:off x="4695840" y="4111560"/>
            <a:ext cx="4451400" cy="27432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37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95840" y="4111560"/>
                      <a:ext cx="44514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13"/>
            <p:cNvGraphicFramePr/>
            <p:nvPr/>
          </p:nvGraphicFramePr>
          <p:xfrm>
            <a:off x="262080" y="4110120"/>
            <a:ext cx="4451040" cy="27446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139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2080" y="4110120"/>
                      <a:ext cx="445104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Text Box 14"/>
            <p:cNvSpPr/>
            <p:nvPr/>
          </p:nvSpPr>
          <p:spPr>
            <a:xfrm rot="16178400">
              <a:off x="-917280" y="5271480"/>
              <a:ext cx="21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002 – FWHM [keV]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5"/>
          <p:cNvSpPr/>
          <p:nvPr/>
        </p:nvSpPr>
        <p:spPr>
          <a:xfrm>
            <a:off x="395280" y="74628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60k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830840" y="766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1.33M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0"/>
          <p:cNvGraphicFramePr/>
          <p:nvPr/>
        </p:nvGraphicFramePr>
        <p:xfrm>
          <a:off x="0" y="260280"/>
          <a:ext cx="9144000" cy="28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5"/>
          <p:cNvSpPr/>
          <p:nvPr/>
        </p:nvSpPr>
        <p:spPr>
          <a:xfrm>
            <a:off x="961920" y="141120"/>
            <a:ext cx="735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2</a:t>
            </a:r>
            <a:r>
              <a:rPr b="0" lang="en-GB" sz="2900" spc="-1" strike="noStrike" u="sng" baseline="30000">
                <a:solidFill>
                  <a:srgbClr val="000080"/>
                </a:solidFill>
                <a:uFillTx/>
                <a:latin typeface="Arial"/>
              </a:rPr>
              <a:t>nd</a:t>
            </a: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 Tripel Cluster Energies: 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 rot="16200000">
            <a:off x="-767160" y="2076120"/>
            <a:ext cx="212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3 FWHM [keV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2"/>
          <p:cNvGraphicFramePr/>
          <p:nvPr/>
        </p:nvGraphicFramePr>
        <p:xfrm>
          <a:off x="0" y="2060640"/>
          <a:ext cx="9144000" cy="301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60640"/>
                    <a:ext cx="914400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8"/>
          <p:cNvGraphicFramePr/>
          <p:nvPr/>
        </p:nvGraphicFramePr>
        <p:xfrm>
          <a:off x="0" y="4149720"/>
          <a:ext cx="9144000" cy="2708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49720"/>
                    <a:ext cx="914400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9"/>
          <p:cNvSpPr/>
          <p:nvPr/>
        </p:nvSpPr>
        <p:spPr>
          <a:xfrm rot="16200000">
            <a:off x="-2748240" y="3259440"/>
            <a:ext cx="605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004 FWHM [keV]      B003 FWHM [keV]     A003 FWHM [keV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948360" y="1052640"/>
            <a:ext cx="20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k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961920" y="1411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Tripel Cluster Energy resolution: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11280" y="1214280"/>
            <a:ext cx="7993080" cy="587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xcelle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energy 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wo AGATA triple clus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an values segments @ 60 keV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pecially at low energies (electronic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noi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lued detecto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 microph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K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TA pream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ic assembly (grounding, cabl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14840" y="2492280"/>
            <a:ext cx="3173760" cy="1557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1 : 1011 +/- 53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2 : 1039 +/- 70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2 :   965 +/- 63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009760" y="2492280"/>
            <a:ext cx="3630960" cy="155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ond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3 : 1052 +/-  65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3 :   995 +/-  73 eV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4 : 1148 +/- 104 eV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369680" y="420228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* high frequency oscillation to be remo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ross talk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 rot="16200000">
            <a:off x="4098240" y="2583360"/>
            <a:ext cx="2438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Xtal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= understoo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rcRect l="0" t="0" r="1215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16"/>
          <p:cNvSpPr/>
          <p:nvPr/>
        </p:nvSpPr>
        <p:spPr>
          <a:xfrm>
            <a:off x="5441400" y="62866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art Bruyneel, Andreas Wie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558720" y="-65160"/>
          <a:ext cx="7952040" cy="677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-65160"/>
                    <a:ext cx="79520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4495680" y="1523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mallest capacities in ring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952640" y="2181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A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52720" y="1857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B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81600" y="1895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C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00076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D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0199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E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048440" y="189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F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1981080" y="213372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971800" y="182880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38480" y="1752480"/>
            <a:ext cx="533520" cy="7621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5029200" y="197172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6095880" y="1905120"/>
            <a:ext cx="457200" cy="838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7115040" y="1905120"/>
            <a:ext cx="457200" cy="838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10960" y="22860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talk in first AGATA Triple Cryost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1208160" y="1249200"/>
          <a:ext cx="767880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24920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"/>
          <p:cNvGraphicFramePr/>
          <p:nvPr/>
        </p:nvGraphicFramePr>
        <p:xfrm>
          <a:off x="1104840" y="4861080"/>
          <a:ext cx="767880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486108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1152360" y="3051000"/>
          <a:ext cx="7678800" cy="1828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305100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6"/>
          <p:cNvSpPr/>
          <p:nvPr/>
        </p:nvSpPr>
        <p:spPr>
          <a:xfrm flipH="1">
            <a:off x="3790440" y="941400"/>
            <a:ext cx="180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190600" y="838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146480" y="8794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273720" y="866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5781240" y="942840"/>
            <a:ext cx="1800" cy="575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7763040" y="930240"/>
            <a:ext cx="144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7923240" y="930240"/>
            <a:ext cx="144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8083080" y="930240"/>
            <a:ext cx="180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7391520" y="2300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7543800" y="2300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 rot="16200000">
            <a:off x="7377120" y="3976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 rot="16200000">
            <a:off x="7529760" y="3976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 rot="16200000">
            <a:off x="7377120" y="5729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 rot="16200000">
            <a:off x="7529760" y="5729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 rot="16200000">
            <a:off x="2181240" y="213336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 rot="16200000">
            <a:off x="3200400" y="213336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1905120" y="27432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2895480" y="27432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6200000">
            <a:off x="4162320" y="15235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5"/>
          <p:cNvSpPr/>
          <p:nvPr/>
        </p:nvSpPr>
        <p:spPr>
          <a:xfrm rot="16200000">
            <a:off x="5181480" y="15235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886200" y="2133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4876920" y="2133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8"/>
          <p:cNvSpPr/>
          <p:nvPr/>
        </p:nvSpPr>
        <p:spPr>
          <a:xfrm rot="16200000">
            <a:off x="6172200" y="1508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9"/>
          <p:cNvSpPr/>
          <p:nvPr/>
        </p:nvSpPr>
        <p:spPr>
          <a:xfrm rot="16200000">
            <a:off x="7191360" y="1508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5896080" y="2117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6886440" y="2117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 rot="16200000">
            <a:off x="348840" y="20066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 rot="16200000">
            <a:off x="349200" y="37274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 rot="95400">
            <a:off x="1109160" y="893520"/>
            <a:ext cx="152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 rot="16200000">
            <a:off x="348840" y="55213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 flipV="1">
            <a:off x="704880" y="4874760"/>
            <a:ext cx="8157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 flipV="1">
            <a:off x="703440" y="3071880"/>
            <a:ext cx="8157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8196120" y="893880"/>
            <a:ext cx="9144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042920" y="189000"/>
            <a:ext cx="5181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AGATA Triple Clusters: Summary &amp; outlook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24000" y="696960"/>
            <a:ext cx="44193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wo AGATA Triple Cluster Detectors operation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rst &amp; second triple: cryostat, mechanics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cuum, thermal properties of preamps o.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eg-preamps, core preamps &amp; puls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high dynamic range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very good energy resolution at low ener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o cross talk betwee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ctors observ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C between det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ommissioning of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C ongo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DSC00025"/>
          <p:cNvPicPr/>
          <p:nvPr/>
        </p:nvPicPr>
        <p:blipFill>
          <a:blip r:embed="rId1"/>
          <a:srcRect l="7145" t="0" r="3570" b="9525"/>
          <a:stretch/>
        </p:blipFill>
        <p:spPr>
          <a:xfrm>
            <a:off x="-19080" y="2901960"/>
            <a:ext cx="5257800" cy="39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DSC00028"/>
          <p:cNvPicPr/>
          <p:nvPr/>
        </p:nvPicPr>
        <p:blipFill>
          <a:blip r:embed="rId2"/>
          <a:srcRect l="25000" t="9524" r="14284" b="4762"/>
          <a:stretch/>
        </p:blipFill>
        <p:spPr>
          <a:xfrm>
            <a:off x="5307120" y="289548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932360" y="1052640"/>
            <a:ext cx="421164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ransport of 1st ATC to Legnaro, first tes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digital electronics at Legnaro July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nish commissioning of 2nd ATC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oss talk te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sembly of 3rd ATC constrain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detecto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019920" y="40989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772400" y="5470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3"/>
          <p:cNvSpPr/>
          <p:nvPr/>
        </p:nvSpPr>
        <p:spPr>
          <a:xfrm>
            <a:off x="928800" y="3214800"/>
            <a:ext cx="7286400" cy="2071440"/>
          </a:xfrm>
          <a:prstGeom prst="rect">
            <a:avLst/>
          </a:prstGeom>
          <a:solidFill>
            <a:srgbClr val="33cc33">
              <a:alpha val="2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2"/>
          <p:cNvSpPr/>
          <p:nvPr/>
        </p:nvSpPr>
        <p:spPr>
          <a:xfrm>
            <a:off x="928800" y="571680"/>
            <a:ext cx="7286400" cy="2643120"/>
          </a:xfrm>
          <a:prstGeom prst="rect">
            <a:avLst/>
          </a:prstGeom>
          <a:solidFill>
            <a:srgbClr val="ff3300">
              <a:alpha val="2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00000" y="177840"/>
          <a:ext cx="7315200" cy="660888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1370160"/>
                <a:gridCol w="4000320"/>
              </a:tblGrid>
              <a:tr h="352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hole trapp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egments out of spec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4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IKP, Colog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 &amp; IK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1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egments out of spec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missing segment in capsu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4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IKP, Colog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</a:t>
                      </a: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roken,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hteck 4"/>
          <p:cNvSpPr/>
          <p:nvPr/>
        </p:nvSpPr>
        <p:spPr>
          <a:xfrm>
            <a:off x="928800" y="5286240"/>
            <a:ext cx="7286400" cy="1571760"/>
          </a:xfrm>
          <a:prstGeom prst="rect">
            <a:avLst/>
          </a:prstGeom>
          <a:solidFill>
            <a:srgbClr val="0000ff">
              <a:alpha val="1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928800" y="177840"/>
          <a:ext cx="7315200" cy="6608880"/>
        </p:xfrm>
        <a:graphic>
          <a:graphicData uri="http://schemas.openxmlformats.org/drawingml/2006/table">
            <a:tbl>
              <a:tblPr/>
              <a:tblGrid>
                <a:gridCol w="936360"/>
                <a:gridCol w="1008360"/>
                <a:gridCol w="1355760"/>
                <a:gridCol w="4014720"/>
              </a:tblGrid>
              <a:tr h="352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bgerundetes Rechteck 5"/>
          <p:cNvSpPr/>
          <p:nvPr/>
        </p:nvSpPr>
        <p:spPr>
          <a:xfrm>
            <a:off x="1000080" y="5072040"/>
            <a:ext cx="6286680" cy="15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bgerundetes Rechteck 4"/>
          <p:cNvSpPr/>
          <p:nvPr/>
        </p:nvSpPr>
        <p:spPr>
          <a:xfrm>
            <a:off x="1000080" y="2571840"/>
            <a:ext cx="6286680" cy="157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bgerundetes Rechteck 3"/>
          <p:cNvSpPr/>
          <p:nvPr/>
        </p:nvSpPr>
        <p:spPr>
          <a:xfrm>
            <a:off x="1000080" y="857160"/>
            <a:ext cx="6286680" cy="15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28800" y="285840"/>
            <a:ext cx="73562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Recent detector tests and future deliver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1320" y="836640"/>
            <a:ext cx="6818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urkish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4 (repaired) delivered to IKP, Cologne, test sta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004 (repaired) delivered July, 1st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ipment of A004, B004, C004 to Turkey autumn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dish detect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5, B005, C005 tests ongoing at C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st results of A005 to be confirmed at IKP, Cologn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st of B005 sta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verpool detector C003: leakage current, out of warran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ian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006 announced delivery July (week 29)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6 announced delivery July (week 31)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1 announced delivery 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961920" y="142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ummary available detector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3"/>
          <p:cNvSpPr/>
          <p:nvPr/>
        </p:nvSpPr>
        <p:spPr>
          <a:xfrm>
            <a:off x="638640" y="714240"/>
            <a:ext cx="84132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detectors accepted (A1,A2,A3 B2,B3 C1,C2,C4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detector to be repaired at Canberra (B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detectors ongoing test (A4, A5, B4, B5, C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detector broken (C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(Sweden A005, B005, C005) ongoing CAT at Sac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(Turkey A004, B004) ongoing CAT at Colog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Italy C001) scanning at Liverpool until Ju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Italy B001) not accepted after CAT, not repa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UK C003) is broken after CAT, needs repa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(Turkey A004, B004, C004) are shipped to Turkey fall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moment 6 detectors are available for AGATA triple cluster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001, A002, A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800" spc="-1" strike="noStrike">
                <a:solidFill>
                  <a:srgbClr val="33cc33"/>
                </a:solidFill>
                <a:latin typeface="Arial"/>
              </a:rPr>
              <a:t>B002, B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00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961920" y="304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AGATA triple cluster detector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38960" y="1071720"/>
            <a:ext cx="2840040" cy="2654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GATA triple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1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2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2 :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oes to Legna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0" y="1071720"/>
            <a:ext cx="4286160" cy="2654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ond AGATA 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3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3 :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C00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oes to Turkey in fall 2008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d by C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28840" y="4071960"/>
            <a:ext cx="7215120" cy="265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ird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2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B005 or B001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C001: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B005 after test or B001 after delivery &amp;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* C001 after scan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961920" y="304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canning program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54080" y="1071720"/>
            <a:ext cx="3007800" cy="30200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C00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*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00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to IKP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of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 cluster by C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572000" y="1071720"/>
            <a:ext cx="428616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s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002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Arial"/>
              </a:rPr>
              <a:t>B00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ing, confi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rpool resul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5104440" y="4071960"/>
            <a:ext cx="324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e talks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Bost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. Uns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Koric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. Cres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ursday, 14:00-15: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llipse 5"/>
          <p:cNvSpPr/>
          <p:nvPr/>
        </p:nvSpPr>
        <p:spPr>
          <a:xfrm>
            <a:off x="3643200" y="5357880"/>
            <a:ext cx="571680" cy="50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4"/>
          <p:cNvSpPr/>
          <p:nvPr/>
        </p:nvSpPr>
        <p:spPr>
          <a:xfrm>
            <a:off x="6500880" y="4572000"/>
            <a:ext cx="57132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llipse 3"/>
          <p:cNvSpPr/>
          <p:nvPr/>
        </p:nvSpPr>
        <p:spPr>
          <a:xfrm>
            <a:off x="6429240" y="38577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28800" y="214200"/>
            <a:ext cx="7356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Future detector tests and triple assembl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bgerundetes Rechteck 6"/>
          <p:cNvSpPr/>
          <p:nvPr/>
        </p:nvSpPr>
        <p:spPr>
          <a:xfrm>
            <a:off x="928800" y="928800"/>
            <a:ext cx="621504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3"/>
          <p:cNvSpPr/>
          <p:nvPr/>
        </p:nvSpPr>
        <p:spPr>
          <a:xfrm>
            <a:off x="1071720" y="100008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s for period fall and winter 2008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 detectors may be availab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1,  A2,  A3,  A5,  A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1,  B2,  B3,  B5,  B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1,  C2,  C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6,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1, B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y 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livery of turkish detectors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B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4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y - June 2009  italian detectors 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7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repair of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er 2008 order of german detectors 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B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928800" y="214200"/>
            <a:ext cx="7356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3"/>
          <p:cNvSpPr/>
          <p:nvPr/>
        </p:nvSpPr>
        <p:spPr>
          <a:xfrm>
            <a:off x="1357200" y="1263600"/>
            <a:ext cx="45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s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Wiens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Goergen, CEA Sac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Quirion, Canber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 Bruyneel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. Pascovici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4:54:59Z</dcterms:created>
  <dc:creator>Peter Reiter</dc:creator>
  <dc:description/>
  <dc:language>en-US</dc:language>
  <cp:lastModifiedBy>preiter</cp:lastModifiedBy>
  <dcterms:modified xsi:type="dcterms:W3CDTF">2008-07-09T08:35:21Z</dcterms:modified>
  <cp:revision>78</cp:revision>
  <dc:subject/>
  <dc:title>Folie 1</dc:title>
</cp:coreProperties>
</file>