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BA0-A622-41EA-9567-C1C20EA2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4360" y="403596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70B-5D71-4AA2-80B6-A7D31AEB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4360" y="403596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7040" y="403596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29A-0A8B-4D5E-8E78-6A6175C7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4360" y="403596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2360" y="403596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0000" y="403596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2837-A397-4E59-B511-2F587D91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389-08B8-4A62-99EA-D7786975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F47-F246-4A7C-A414-00B82F28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23A-8969-48F0-BE9C-1EAEFA1B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01C-1681-4069-8EEE-92A74053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16000" y="-360"/>
            <a:ext cx="70200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516-1ED2-4F79-BF30-2EFB438A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03596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8A9-E21D-4629-9705-A0296E05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7040" y="403596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4F0-0648-4B1F-A477-B2FA0D3B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4360" y="403596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AE4-406D-491A-ABD1-F67EF0B7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ifj.edu.pl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2627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2366-EBFF-4FA3-977E-8A2B4ABD7140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. Czerm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3640" y="6552720"/>
            <a:ext cx="4897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F3CD-9DFC-4AA7-AD24-023F4D4B04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89000"/>
            <a:ext cx="9143640" cy="1008000"/>
            <a:chOff x="0" y="189000"/>
            <a:chExt cx="9143640" cy="1008000"/>
          </a:xfrm>
        </p:grpSpPr>
        <p:grpSp>
          <p:nvGrpSpPr>
            <p:cNvPr id="6" name=""/>
            <p:cNvGrpSpPr/>
            <p:nvPr/>
          </p:nvGrpSpPr>
          <p:grpSpPr>
            <a:xfrm>
              <a:off x="294840" y="292320"/>
              <a:ext cx="721440" cy="454680"/>
              <a:chOff x="294840" y="292320"/>
              <a:chExt cx="721440" cy="454680"/>
            </a:xfrm>
          </p:grpSpPr>
          <p:sp>
            <p:nvSpPr>
              <p:cNvPr id="7" name=""/>
              <p:cNvSpPr/>
              <p:nvPr/>
            </p:nvSpPr>
            <p:spPr>
              <a:xfrm>
                <a:off x="294840" y="292320"/>
                <a:ext cx="443880" cy="4546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83280" y="292320"/>
                <a:ext cx="333000" cy="454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420480" y="696600"/>
              <a:ext cx="748440" cy="454680"/>
              <a:chOff x="420480" y="696600"/>
              <a:chExt cx="748440" cy="454680"/>
            </a:xfrm>
          </p:grpSpPr>
          <p:sp>
            <p:nvSpPr>
              <p:cNvPr id="10" name=""/>
              <p:cNvSpPr/>
              <p:nvPr/>
            </p:nvSpPr>
            <p:spPr>
              <a:xfrm>
                <a:off x="420480" y="696600"/>
                <a:ext cx="427680" cy="4546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94520" y="696600"/>
                <a:ext cx="374400" cy="454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26760"/>
              <a:ext cx="568800" cy="404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44400" y="189000"/>
              <a:ext cx="32040" cy="10080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320760" y="975600"/>
              <a:ext cx="8822880" cy="52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" name="" descr="IFJ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85080" y="0"/>
            <a:ext cx="125892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1640" y="3933720"/>
            <a:ext cx="727236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dam Czerm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itute of Nuclear Physics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 PAN</a:t>
            </a:r>
            <a:r>
              <a:rPr b="0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omic Sans MS"/>
              </a:rPr>
              <a:t>Krakow, Po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28640"/>
            <a:ext cx="91440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atus of the Design &amp; Development of the AGAVA interface module.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_week_Uppsala 8-11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C46-0F2D-47F4-9E30-3652D01532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EC4B1-4700-48ED-93B3-C0AC0AAF12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6696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AGAVA – main feature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991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VME Standard</a:t>
            </a:r>
            <a:r>
              <a:rPr b="0" lang="pl-PL" sz="2600" spc="-1" strike="noStrike">
                <a:solidFill>
                  <a:srgbClr val="000000"/>
                </a:solidFill>
                <a:latin typeface="Comic Sans MS"/>
              </a:rPr>
              <a:t> module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compatible with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VXI Eurogam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mic Sans MS"/>
              </a:rPr>
              <a:t>AGAVA is t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he card is the carrier for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he GTS mezzanin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rd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eliver path for 151 signals from/to the GTS mezzanine to/from P1, P2 connectors and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mic Sans MS"/>
              </a:rPr>
              <a:t>AGAVA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Front Panel</a:t>
            </a:r>
            <a:r>
              <a:rPr b="0" lang="pl-PL" sz="2600" spc="-1" strike="noStrike">
                <a:solidFill>
                  <a:srgbClr val="000000"/>
                </a:solidFill>
                <a:latin typeface="Comic Sans MS"/>
              </a:rPr>
              <a:t> – I/O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nectors</a:t>
            </a:r>
            <a:r>
              <a:rPr b="0" lang="pl-PL" sz="2600" spc="-1" strike="noStrike">
                <a:solidFill>
                  <a:srgbClr val="000000"/>
                </a:solidFill>
                <a:latin typeface="Comic Sans MS"/>
              </a:rPr>
              <a:t> &amp; led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eliver 10W power @ 3.3 V to the GTS module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lso</a:t>
            </a:r>
            <a:r>
              <a:rPr b="0" lang="pl-PL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terface to the Metronome unit and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Shark-Link module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_week_Uppsala 8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ABC-5A93-4BBD-95B3-0EE9F0CA83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BA5EF-C97A-4D84-89BC-E12B44473B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GB" sz="3600" spc="-1" strike="noStrike">
                <a:solidFill>
                  <a:srgbClr val="3333cc"/>
                </a:solidFill>
                <a:latin typeface="Comic Sans MS"/>
              </a:rPr>
              <a:t>AGAVA –STATUS&amp; PLANS</a:t>
            </a: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post-prototype AGAVA modules have been produced and tested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(presentations of B.</a:t>
            </a:r>
            <a:r>
              <a:rPr b="0" lang="pl-PL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Dulnu, S. Brambilla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complete tests of the Ethernet link we ne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components and the GTS mezzanine card with the running system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acow group is ready to go to the partner’s lab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erform specific test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plan to perform all necessary tests till the end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 September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_week_Uppsala 8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C3C-6DE8-441B-A7C3-BDBBA6C200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28302-3539-4AE5-B89B-7BFDC822CC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6769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33cc"/>
                </a:solidFill>
                <a:latin typeface="Comic Sans MS"/>
              </a:rPr>
              <a:t>AGAVA –STATUS&amp; PLANS</a:t>
            </a:r>
            <a:endParaRPr b="1" lang="en-US" sz="39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sts are planed in GANIL and LNL during this summer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the second half of the yea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 plan</a:t>
            </a: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produce </a:t>
            </a: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8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 AGAVA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ule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Having the new GTS module in Craco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ould significantly increase our efficiency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_week_Uppsala 8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C87-793C-4EDF-BA73-B712DEDCA0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8613A-75DD-4961-B851-E63A25046F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21:38:38Z</dcterms:created>
  <dc:creator>Jacek Marczewski</dc:creator>
  <dc:description/>
  <dc:language>en-US</dc:language>
  <cp:lastModifiedBy>Adam</cp:lastModifiedBy>
  <dcterms:modified xsi:type="dcterms:W3CDTF">2008-07-09T07:24:42Z</dcterms:modified>
  <cp:revision>580</cp:revision>
  <dc:subject/>
  <dc:title>Monolithic Silicon Pixel Detectors in SOI Technology</dc:title>
</cp:coreProperties>
</file>