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516-419A-43DA-94A1-0E71D28C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BF9-73C3-49AB-B677-4B8B0B4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08B-4A28-4241-9452-4C6A7664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49E-5ABE-420C-A1D0-DA16D326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B1C-2C67-48F9-85F6-BD86AD6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A2D-A1C2-4DE0-931A-3A167D30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A59-CF65-4513-A0B6-3791440C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163-232B-49F6-9914-3B6EC251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73F-EADC-4B5D-83FE-C17067AA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93D-6257-4B41-8938-54D41B7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672-CDC0-43BE-9FB2-3ABDBB23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DA9-A51A-4C80-8EBD-A989777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7E52-40FD-4A3D-9CB1-A1325869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GATA Wee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psala, 8-11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3400"/>
            <a:ext cx="878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Recent DAQ integration test at L.N.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05-09 May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957480"/>
            <a:ext cx="763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 Bramb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N.F.N. Sezione di Mil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92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with the Struck SIS1100/SIS3100 PCI to VM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ace (optical 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916280"/>
            <a:ext cx="73915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 Se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tium 4 PC, 3.00 GHz, 1Mb RAM, SIS1100 pci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P environment and Kmax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ME Se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3100 with DSP (ADSP21061L), 512MB memory, NIM-EC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32 channel VME TDC (V87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32 channel VME ADC (V87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latency 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for local trigger and GTS latency 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for Trigger_Validation and Trigger_Reject from AGAVA board have been simulated using NIM EG&amp;G GG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_Request, Trigger_Validation and Trigger_Reject have been carried to the SIS3100 NIM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3114720"/>
          <a:ext cx="393084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14720"/>
                    <a:ext cx="39308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3114720"/>
          <a:ext cx="3930840" cy="21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14720"/>
                    <a:ext cx="39308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92080" y="762120"/>
            <a:ext cx="7567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SP is controlled by Kmax using common shar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SP receives triggers and organise data into memory in 4 buffers of 32000 long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cal events are composed of 12 longwords (8 data plus headers and trai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ffers are read by Kmax as single memory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gger_Reject has been done by 2 single broadcast DSP VM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st done both in single accesses and in CBLT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5840" y="784080"/>
            <a:ext cx="55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2064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st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277020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ME test bench from I.N.F.N. Milano has been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06560"/>
            <a:ext cx="67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eck the AGAVA CBLT functionalities at realistic trigger rate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1187280"/>
            <a:ext cx="67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obe the compatibility of the AGAVA production release with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ersion of  the GTS (GTS release 2), based on the Virtex 4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3130560"/>
            <a:ext cx="6409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RUCK SIS1100/SIS3100 PCI/cPCI to VME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GAVA board release 1 and 2, GTS release 1 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EN V775 32 channel T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EN V785 32 channel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EN V538A 8 channel NIM-ECL/ECL-NIM Trans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767120"/>
            <a:ext cx="64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BLT sequence: Agava, TDC,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5218200"/>
            <a:ext cx="64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IM Repetitive pulser at 2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620640"/>
            <a:ext cx="73454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ware enviro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max dedicated application was used to control the VME m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RUCK board is equipped with DSP, memory and NIM and EC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 Readout has been performed by the DSP (SHARC ADSP-21062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vents stored and presorted in circular buffers (800 events x buff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 Buffers readout and online sorting by kmax softw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3213000"/>
            <a:ext cx="73454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SP Acquisition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it local trigger (Struck Lemo1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it validation (Struck Lemo2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it AGAVA, TDC and ADC data ready (single vme ac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BLT or standard readout of AGAVA, TDC and ADC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tegrity check of the event (header, data and trai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eck event counter alignment for TDC and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ffer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45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933480"/>
            <a:ext cx="7345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st summ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cquisition rate ≈ 10KHz both in single and in CBLT ac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013120"/>
            <a:ext cx="64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ystem stability: 8 hours test without any problem (repeti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2516040"/>
            <a:ext cx="64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ll the ≈ 300 Ml. of events were good and well forma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3057480"/>
            <a:ext cx="64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ME standard compatibility tests and functionality of the AGAVA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dule with the GTS_2 has been 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384984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formation concerning event trigger and event validation were pa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rrectly between the AGAVA_2, GTS_2 and external LEMO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464184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nsistency of Local Trigger Tag / Validation Tag has been ver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(new GTS firmware was giving only valid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3080" y="1305000"/>
            <a:ext cx="129528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71640" y="3753000"/>
            <a:ext cx="129528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60720" y="1282680"/>
            <a:ext cx="45356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 End based on CAEN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775: 32 channels T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879: 32 channels T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785: 32 channels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878: 32 channels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792: 32 channels Q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812: 16 channels C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560: 16 channels sca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3716280"/>
            <a:ext cx="4321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o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E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cal link PCI to VME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to VME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EN V27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K SIS1100/SIS3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N.L. LINCO CMS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620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rdw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668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sts with CAEN V2718 PCI to VME controller have been 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20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xt t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22552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Use of a dedicated PCI I/O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ocal trigger, validation-reject trigger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ata ready, reset, fast clea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395520"/>
            <a:ext cx="73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Extended tests with high rate random pulser or detectors, both wit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S1100/SIS310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nd CAEN V2718 pci-to-VM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2924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ank you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0:58:35Z</dcterms:created>
  <dc:creator>Sergio Brambilla</dc:creator>
  <dc:description/>
  <dc:language>en-US</dc:language>
  <cp:lastModifiedBy>sergio</cp:lastModifiedBy>
  <dcterms:modified xsi:type="dcterms:W3CDTF">2008-07-05T08:04:05Z</dcterms:modified>
  <cp:revision>48</cp:revision>
  <dc:subject/>
  <dc:title>Diapositiva 1</dc:title>
</cp:coreProperties>
</file>