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559-87EC-4B8D-99D5-6B3603C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C33-5A4F-4B61-AC32-8091996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28-F658-4BFC-81B2-30DEFD8A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798-A8F0-4C15-BB37-7C28E9E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3459-060D-4CCD-A21C-D1A1722F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8EBD-48E4-4E01-AA01-5BD947F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DF5E-E93E-45E4-9FA8-B584C32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14DF-A418-49D9-98D4-64262FB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2E4-2AFE-49F7-ACC2-CB727E1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8A9-F20F-4BA5-B020-6676A15F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759A-52BD-4440-ACCC-F9D9D7DB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365-996C-40EC-9983-D2370D1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653-897C-4BF2-9300-8853AE7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017-485D-460B-BBF4-AF37AB0B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BCFB-1848-41A0-9AED-26E8053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0B1F-107D-4236-9182-C07F1251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7CF-6270-420A-A057-A78563E6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E58-DE46-4A75-8F6F-1656500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8D5-3B74-458B-95D8-C7D2D37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948-E101-4EC9-B5A6-E5E4E3A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9E7-5FBF-403B-B014-1ABD20D8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D4E-7FFE-4000-AF8F-E618DCAC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ED8-5B39-44A8-A68B-6ACD6D28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124-7C9C-4B78-8DA3-7B21652D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0AC-1E82-4970-BE1E-5849C37854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C54-B582-42BE-A453-D846736FEA5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A4F-E9A9-4A94-895E-27BA0DEA46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A313-8C86-42FE-BBCD-F98B798FC8D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1980720"/>
            <a:ext cx="53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GAVA INTERA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1960" y="5105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arbara Dul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C071-9149-4957-8A14-CA81268CAD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A12BCF-ED98-4786-8940-2BE3CF55DF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04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in VXI system at Ga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in CBLT mode at Legn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of new release of AGAVA with the new release of GTS mezzanine c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CE9-220F-4B30-A48F-24714498B7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0EEAC-1116-4AE0-9107-AC6B42DD87EC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in VXI system at Gan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of AGAVA in VXI environment done in October 2007 with Frederic Saillant and 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were not finished because of time limitation and have to be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greed to continue the tests with the new version of AG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AGAVA is ready for the tests since May 200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E2D-8264-4C78-AC7C-C7AF44A57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01533-18BA-4073-9524-BAFAED156AA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in CBLT mode at Legnar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st of CBLT mode was done in Legnaro on 5- 9 May 2008 with Sergio Brambi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was done 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ruck PCI/cPCI to VME interf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AVA board release 1 and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775 32 channel TD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785 32 channel AD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538A 8channel NIM-ECL/ECL-NIM Transl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AVA was the first, TDC intermediate, ADC last in the ch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trigger (~20kHz pulser) was used for AGAVA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MAX software was  used on the Struck for control and data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was running whole night (&gt;8 hours) with total acqusition rate ~1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79C-E3FA-4DBD-B223-EC79E03B0A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57E23-2C42-4713-9C7A-8FF54D257147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of new release of AGAVA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GAVA rel. 2 was tested in the same configuration as rel.1 in the CBLT mode and standard VME access mode successfu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he GTS release 1 (based on Virtex 2Pro) will be not produced anymore it was necessary to test AGAVA board with the new GTS release 2 (based on Virtex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sts of AGAVA release 1 and 2 with new GTS (release2) have been done in CBLT and standard mode success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st of the Ethernet connection to the GTS via AGAVA release 2 was not successful because there were still missing components on the AGAVA release 2 (promissed from GTS 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thernet connection test should be t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6FC-9E90-4266-B1CE-15313718C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38184-CB66-49F5-9471-9B8CC6B17A24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ests in the VXI environment at Ga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Ethernet connection to the GTS via AGAVA board relea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C16-6DE9-460F-B999-00C0D5E9B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697EA-7DC0-4FA0-8CFE-5189688C6632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Dulny</cp:lastModifiedBy>
  <dcterms:modified xsi:type="dcterms:W3CDTF">2008-07-07T06:19:00Z</dcterms:modified>
  <cp:revision>1</cp:revision>
  <dc:subject/>
  <dc:title>Prezentacja programu PowerPoint</dc:title>
</cp:coreProperties>
</file>