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276-B134-4686-AF4F-1D25FDF9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262-E8D4-419F-B6D5-A4AA7585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A68-D18B-42D9-9817-21193F9E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22F3-D0F2-498D-A3B7-E640FCEB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9F1-7624-4D19-80B2-BC1F7374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760-46FA-46A0-9B23-28BDFA11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152-CFBE-441A-B83B-91603F57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0CE-73DF-47F9-B3FA-B6F6ED58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90D-12C4-49DF-AFE8-9895162C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CEF-8AEE-4AC9-AA62-83103654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B88F-71E7-4B99-96C1-BB52E4BF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354-FD50-4D89-91CD-907F515C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C3E2-4FD8-4136-A365-FDA4C518B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rcRect l="16907" t="5720" r="19938" b="4242"/>
          <a:stretch/>
        </p:blipFill>
        <p:spPr>
          <a:xfrm>
            <a:off x="1220760" y="150840"/>
            <a:ext cx="6550200" cy="6602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2361960"/>
            <a:ext cx="7936200" cy="29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466416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igitisatio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.Me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466416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re-processing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.Laza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66416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TS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.Bell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466416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S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.Desesquell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.Gernhä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66480" y="5889600"/>
            <a:ext cx="60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7</a:t>
            </a:r>
            <a:r>
              <a:rPr b="0" lang="en-GB" sz="2400" spc="-1" strike="noStrike" baseline="30000">
                <a:solidFill>
                  <a:srgbClr val="333399"/>
                </a:solidFill>
                <a:latin typeface="Comic Sans MS"/>
              </a:rPr>
              <a:t>th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 AGATA Week, Uppsala, July 8-11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7236" t="7536" r="9253" b="7644"/>
          <a:stretch/>
        </p:blipFill>
        <p:spPr>
          <a:xfrm>
            <a:off x="7920" y="6480"/>
            <a:ext cx="773280" cy="106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>
            <a:lum bright="30000"/>
          </a:blip>
          <a:srcRect l="1997" t="6155" r="3103" b="1863"/>
          <a:stretch/>
        </p:blipFill>
        <p:spPr>
          <a:xfrm>
            <a:off x="8088480" y="17640"/>
            <a:ext cx="1047600" cy="1049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8592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mic Sans MS"/>
              </a:rPr>
              <a:t>Front End Processing</a:t>
            </a:r>
            <a:br>
              <a:rPr sz="4400"/>
            </a:br>
            <a:r>
              <a:rPr b="1" lang="en-GB" sz="4400" spc="-1" strike="noStrike">
                <a:solidFill>
                  <a:srgbClr val="333399"/>
                </a:solidFill>
                <a:latin typeface="Comic Sans MS"/>
              </a:rPr>
              <a:t> Working Grou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5320" y="380880"/>
            <a:ext cx="785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Structure of EDA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536840" y="1565280"/>
            <a:ext cx="1645920" cy="790560"/>
            <a:chOff x="1536840" y="1565280"/>
            <a:chExt cx="1645920" cy="790560"/>
          </a:xfrm>
        </p:grpSpPr>
        <p:sp>
          <p:nvSpPr>
            <p:cNvPr id="49" name=""/>
            <p:cNvSpPr/>
            <p:nvPr/>
          </p:nvSpPr>
          <p:spPr>
            <a:xfrm>
              <a:off x="1536840" y="1565280"/>
              <a:ext cx="1645920" cy="79056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50760" y="1598760"/>
              <a:ext cx="105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ream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197160" y="1566720"/>
            <a:ext cx="2806920" cy="790560"/>
            <a:chOff x="3197160" y="1566720"/>
            <a:chExt cx="2806920" cy="790560"/>
          </a:xfrm>
        </p:grpSpPr>
        <p:grpSp>
          <p:nvGrpSpPr>
            <p:cNvPr id="52" name=""/>
            <p:cNvGrpSpPr/>
            <p:nvPr/>
          </p:nvGrpSpPr>
          <p:grpSpPr>
            <a:xfrm>
              <a:off x="4357800" y="1566720"/>
              <a:ext cx="1646280" cy="790560"/>
              <a:chOff x="4357800" y="1566720"/>
              <a:chExt cx="1646280" cy="790560"/>
            </a:xfrm>
          </p:grpSpPr>
          <p:sp>
            <p:nvSpPr>
              <p:cNvPr id="53" name=""/>
              <p:cNvSpPr/>
              <p:nvPr/>
            </p:nvSpPr>
            <p:spPr>
              <a:xfrm>
                <a:off x="4357800" y="1566720"/>
                <a:ext cx="1646280" cy="79056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596840" y="1736640"/>
                <a:ext cx="116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Digitis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5" name=""/>
            <p:cNvCxnSpPr>
              <a:stCxn id="49" idx="6"/>
              <a:endCxn id="53" idx="2"/>
            </p:cNvCxnSpPr>
            <p:nvPr/>
          </p:nvCxnSpPr>
          <p:spPr>
            <a:xfrm>
              <a:off x="3197160" y="1960560"/>
              <a:ext cx="11469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"/>
          <p:cNvGrpSpPr/>
          <p:nvPr/>
        </p:nvGrpSpPr>
        <p:grpSpPr>
          <a:xfrm>
            <a:off x="3197160" y="4375080"/>
            <a:ext cx="2806920" cy="790560"/>
            <a:chOff x="3197160" y="4375080"/>
            <a:chExt cx="2806920" cy="790560"/>
          </a:xfrm>
        </p:grpSpPr>
        <p:grpSp>
          <p:nvGrpSpPr>
            <p:cNvPr id="57" name=""/>
            <p:cNvGrpSpPr/>
            <p:nvPr/>
          </p:nvGrpSpPr>
          <p:grpSpPr>
            <a:xfrm>
              <a:off x="4357800" y="4375080"/>
              <a:ext cx="1646280" cy="790560"/>
              <a:chOff x="4357800" y="4375080"/>
              <a:chExt cx="1646280" cy="790560"/>
            </a:xfrm>
          </p:grpSpPr>
          <p:sp>
            <p:nvSpPr>
              <p:cNvPr id="58" name=""/>
              <p:cNvSpPr/>
              <p:nvPr/>
            </p:nvSpPr>
            <p:spPr>
              <a:xfrm>
                <a:off x="4357800" y="4375080"/>
                <a:ext cx="1646280" cy="79056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632120" y="4572000"/>
                <a:ext cx="110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Track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0" name=""/>
            <p:cNvCxnSpPr>
              <a:stCxn id="61" idx="6"/>
              <a:endCxn id="58" idx="2"/>
            </p:cNvCxnSpPr>
            <p:nvPr/>
          </p:nvCxnSpPr>
          <p:spPr>
            <a:xfrm>
              <a:off x="3197160" y="4770000"/>
              <a:ext cx="11469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" name=""/>
          <p:cNvGrpSpPr/>
          <p:nvPr/>
        </p:nvGrpSpPr>
        <p:grpSpPr>
          <a:xfrm>
            <a:off x="6017760" y="4375080"/>
            <a:ext cx="2191320" cy="790560"/>
            <a:chOff x="6017760" y="4375080"/>
            <a:chExt cx="2191320" cy="790560"/>
          </a:xfrm>
        </p:grpSpPr>
        <p:grpSp>
          <p:nvGrpSpPr>
            <p:cNvPr id="63" name=""/>
            <p:cNvGrpSpPr/>
            <p:nvPr/>
          </p:nvGrpSpPr>
          <p:grpSpPr>
            <a:xfrm>
              <a:off x="6562800" y="4375080"/>
              <a:ext cx="1646280" cy="790560"/>
              <a:chOff x="6562800" y="4375080"/>
              <a:chExt cx="1646280" cy="790560"/>
            </a:xfrm>
          </p:grpSpPr>
          <p:sp>
            <p:nvSpPr>
              <p:cNvPr id="64" name=""/>
              <p:cNvSpPr/>
              <p:nvPr/>
            </p:nvSpPr>
            <p:spPr>
              <a:xfrm>
                <a:off x="6562800" y="4375080"/>
                <a:ext cx="1646280" cy="79056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5280" y="4421160"/>
                <a:ext cx="1213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ntrol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Storage…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6" name=""/>
            <p:cNvCxnSpPr>
              <a:stCxn id="58" idx="6"/>
              <a:endCxn id="64" idx="2"/>
            </p:cNvCxnSpPr>
            <p:nvPr/>
          </p:nvCxnSpPr>
          <p:spPr>
            <a:xfrm>
              <a:off x="6017760" y="4770000"/>
              <a:ext cx="5310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" name=""/>
          <p:cNvSpPr/>
          <p:nvPr/>
        </p:nvSpPr>
        <p:spPr>
          <a:xfrm>
            <a:off x="1765440" y="43768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08040" y="3580920"/>
            <a:ext cx="1646280" cy="1584360"/>
            <a:chOff x="1508040" y="3580920"/>
            <a:chExt cx="1646280" cy="1584360"/>
          </a:xfrm>
        </p:grpSpPr>
        <p:grpSp>
          <p:nvGrpSpPr>
            <p:cNvPr id="69" name=""/>
            <p:cNvGrpSpPr/>
            <p:nvPr/>
          </p:nvGrpSpPr>
          <p:grpSpPr>
            <a:xfrm>
              <a:off x="1508040" y="4374720"/>
              <a:ext cx="1646280" cy="790560"/>
              <a:chOff x="1508040" y="4374720"/>
              <a:chExt cx="1646280" cy="790560"/>
            </a:xfrm>
          </p:grpSpPr>
          <p:sp>
            <p:nvSpPr>
              <p:cNvPr id="61" name=""/>
              <p:cNvSpPr/>
              <p:nvPr/>
            </p:nvSpPr>
            <p:spPr>
              <a:xfrm>
                <a:off x="1508040" y="4374720"/>
                <a:ext cx="1646280" cy="79056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860480" y="4390560"/>
                <a:ext cx="944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br>
                  <a:rPr sz="2000"/>
                </a:b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Build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1" name=""/>
            <p:cNvCxnSpPr>
              <a:stCxn id="72" idx="4"/>
              <a:endCxn id="61" idx="0"/>
            </p:cNvCxnSpPr>
            <p:nvPr/>
          </p:nvCxnSpPr>
          <p:spPr>
            <a:xfrm>
              <a:off x="2330280" y="3580920"/>
              <a:ext cx="2160" cy="78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 flipV="1">
              <a:off x="2250720" y="4082760"/>
              <a:ext cx="15264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8029440" y="3051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357800" y="2355840"/>
            <a:ext cx="1711440" cy="1339920"/>
            <a:chOff x="4357800" y="2355840"/>
            <a:chExt cx="1711440" cy="1339920"/>
          </a:xfrm>
        </p:grpSpPr>
        <p:grpSp>
          <p:nvGrpSpPr>
            <p:cNvPr id="76" name=""/>
            <p:cNvGrpSpPr/>
            <p:nvPr/>
          </p:nvGrpSpPr>
          <p:grpSpPr>
            <a:xfrm>
              <a:off x="4357800" y="2905200"/>
              <a:ext cx="1711440" cy="790560"/>
              <a:chOff x="4357800" y="2905200"/>
              <a:chExt cx="1711440" cy="790560"/>
            </a:xfrm>
          </p:grpSpPr>
          <p:sp>
            <p:nvSpPr>
              <p:cNvPr id="77" name=""/>
              <p:cNvSpPr/>
              <p:nvPr/>
            </p:nvSpPr>
            <p:spPr>
              <a:xfrm>
                <a:off x="4357800" y="2905200"/>
                <a:ext cx="1646280" cy="79056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372200" y="3108240"/>
                <a:ext cx="169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Pre-process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181120" y="2355840"/>
              <a:ext cx="106920" cy="535320"/>
              <a:chOff x="5181120" y="2355840"/>
              <a:chExt cx="106920" cy="535320"/>
            </a:xfrm>
          </p:grpSpPr>
          <p:sp>
            <p:nvSpPr>
              <p:cNvPr id="80" name=""/>
              <p:cNvSpPr/>
              <p:nvPr/>
            </p:nvSpPr>
            <p:spPr>
              <a:xfrm>
                <a:off x="5187960" y="2575080"/>
                <a:ext cx="100080" cy="936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1" name=""/>
              <p:cNvCxnSpPr>
                <a:stCxn id="53" idx="4"/>
                <a:endCxn id="77" idx="0"/>
              </p:cNvCxnSpPr>
              <p:nvPr/>
            </p:nvCxnSpPr>
            <p:spPr>
              <a:xfrm>
                <a:off x="5181120" y="2355840"/>
                <a:ext cx="1080" cy="53568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</p:grpSp>
      <p:grpSp>
        <p:nvGrpSpPr>
          <p:cNvPr id="82" name=""/>
          <p:cNvGrpSpPr/>
          <p:nvPr/>
        </p:nvGrpSpPr>
        <p:grpSpPr>
          <a:xfrm>
            <a:off x="1536840" y="2905200"/>
            <a:ext cx="2806560" cy="790560"/>
            <a:chOff x="1536840" y="2905200"/>
            <a:chExt cx="2806560" cy="790560"/>
          </a:xfrm>
        </p:grpSpPr>
        <p:grpSp>
          <p:nvGrpSpPr>
            <p:cNvPr id="83" name=""/>
            <p:cNvGrpSpPr/>
            <p:nvPr/>
          </p:nvGrpSpPr>
          <p:grpSpPr>
            <a:xfrm>
              <a:off x="1536840" y="2905200"/>
              <a:ext cx="1644480" cy="790560"/>
              <a:chOff x="1536840" y="2905200"/>
              <a:chExt cx="1644480" cy="790560"/>
            </a:xfrm>
          </p:grpSpPr>
          <p:sp>
            <p:nvSpPr>
              <p:cNvPr id="72" name=""/>
              <p:cNvSpPr/>
              <p:nvPr/>
            </p:nvSpPr>
            <p:spPr>
              <a:xfrm>
                <a:off x="1536840" y="2905200"/>
                <a:ext cx="1644480" cy="79056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991880" y="3098880"/>
                <a:ext cx="64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P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" name=""/>
            <p:cNvCxnSpPr>
              <a:stCxn id="77" idx="2"/>
              <a:endCxn id="72" idx="6"/>
            </p:cNvCxnSpPr>
            <p:nvPr/>
          </p:nvCxnSpPr>
          <p:spPr>
            <a:xfrm flipH="1">
              <a:off x="3195720" y="3300120"/>
              <a:ext cx="11480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" name=""/>
            <p:cNvSpPr/>
            <p:nvPr/>
          </p:nvSpPr>
          <p:spPr>
            <a:xfrm>
              <a:off x="3415320" y="2992320"/>
              <a:ext cx="84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e 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6 seg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292560" y="3216240"/>
              <a:ext cx="15228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544080" y="1461960"/>
            <a:ext cx="1681920" cy="685440"/>
            <a:chOff x="6544080" y="1461960"/>
            <a:chExt cx="1681920" cy="685440"/>
          </a:xfrm>
        </p:grpSpPr>
        <p:sp>
          <p:nvSpPr>
            <p:cNvPr id="89" name=""/>
            <p:cNvSpPr/>
            <p:nvPr/>
          </p:nvSpPr>
          <p:spPr>
            <a:xfrm>
              <a:off x="6544080" y="1461960"/>
              <a:ext cx="1681920" cy="3682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"/>
                </a:rPr>
                <a:t>Gobal Trig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"/>
            <p:cNvCxnSpPr>
              <a:stCxn id="91" idx="0"/>
              <a:endCxn id="89" idx="2"/>
            </p:cNvCxnSpPr>
            <p:nvPr/>
          </p:nvCxnSpPr>
          <p:spPr>
            <a:xfrm flipH="1" flipV="1">
              <a:off x="7384680" y="1870920"/>
              <a:ext cx="2160" cy="276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</p:grpSp>
      <p:grpSp>
        <p:nvGrpSpPr>
          <p:cNvPr id="92" name=""/>
          <p:cNvGrpSpPr/>
          <p:nvPr/>
        </p:nvGrpSpPr>
        <p:grpSpPr>
          <a:xfrm>
            <a:off x="6018120" y="2136600"/>
            <a:ext cx="2195640" cy="1163520"/>
            <a:chOff x="6018120" y="2136600"/>
            <a:chExt cx="2195640" cy="1163520"/>
          </a:xfrm>
        </p:grpSpPr>
        <p:grpSp>
          <p:nvGrpSpPr>
            <p:cNvPr id="93" name=""/>
            <p:cNvGrpSpPr/>
            <p:nvPr/>
          </p:nvGrpSpPr>
          <p:grpSpPr>
            <a:xfrm>
              <a:off x="6559560" y="2136600"/>
              <a:ext cx="1654200" cy="790920"/>
              <a:chOff x="6559560" y="2136600"/>
              <a:chExt cx="1654200" cy="790920"/>
            </a:xfrm>
          </p:grpSpPr>
          <p:sp>
            <p:nvSpPr>
              <p:cNvPr id="94" name=""/>
              <p:cNvSpPr/>
              <p:nvPr/>
            </p:nvSpPr>
            <p:spPr>
              <a:xfrm>
                <a:off x="6562800" y="2136600"/>
                <a:ext cx="1646280" cy="79092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559560" y="2147760"/>
                <a:ext cx="1654200" cy="75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loc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100 MH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-Stamp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6018120" y="2940840"/>
              <a:ext cx="1420920" cy="359280"/>
              <a:chOff x="6018120" y="2940840"/>
              <a:chExt cx="1420920" cy="359280"/>
            </a:xfrm>
          </p:grpSpPr>
          <p:cxnSp>
            <p:nvCxnSpPr>
              <p:cNvPr id="96" name=""/>
              <p:cNvCxnSpPr>
                <a:stCxn id="77" idx="6"/>
                <a:endCxn id="94" idx="4"/>
              </p:cNvCxnSpPr>
              <p:nvPr/>
            </p:nvCxnSpPr>
            <p:spPr>
              <a:xfrm flipV="1">
                <a:off x="6018120" y="2940840"/>
                <a:ext cx="1369440" cy="35964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97" name=""/>
              <p:cNvSpPr/>
              <p:nvPr/>
            </p:nvSpPr>
            <p:spPr>
              <a:xfrm>
                <a:off x="6649920" y="3195720"/>
                <a:ext cx="95400" cy="889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7335720" y="3047760"/>
                <a:ext cx="103320" cy="9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315720" y="1905120"/>
            <a:ext cx="8751960" cy="4742280"/>
            <a:chOff x="315720" y="1905120"/>
            <a:chExt cx="8751960" cy="4742280"/>
          </a:xfrm>
        </p:grpSpPr>
        <p:grpSp>
          <p:nvGrpSpPr>
            <p:cNvPr id="100" name=""/>
            <p:cNvGrpSpPr/>
            <p:nvPr/>
          </p:nvGrpSpPr>
          <p:grpSpPr>
            <a:xfrm>
              <a:off x="7386120" y="2940840"/>
              <a:ext cx="1665360" cy="717480"/>
              <a:chOff x="7386120" y="2940840"/>
              <a:chExt cx="1665360" cy="717480"/>
            </a:xfrm>
          </p:grpSpPr>
          <p:cxnSp>
            <p:nvCxnSpPr>
              <p:cNvPr id="101" name=""/>
              <p:cNvCxnSpPr/>
              <p:nvPr/>
            </p:nvCxnSpPr>
            <p:spPr>
              <a:xfrm rot="10800000">
                <a:off x="7386120" y="2940840"/>
                <a:ext cx="1665720" cy="35964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02" name=""/>
              <p:cNvSpPr/>
              <p:nvPr/>
            </p:nvSpPr>
            <p:spPr>
              <a:xfrm>
                <a:off x="7732440" y="3321000"/>
                <a:ext cx="103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Ancillar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15720" y="4770000"/>
              <a:ext cx="1190520" cy="391680"/>
              <a:chOff x="315720" y="4770000"/>
              <a:chExt cx="1190520" cy="391680"/>
            </a:xfrm>
          </p:grpSpPr>
          <p:sp>
            <p:nvSpPr>
              <p:cNvPr id="104" name=""/>
              <p:cNvSpPr/>
              <p:nvPr/>
            </p:nvSpPr>
            <p:spPr>
              <a:xfrm>
                <a:off x="315720" y="4824360"/>
                <a:ext cx="103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Ancillar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" name=""/>
              <p:cNvCxnSpPr/>
              <p:nvPr/>
            </p:nvCxnSpPr>
            <p:spPr>
              <a:xfrm flipH="1">
                <a:off x="501120" y="4770000"/>
                <a:ext cx="1005480" cy="1080"/>
              </a:xfrm>
              <a:prstGeom prst="straightConnector1">
                <a:avLst/>
              </a:prstGeom>
              <a:ln w="28440">
                <a:solidFill>
                  <a:srgbClr val="0000ff"/>
                </a:solidFill>
                <a:miter/>
                <a:headEnd len="med" type="arrow" w="med"/>
              </a:ln>
            </p:spPr>
          </p:cxnSp>
        </p:grpSp>
        <p:grpSp>
          <p:nvGrpSpPr>
            <p:cNvPr id="106" name=""/>
            <p:cNvGrpSpPr/>
            <p:nvPr/>
          </p:nvGrpSpPr>
          <p:grpSpPr>
            <a:xfrm>
              <a:off x="6017760" y="1905120"/>
              <a:ext cx="3049920" cy="337320"/>
              <a:chOff x="6017760" y="1905120"/>
              <a:chExt cx="3049920" cy="337320"/>
            </a:xfrm>
          </p:grpSpPr>
          <p:sp>
            <p:nvSpPr>
              <p:cNvPr id="107" name=""/>
              <p:cNvSpPr/>
              <p:nvPr/>
            </p:nvSpPr>
            <p:spPr>
              <a:xfrm>
                <a:off x="7732440" y="1905120"/>
                <a:ext cx="103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Ancillar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8" name=""/>
              <p:cNvCxnSpPr>
                <a:stCxn id="53" idx="6"/>
              </p:cNvCxnSpPr>
              <p:nvPr/>
            </p:nvCxnSpPr>
            <p:spPr>
              <a:xfrm>
                <a:off x="6017760" y="1961640"/>
                <a:ext cx="3050280" cy="1080"/>
              </a:xfrm>
              <a:prstGeom prst="straightConnector1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</p:cxnSp>
        </p:grpSp>
        <p:sp>
          <p:nvSpPr>
            <p:cNvPr id="109" name=""/>
            <p:cNvSpPr/>
            <p:nvPr/>
          </p:nvSpPr>
          <p:spPr>
            <a:xfrm>
              <a:off x="3013920" y="5638680"/>
              <a:ext cx="5434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interface to GTS via mezzan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merge time-stamped data into event buil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prompt local trigger available from digitis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82560" y="5764320"/>
              <a:ext cx="143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Ancill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detec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56400" y="3905280"/>
            <a:ext cx="8362080" cy="1657440"/>
            <a:chOff x="356400" y="3905280"/>
            <a:chExt cx="8362080" cy="1657440"/>
          </a:xfrm>
        </p:grpSpPr>
        <p:sp>
          <p:nvSpPr>
            <p:cNvPr id="112" name=""/>
            <p:cNvSpPr/>
            <p:nvPr/>
          </p:nvSpPr>
          <p:spPr>
            <a:xfrm>
              <a:off x="356400" y="3930480"/>
              <a:ext cx="89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obal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36680" y="3905280"/>
              <a:ext cx="7381800" cy="16574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203880" y="1314360"/>
            <a:ext cx="2514600" cy="2517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86840" y="1314360"/>
            <a:ext cx="5941080" cy="2517840"/>
            <a:chOff x="186840" y="1314360"/>
            <a:chExt cx="5941080" cy="2517840"/>
          </a:xfrm>
        </p:grpSpPr>
        <p:sp>
          <p:nvSpPr>
            <p:cNvPr id="116" name=""/>
            <p:cNvSpPr/>
            <p:nvPr/>
          </p:nvSpPr>
          <p:spPr>
            <a:xfrm>
              <a:off x="186840" y="1644480"/>
              <a:ext cx="110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t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27320" y="1314360"/>
              <a:ext cx="4800600" cy="25178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94240" y="2895480"/>
            <a:ext cx="3292560" cy="1386000"/>
          </a:xfrm>
          <a:prstGeom prst="rect">
            <a:avLst/>
          </a:prstGeom>
          <a:solidFill>
            <a:srgbClr val="9cd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990720"/>
            <a:ext cx="5883120" cy="1463400"/>
          </a:xfrm>
          <a:prstGeom prst="rect">
            <a:avLst/>
          </a:prstGeom>
          <a:solidFill>
            <a:srgbClr val="ffa5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6760" y="76320"/>
            <a:ext cx="8585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Comic Sans MS"/>
              </a:rPr>
              <a:t>Initial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 Data rates for Demonstrator</a:t>
            </a:r>
            <a:br>
              <a:rPr sz="2800"/>
            </a:b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15 detectors, 10 kHz singles, GL-trigger, Ancillary  </a:t>
            </a:r>
            <a:r>
              <a:rPr b="0" lang="en-GB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r>
              <a:rPr b="1" lang="en-GB" sz="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kHz into 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360" y="4664160"/>
            <a:ext cx="8267760" cy="1447560"/>
          </a:xfrm>
          <a:prstGeom prst="rect">
            <a:avLst/>
          </a:prstGeom>
          <a:solidFill>
            <a:srgbClr val="ccff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360" y="990720"/>
            <a:ext cx="2225520" cy="1463400"/>
          </a:xfrm>
          <a:prstGeom prst="rect">
            <a:avLst/>
          </a:prstGeom>
          <a:solidFill>
            <a:srgbClr val="91cd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1360" y="2897280"/>
            <a:ext cx="4816440" cy="1385640"/>
          </a:xfrm>
          <a:prstGeom prst="rect">
            <a:avLst/>
          </a:prstGeom>
          <a:solidFill>
            <a:srgbClr val="ffa5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81720" y="3421080"/>
            <a:ext cx="1203480" cy="67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0 B/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0.2 MB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05200" y="1257480"/>
            <a:ext cx="1209600" cy="410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0 MB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74640" y="3424320"/>
            <a:ext cx="27687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6+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8 kB/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~8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7560" y="1849320"/>
            <a:ext cx="1060200" cy="361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0.2 MB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62120" y="1332000"/>
            <a:ext cx="117648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0 Ms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4 bi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2436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27800" y="3352680"/>
            <a:ext cx="1444680" cy="8074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5000760"/>
            <a:ext cx="1163520" cy="703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19080" y="5000760"/>
            <a:ext cx="1143720" cy="703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ra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64480" y="5000760"/>
            <a:ext cx="2556720" cy="703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L-Trigg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Line Analysi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4120" y="888840"/>
            <a:ext cx="14382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040" y="4578480"/>
            <a:ext cx="11988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3040" y="1371600"/>
            <a:ext cx="1828800" cy="7038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· · 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55640" y="5748480"/>
            <a:ext cx="19317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5*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0.2 </a:t>
            </a:r>
            <a:r>
              <a:rPr b="1" lang="en-GB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3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6800" y="1047600"/>
            <a:ext cx="199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v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~100 s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signal ris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17120" y="2911320"/>
            <a:ext cx="164520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, t, x, y, z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2" idx="3"/>
            <a:endCxn id="133" idx="1"/>
          </p:cNvCxnSpPr>
          <p:nvPr/>
        </p:nvCxnSpPr>
        <p:spPr>
          <a:xfrm>
            <a:off x="5690880" y="5365440"/>
            <a:ext cx="2466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84120" y="2803680"/>
            <a:ext cx="15811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24240" y="2178000"/>
            <a:ext cx="1995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LL-Trigger (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3"/>
            <a:endCxn id="130" idx="1"/>
          </p:cNvCxnSpPr>
          <p:nvPr/>
        </p:nvCxnSpPr>
        <p:spPr>
          <a:xfrm flipH="1">
            <a:off x="5517720" y="1731600"/>
            <a:ext cx="573840" cy="2027520"/>
          </a:xfrm>
          <a:prstGeom prst="bentConnector5">
            <a:avLst>
              <a:gd name="adj1" fmla="val -475015"/>
              <a:gd name="adj2" fmla="val 46119"/>
              <a:gd name="adj3" fmla="val 101462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42" idx="3"/>
            <a:endCxn id="136" idx="2"/>
          </p:cNvCxnSpPr>
          <p:nvPr/>
        </p:nvCxnSpPr>
        <p:spPr>
          <a:xfrm flipV="1">
            <a:off x="4419360" y="2101320"/>
            <a:ext cx="748440" cy="2613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 rot="5400000">
            <a:off x="1027080" y="1465200"/>
            <a:ext cx="698400" cy="533520"/>
          </a:xfrm>
          <a:custGeom>
            <a:avLst/>
            <a:gdLst>
              <a:gd name="textAreaLeft" fmla="*/ 153360 w 698400"/>
              <a:gd name="textAreaRight" fmla="*/ 545040 w 69840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29240" y="1557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5" idx="3"/>
            <a:endCxn id="136" idx="1"/>
          </p:cNvCxnSpPr>
          <p:nvPr/>
        </p:nvCxnSpPr>
        <p:spPr>
          <a:xfrm>
            <a:off x="1642680" y="1731600"/>
            <a:ext cx="2601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19160" y="1654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18040" y="93492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-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160" y="183204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040" y="1349280"/>
            <a:ext cx="3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82680" y="2178000"/>
            <a:ext cx="2038320" cy="368280"/>
            <a:chOff x="382680" y="2178000"/>
            <a:chExt cx="2038320" cy="368280"/>
          </a:xfrm>
        </p:grpSpPr>
        <p:sp>
          <p:nvSpPr>
            <p:cNvPr id="153" name=""/>
            <p:cNvSpPr/>
            <p:nvPr/>
          </p:nvSpPr>
          <p:spPr>
            <a:xfrm>
              <a:off x="382680" y="2178000"/>
              <a:ext cx="15238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GL-Trig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"/>
            <p:cNvCxnSpPr>
              <a:stCxn id="153" idx="3"/>
              <a:endCxn id="142" idx="1"/>
            </p:cNvCxnSpPr>
            <p:nvPr/>
          </p:nvCxnSpPr>
          <p:spPr>
            <a:xfrm>
              <a:off x="1906200" y="2361960"/>
              <a:ext cx="515160" cy="108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55" name=""/>
          <p:cNvSpPr/>
          <p:nvPr/>
        </p:nvSpPr>
        <p:spPr>
          <a:xfrm>
            <a:off x="5589720" y="2919240"/>
            <a:ext cx="12978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ms/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5000760"/>
            <a:ext cx="1316160" cy="703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cill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31" idx="3"/>
            <a:endCxn id="156" idx="1"/>
          </p:cNvCxnSpPr>
          <p:nvPr/>
        </p:nvCxnSpPr>
        <p:spPr>
          <a:xfrm>
            <a:off x="2625840" y="5365440"/>
            <a:ext cx="2559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56" idx="3"/>
            <a:endCxn id="132" idx="1"/>
          </p:cNvCxnSpPr>
          <p:nvPr/>
        </p:nvCxnSpPr>
        <p:spPr>
          <a:xfrm>
            <a:off x="4226040" y="5365440"/>
            <a:ext cx="2656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9" name=""/>
          <p:cNvGrpSpPr/>
          <p:nvPr/>
        </p:nvGrpSpPr>
        <p:grpSpPr>
          <a:xfrm>
            <a:off x="507960" y="3758760"/>
            <a:ext cx="8452080" cy="2873160"/>
            <a:chOff x="507960" y="3758760"/>
            <a:chExt cx="8452080" cy="2873160"/>
          </a:xfrm>
        </p:grpSpPr>
        <p:sp>
          <p:nvSpPr>
            <p:cNvPr id="160" name=""/>
            <p:cNvSpPr/>
            <p:nvPr/>
          </p:nvSpPr>
          <p:spPr>
            <a:xfrm>
              <a:off x="507960" y="6172200"/>
              <a:ext cx="821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Comic Sans MS"/>
                </a:rPr>
                <a:t>Initially traces will be recorded for off-line valid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"/>
            <p:cNvCxnSpPr/>
            <p:nvPr/>
          </p:nvCxnSpPr>
          <p:spPr>
            <a:xfrm>
              <a:off x="6981840" y="3758760"/>
              <a:ext cx="1567440" cy="1607400"/>
            </a:xfrm>
            <a:prstGeom prst="bentConnector3">
              <a:avLst>
                <a:gd name="adj1" fmla="val 126234"/>
              </a:avLst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4107960" y="5748480"/>
              <a:ext cx="45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</a:rPr>
                <a:t>(+ 120 MB/s written out at PSA level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3" name=""/>
          <p:cNvCxnSpPr>
            <a:stCxn id="130" idx="3"/>
            <a:endCxn id="131" idx="1"/>
          </p:cNvCxnSpPr>
          <p:nvPr/>
        </p:nvCxnSpPr>
        <p:spPr>
          <a:xfrm flipH="1">
            <a:off x="1433160" y="3758760"/>
            <a:ext cx="5549040" cy="1607400"/>
          </a:xfrm>
          <a:prstGeom prst="bentConnector5">
            <a:avLst>
              <a:gd name="adj1" fmla="val -32790"/>
              <a:gd name="adj2" fmla="val 43257"/>
              <a:gd name="adj3" fmla="val 121365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schedule for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50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worked ATCA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worked Segment Mezzan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Core Mezza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onics for one detector; VHDL revision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 series production of all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6+ ATCA carri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N Or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8+ Segment  Mezz.    18+ Core Mezz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SNSM Or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+ GTS mezzanin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N Pa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onics for one triple cluster; VHDL revision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d delivery of final 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3640" y="6335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33360" y="762120"/>
            <a:ext cx="665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lide from the previous AGATA week (Nov. 2007 @ LN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UST BE UPD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 of sess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65320" y="121932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gitizer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Patrice M. / Patrick C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processing electronics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Ian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CA Carriers and TCKL boa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ing mezzan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out to 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TS and global trigg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on of electronics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ino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16:26:28Z</dcterms:created>
  <dc:creator>Dino Bazzacco</dc:creator>
  <dc:description/>
  <dc:language>en-US</dc:language>
  <cp:lastModifiedBy> </cp:lastModifiedBy>
  <dcterms:modified xsi:type="dcterms:W3CDTF">2008-07-09T10:06:59Z</dcterms:modified>
  <cp:revision>76</cp:revision>
  <dc:subject/>
  <dc:title>AGATA DATA PROCESSING Working Group</dc:title>
</cp:coreProperties>
</file>