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8.png" ContentType="image/png"/>
  <Override PartName="/ppt/media/image7.png" ContentType="image/png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ECBE-7755-4AAB-88F4-F82B1FAB3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284720" y="475920"/>
            <a:ext cx="4680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772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4277880"/>
            <a:ext cx="7772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853C-0863-48E7-BCB0-2377B1D1E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284720" y="475920"/>
            <a:ext cx="4680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7040" y="213336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427788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7040" y="427788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606E-F2B0-440B-8570-B16B7BE15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84720" y="475920"/>
            <a:ext cx="4680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25023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2360" y="2133360"/>
            <a:ext cx="25023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0000" y="2133360"/>
            <a:ext cx="25023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4277880"/>
            <a:ext cx="25023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2360" y="4277880"/>
            <a:ext cx="25023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0000" y="4277880"/>
            <a:ext cx="25023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C550-A79F-469D-B20C-37E64576B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284720" y="475920"/>
            <a:ext cx="4680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2133360"/>
            <a:ext cx="77724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3C3A-8AD0-4360-83C1-597DFF0D8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84720" y="475920"/>
            <a:ext cx="4680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7724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09C2-18C7-4C48-8824-235C5F389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84720" y="475920"/>
            <a:ext cx="4680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37926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7040" y="2133360"/>
            <a:ext cx="37926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DBF2-99E1-4095-8290-180B112E1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84720" y="475920"/>
            <a:ext cx="4680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41C1-D97E-4EC5-8EF6-C406D5D96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284720" y="475920"/>
            <a:ext cx="4680000" cy="63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5793-DFE4-4EA8-871E-D5EAEFB30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84720" y="475920"/>
            <a:ext cx="4680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040" y="2133360"/>
            <a:ext cx="37926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427788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A7EB-57D2-4528-8582-643E2362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284720" y="475920"/>
            <a:ext cx="4680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37926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040" y="213336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7040" y="427788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32D9-15F0-4966-A39A-A46B5CC1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284720" y="475920"/>
            <a:ext cx="4680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7040" y="213336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4277880"/>
            <a:ext cx="7772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3A4A-B6C9-4FDC-BE5D-BAFD6847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4720" y="475920"/>
            <a:ext cx="4680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2133360"/>
            <a:ext cx="77724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spcBef>
                <a:spcPts val="799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Lucida Sans"/>
            </a:endParaRPr>
          </a:p>
          <a:p>
            <a:pPr lvl="2" marL="1131480" indent="-226080">
              <a:spcBef>
                <a:spcPts val="799"/>
              </a:spcBef>
              <a:buClr>
                <a:srgbClr val="000066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Lucida Sans"/>
            </a:endParaRPr>
          </a:p>
          <a:p>
            <a:pPr lvl="3" marL="1584000" indent="-226080">
              <a:spcBef>
                <a:spcPts val="799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Lucida Sans"/>
            </a:endParaRPr>
          </a:p>
          <a:p>
            <a:pPr lvl="4" marL="2036520" indent="-226080">
              <a:spcBef>
                <a:spcPts val="799"/>
              </a:spcBef>
              <a:buClr>
                <a:srgbClr val="000066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Lucida San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Lucida San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72627-7A97-4A5A-B092-050FD57AB387}" type="slidenum">
              <a:rPr b="0" lang="en-US" sz="14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162920" cy="151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Lucida Sans"/>
              </a:rPr>
              <a:t>AGATA Pre-processing team report</a:t>
            </a:r>
            <a:endParaRPr b="0" lang="en-US" sz="4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Lucida Sans"/>
              </a:rPr>
              <a:t>AGATA Week, July 2008</a:t>
            </a:r>
            <a:endParaRPr b="0" lang="en-US" sz="32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igitized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optically-transmitt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nd pre-processed AGATA trac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rcRect l="0" t="8520" r="0" b="7376"/>
          <a:stretch/>
        </p:blipFill>
        <p:spPr>
          <a:xfrm>
            <a:off x="179280" y="1208160"/>
            <a:ext cx="8859960" cy="558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802920" y="1604880"/>
            <a:ext cx="172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ay 28, 2008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00720" y="259920"/>
            <a:ext cx="44640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Testing pre-production card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136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May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Carrier and 2 segment mezzanines available for test.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Digitiser set up in Padova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Last week of May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first traces with pulser through digitiser and pre-processing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Jun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Investigate the 2 “unusual” traces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End June- 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Taking spectra with 1 segment card (6 ch) on 1 carrier using AGATA detector and digitiser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Early July (now)- 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Connect 2 carrier cards and exchange trigger data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End July 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build up to full configuration (2 carrier cards, 6 segment cards, 1 core card, 1 GTS) for tests with 1 crystal and full digitiser.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00720" y="259920"/>
            <a:ext cx="44640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Progress since last AGATA week- fixing problem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5840" y="1844280"/>
            <a:ext cx="3961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Fast serial- parallel readout mezzanine to carrier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Synchronisation problems fixed- now working at full speed.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Intermittent connection to carrier DPRAM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Used to test JTAG (blind test- found faulty pin)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Discussions held with assembly company to prevent recurrence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Trace corruption seen in first results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Tracked down to a VHDL error- now fixed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Resulted in stringent jitter testing and improvements to mezzanines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924360" y="1785960"/>
            <a:ext cx="4970520" cy="48290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389920" y="6453360"/>
            <a:ext cx="350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Lucida Sans"/>
              </a:rPr>
              <a:t>Plot from INFN Padova and CSNSM Orsay 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284720" y="475920"/>
            <a:ext cx="4680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Readiness for Tests with Triple cluster in October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76040" y="2782800"/>
          <a:ext cx="8869680" cy="352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040" y="2782800"/>
                    <a:ext cx="8869680" cy="35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284720" y="475920"/>
            <a:ext cx="4680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ost Saving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7724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Investigated using slower (cheaper) FPGAs on the mezzanines. Decided against this due to risk and also revised FPGA pricing.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FPGA- Xilinx assisted pricing obtained. About 30% savings.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Cut out segment offset fibres for LNL phase (€10k saving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84720" y="475920"/>
            <a:ext cx="4680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unding for production run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209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Carrier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Lucida Sans"/>
              </a:rPr>
              <a:t>2 pre-production + 5 cards funded from Italy, built in Italy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Lucida Sans"/>
              </a:rPr>
              <a:t>Remaining 34 cards (including 3 spares) will be built in France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Lucida Sans"/>
              </a:rPr>
              <a:t>Cost €178k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Lucida Sans"/>
              </a:rPr>
              <a:t>Some funds available in France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Lucida Sans"/>
              </a:rPr>
              <a:t>Missing funds coming from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Lucida Sans"/>
              </a:rPr>
              <a:t>Germany  (FPGA order) (</a:t>
            </a:r>
            <a:r>
              <a:rPr b="0" lang="en-GB" sz="1400" spc="-1" strike="noStrike">
                <a:solidFill>
                  <a:srgbClr val="00ff00"/>
                </a:solidFill>
                <a:latin typeface="Lucida Sans"/>
              </a:rPr>
              <a:t>complete)</a:t>
            </a:r>
            <a:endParaRPr b="0" lang="en-US" sz="1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Lucida Sans"/>
              </a:rPr>
              <a:t>Sweden funds transfer plus orders for PCBs and other FPGAs (</a:t>
            </a:r>
            <a:r>
              <a:rPr b="0" lang="en-GB" sz="1400" spc="-1" strike="noStrike">
                <a:solidFill>
                  <a:srgbClr val="ff9900"/>
                </a:solidFill>
                <a:latin typeface="Lucida Sans"/>
              </a:rPr>
              <a:t>not complete)</a:t>
            </a:r>
            <a:endParaRPr b="0" lang="en-US" sz="1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Core and segment mezzanines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Lucida Sans"/>
              </a:rPr>
              <a:t>All 140 (108 segment + 18 core + spares) will be built in France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Lucida Sans"/>
              </a:rPr>
              <a:t>Cost €310k 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Lucida Sans"/>
              </a:rPr>
              <a:t>Some funds available in France 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Lucida Sans"/>
              </a:rPr>
              <a:t>Missing funds coming from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Lucida Sans"/>
              </a:rPr>
              <a:t>Germany (FPGA Order) </a:t>
            </a:r>
            <a:r>
              <a:rPr b="0" lang="en-GB" sz="1400" spc="-1" strike="noStrike">
                <a:solidFill>
                  <a:srgbClr val="00ff00"/>
                </a:solidFill>
                <a:latin typeface="Lucida Sans"/>
              </a:rPr>
              <a:t>(complete)</a:t>
            </a:r>
            <a:endParaRPr b="0" lang="en-US" sz="1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Lucida Sans"/>
              </a:rPr>
              <a:t>Loan from GANIL (EXOGAM) against future funds transfer, </a:t>
            </a:r>
            <a:r>
              <a:rPr b="0" lang="en-GB" sz="1400" spc="-1" strike="noStrike">
                <a:solidFill>
                  <a:srgbClr val="00ff00"/>
                </a:solidFill>
                <a:latin typeface="Lucida Sans"/>
              </a:rPr>
              <a:t>(loan complete)</a:t>
            </a:r>
            <a:endParaRPr b="0" lang="en-US" sz="1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464000" y="-360"/>
            <a:ext cx="4680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ompare to planned timescale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971640" y="1236600"/>
          <a:ext cx="8137440" cy="5276880"/>
        </p:xfrm>
        <a:graphic>
          <a:graphicData uri="http://schemas.openxmlformats.org/drawingml/2006/table">
            <a:tbl>
              <a:tblPr/>
              <a:tblGrid>
                <a:gridCol w="2814480"/>
                <a:gridCol w="1541520"/>
                <a:gridCol w="1873440"/>
                <a:gridCol w="1908000"/>
              </a:tblGrid>
              <a:tr h="34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Lucida Sans"/>
                        </a:rPr>
                        <a:t>Jan 2007 Re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Lucida Sans"/>
                        </a:rPr>
                        <a:t>Nov 2007 Re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Lucida Sans"/>
                        </a:rPr>
                        <a:t>July 2008 Re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Lucida Sans"/>
                        </a:rPr>
                        <a:t>Carrier up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Lucida Sans"/>
                        </a:rPr>
                        <a:t>Layout Ph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Lucida Sans"/>
                        </a:rPr>
                        <a:t>Done Q1 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Lucida Sans"/>
                        </a:rPr>
                        <a:t>Segment &amp; core mezzanine up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Lucida Sans"/>
                        </a:rPr>
                        <a:t>Start of layout ph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Lucida Sans"/>
                        </a:rPr>
                        <a:t>Done Q1 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Lucida Sans"/>
                        </a:rPr>
                        <a:t>Expect to get prototypes of both by July 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Lucida Sans"/>
                        </a:rPr>
                        <a:t>Deliver prototypes July 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Lucida Sans"/>
                        </a:rPr>
                        <a:t>Delivered July 2007 (Carrier and segment mezzanine*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Lucida Sans"/>
                        </a:rPr>
                        <a:t>Test prototyp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Lucida Sans"/>
                        </a:rPr>
                        <a:t>Autumn 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Lucida Sans"/>
                        </a:rPr>
                        <a:t>Expected  to complete Nov. 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Lucida Sans"/>
                        </a:rPr>
                        <a:t>Completed Nov- Dec 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Lucida Sans"/>
                        </a:rPr>
                        <a:t>Designs finali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Lucida Sans"/>
                        </a:rPr>
                        <a:t>Dec 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Lucida Sans"/>
                        </a:rPr>
                        <a:t>Expected  to complete Nov - Dec. 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Lucida Sans"/>
                        </a:rPr>
                        <a:t>Dec 2007-Jan 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Lucida Sans"/>
                        </a:rPr>
                        <a:t>Production  beginning 2008 (phased delivery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Lucida Sans"/>
                        </a:rPr>
                        <a:t>Phased, starting beginning of 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Lucida Sans"/>
                        </a:rPr>
                        <a:t>Pre-production cards early 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Lucida Sans"/>
                        </a:rPr>
                        <a:t>Pre-production cards delivered April/May 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Lucida Sans"/>
                        </a:rPr>
                        <a:t>Pre-production tests 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Lucida Sans"/>
                        </a:rPr>
                        <a:t>March 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Lucida Sans"/>
                        </a:rPr>
                        <a:t>May 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Lucida Sans"/>
                        </a:rPr>
                        <a:t>Build up system- test 1 clus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Lucida Sans"/>
                        </a:rPr>
                        <a:t>July 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Lucida Sans"/>
                        </a:rPr>
                        <a:t>1</a:t>
                      </a:r>
                      <a:r>
                        <a:rPr b="1" lang="en-US" sz="1200" spc="-1" strike="noStrike" baseline="30000">
                          <a:solidFill>
                            <a:srgbClr val="000066"/>
                          </a:solidFill>
                          <a:latin typeface="Lucida Sans"/>
                        </a:rPr>
                        <a:t>st</a:t>
                      </a: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Lucida Sans"/>
                        </a:rPr>
                        <a:t> Phase production (triple cluste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Lucida Sans"/>
                        </a:rPr>
                        <a:t>Commissioning Apr 2008 onwar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Lucida Sans"/>
                        </a:rPr>
                        <a:t>Manufacture now. Commissioning July-Sept 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Lucida Sans"/>
                        </a:rPr>
                        <a:t>2</a:t>
                      </a:r>
                      <a:r>
                        <a:rPr b="1" lang="en-US" sz="1200" spc="-1" strike="noStrike" baseline="30000">
                          <a:solidFill>
                            <a:srgbClr val="000066"/>
                          </a:solidFill>
                          <a:latin typeface="Lucida Sans"/>
                        </a:rPr>
                        <a:t>nd</a:t>
                      </a: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Lucida Sans"/>
                        </a:rPr>
                        <a:t> Phase production (5 triple cluster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Lucida Sans"/>
                        </a:rPr>
                        <a:t>Ready now- depends on funds. End 2008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Lucida Sans"/>
                        </a:rPr>
                        <a:t>VHDL and softw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Lucida Sans"/>
                        </a:rPr>
                        <a:t>1</a:t>
                      </a:r>
                      <a:r>
                        <a:rPr b="0" lang="en-US" sz="1200" spc="-1" strike="noStrike" baseline="30000">
                          <a:solidFill>
                            <a:srgbClr val="000066"/>
                          </a:solidFill>
                          <a:latin typeface="Lucida Sans"/>
                        </a:rPr>
                        <a:t>st</a:t>
                      </a: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Lucida Sans"/>
                        </a:rPr>
                        <a:t> Release Autumn 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Lucida Sans"/>
                        </a:rPr>
                        <a:t>1</a:t>
                      </a:r>
                      <a:r>
                        <a:rPr b="0" lang="en-US" sz="1200" spc="-1" strike="noStrike" baseline="30000">
                          <a:solidFill>
                            <a:srgbClr val="000066"/>
                          </a:solidFill>
                          <a:latin typeface="Lucida Sans"/>
                        </a:rPr>
                        <a:t>st</a:t>
                      </a: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Lucida Sans"/>
                        </a:rPr>
                        <a:t> Release Autumn 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"/>
          <p:cNvSpPr/>
          <p:nvPr/>
        </p:nvSpPr>
        <p:spPr>
          <a:xfrm>
            <a:off x="1187280" y="6461280"/>
            <a:ext cx="6769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"/>
              </a:rPr>
              <a:t>* Core mezzanine prototype assembly was delayed until tests were complete on segment mezzanine. </a:t>
            </a:r>
            <a:endParaRPr b="0" lang="en-US" sz="1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"/>
              </a:rPr>
              <a:t>Designs were ready for delivery in July 2007 if required. </a:t>
            </a:r>
            <a:endParaRPr b="0" lang="en-US" sz="1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84720" y="475920"/>
            <a:ext cx="4680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Timescales are tight but with continued hard work the triple cluster test date Oct 2008 is achievable (but there is no schedule contingency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Funding has been a big problem- its in the wrong place and significant effort has been diverted into moving it to where it can be used.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Bigger spend on travel than expected.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Huge amount of work by the whole pre-processing team: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Long periods spent away from home by some people working in Padua.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Long hours were worked over the last 18 months by some members of the pre-processing team.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Significant progress has been made with end to end tests, but we’ve still got more to do so we need to keep up or even increase the effort.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84720" y="475920"/>
            <a:ext cx="4680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ank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7724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Lucida Sans"/>
              </a:rPr>
              <a:t>Thank you</a:t>
            </a:r>
            <a:r>
              <a:rPr b="0" lang="en-US" sz="3200" spc="-1" strike="noStrike">
                <a:solidFill>
                  <a:srgbClr val="000066"/>
                </a:solidFill>
                <a:latin typeface="Lucida Sans"/>
              </a:rPr>
              <a:t> to the pre-processing team for their very hard work!</a:t>
            </a:r>
            <a:endParaRPr b="0" lang="en-US" sz="32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4720" y="475920"/>
            <a:ext cx="4680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Overview of talk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4000" y="2133360"/>
            <a:ext cx="80643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Lucida Sans"/>
              </a:rPr>
              <a:t>The team</a:t>
            </a:r>
            <a:endParaRPr b="0" lang="en-US" sz="2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Lucida Sans"/>
              </a:rPr>
              <a:t>Progress on carrier </a:t>
            </a:r>
            <a:endParaRPr b="0" lang="en-US" sz="2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Lucida Sans"/>
              </a:rPr>
              <a:t>Progress on mezzanines</a:t>
            </a:r>
            <a:endParaRPr b="0" lang="en-US" sz="2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Lucida Sans"/>
              </a:rPr>
              <a:t>Some problems fixed since AGATA week</a:t>
            </a:r>
            <a:endParaRPr b="0" lang="en-US" sz="2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Lucida Sans"/>
              </a:rPr>
              <a:t>Readiness for triple cluster tests (October)</a:t>
            </a:r>
            <a:endParaRPr b="0" lang="en-US" sz="2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Lucida Sans"/>
              </a:rPr>
              <a:t>Finances</a:t>
            </a:r>
            <a:endParaRPr b="0" lang="en-US" sz="2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Lucida Sans"/>
              </a:rPr>
              <a:t>Timescales</a:t>
            </a:r>
            <a:endParaRPr b="0" lang="en-US" sz="2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Lucida Sans"/>
              </a:rPr>
              <a:t>Conclusion</a:t>
            </a:r>
            <a:endParaRPr b="0" lang="en-US" sz="28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84720" y="475920"/>
            <a:ext cx="4680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Reminder of team and responsibilitie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Lucida Sans"/>
              </a:rPr>
              <a:t>IPN Orsay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Lucida Sans"/>
              </a:rPr>
              <a:t>Carrier VHDL design (FPGA2- trigger distribution)</a:t>
            </a:r>
            <a:endParaRPr b="0" lang="en-US" sz="14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Lucida Sans"/>
              </a:rPr>
              <a:t>Carrier VHDL production code</a:t>
            </a:r>
            <a:endParaRPr b="0" lang="en-US" sz="14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Lucida Sans"/>
              </a:rPr>
              <a:t>Carrier commissioning (production run of 34 cards)</a:t>
            </a:r>
            <a:endParaRPr b="0" lang="en-US" sz="14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Lucida Sans"/>
              </a:rPr>
              <a:t>Original carrier design</a:t>
            </a:r>
            <a:endParaRPr b="0" lang="en-US" sz="14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Lucida Sans"/>
              </a:rPr>
              <a:t>INFN Padua 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Lucida Sans"/>
              </a:rPr>
              <a:t>Carrier rework (prototype and pre-production)</a:t>
            </a:r>
            <a:endParaRPr b="0" lang="en-US" sz="14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Lucida Sans"/>
              </a:rPr>
              <a:t>Carrier VHDL (release 0 for initial tests)</a:t>
            </a:r>
            <a:endParaRPr b="0" lang="en-US" sz="14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Lucida Sans"/>
              </a:rPr>
              <a:t>Carrier VHDL (FPGA 0- data readout)</a:t>
            </a:r>
            <a:endParaRPr b="0" lang="en-US" sz="14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Lucida Sans"/>
              </a:rPr>
              <a:t>Delivery of 6 tested carriers for October tests</a:t>
            </a:r>
            <a:endParaRPr b="0" lang="en-US" sz="14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Lucida Sans"/>
              </a:rPr>
              <a:t>GTS Mezzanine</a:t>
            </a:r>
            <a:endParaRPr b="0" lang="en-US" sz="14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Lucida Sans"/>
              </a:rPr>
              <a:t>CSNSM Orsay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Lucida Sans"/>
              </a:rPr>
              <a:t>Segment mezzanine (hardware and VHDL)</a:t>
            </a:r>
            <a:endParaRPr b="0" lang="en-US" sz="14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Lucida Sans"/>
              </a:rPr>
              <a:t>Core mezzanine (hardware and VHDL)</a:t>
            </a:r>
            <a:endParaRPr b="0" lang="en-US" sz="14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Lucida Sans"/>
              </a:rPr>
              <a:t>Production run of core and segment mezzanines</a:t>
            </a:r>
            <a:endParaRPr b="0" lang="en-US" sz="14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Lucida Sans"/>
              </a:rPr>
              <a:t>IPHC Strasbourg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Lucida Sans"/>
              </a:rPr>
              <a:t>Supply of MWD code for use in core and segment mezzanines in “black box” format</a:t>
            </a:r>
            <a:endParaRPr b="0" lang="en-US" sz="14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Lucida Sans"/>
              </a:rPr>
              <a:t>STFC RAL and LPC CAEN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Lucida Sans"/>
              </a:rPr>
              <a:t>VHDL code for carrier readout (PCIe and proprietry “FASTER” protocols)</a:t>
            </a:r>
            <a:endParaRPr b="0" lang="en-US" sz="14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Lucida Sans"/>
              </a:rPr>
              <a:t>Team size 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Lucida Sans"/>
              </a:rPr>
              <a:t>On average between 10 and 15 people are working on this project at the moment.</a:t>
            </a:r>
            <a:endParaRPr b="0" lang="en-US" sz="1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11640" y="188640"/>
            <a:ext cx="47512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Progress since last AGATA week- Carrier 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95640" y="1557000"/>
            <a:ext cx="44611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Lucida Sans"/>
              </a:rPr>
              <a:t>Carrier rework</a:t>
            </a:r>
            <a:endParaRPr b="0" lang="en-US" sz="2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ommissioning of prototype finished November 2007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mall revisions made to PCB layout Dec07/Jan08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pre-production version manufactured. Delivered early April 2008 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pre-production version commissioned April; ready to use May 2008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3786120" cy="3960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18320" y="6165720"/>
            <a:ext cx="17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Lucida Sans"/>
              </a:rPr>
              <a:t>Photo- INFN Padova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11640" y="188640"/>
            <a:ext cx="47512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Progress since last AGATA week- Carrier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95640" y="1557000"/>
            <a:ext cx="44611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JTAG test code written (R.Matson, RAL)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VHDL code development (Orsay and Padua)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Test system set-up (Orsay)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arrier production run.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5 cards from Padua- PCB received, assembly started (due end July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Remaining cards (Orsay)- purchasing started. Problems with location of funding being resolved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3441600" cy="3600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8320" y="6165720"/>
            <a:ext cx="17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Lucida Sans"/>
              </a:rPr>
              <a:t>Photo- INFN Padova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00720" y="259920"/>
            <a:ext cx="44640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Progress since last AGATA week- Mezzanine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4920" y="2324160"/>
            <a:ext cx="2309760" cy="1693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4920" y="4124160"/>
            <a:ext cx="2320920" cy="1825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2338560" y="2252520"/>
            <a:ext cx="2601720" cy="17496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2338560" y="4200480"/>
            <a:ext cx="2592360" cy="17226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0" y="2131560"/>
            <a:ext cx="44640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Segment and Core Mezzanine rework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Lucida Sans"/>
              </a:rPr>
              <a:t>Commissioning of prototype v2.0 finished December 2007.</a:t>
            </a:r>
            <a:endParaRPr b="0" lang="en-US" sz="1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Lucida Sans"/>
              </a:rPr>
              <a:t>small revisions made to PCB layout Dec07/Jan08 (v2.0 to v2.1)</a:t>
            </a:r>
            <a:endParaRPr b="0" lang="en-US" sz="1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Lucida Sans"/>
              </a:rPr>
              <a:t>Final v2.0 prototype tests on carrier using BERT to validate high speed links Feb 2008 Padua.</a:t>
            </a:r>
            <a:endParaRPr b="0" lang="en-US" sz="1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Lucida Sans"/>
              </a:rPr>
              <a:t>Pre-production version (v2.1) manufacturing started Feb 2008, Delivered April 2008 (3x core), May 2008 (10x segment) </a:t>
            </a:r>
            <a:endParaRPr b="0" lang="en-US" sz="1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Lucida Sans"/>
              </a:rPr>
              <a:t>Commissioning for 1</a:t>
            </a:r>
            <a:r>
              <a:rPr b="0" lang="en-US" sz="1400" spc="-1" strike="noStrike" baseline="30000">
                <a:solidFill>
                  <a:srgbClr val="000066"/>
                </a:solidFill>
                <a:latin typeface="Lucida Sans"/>
              </a:rPr>
              <a:t>st</a:t>
            </a:r>
            <a:r>
              <a:rPr b="0" lang="en-US" sz="1400" spc="-1" strike="noStrike">
                <a:solidFill>
                  <a:srgbClr val="000066"/>
                </a:solidFill>
                <a:latin typeface="Lucida Sans"/>
              </a:rPr>
              <a:t> pre-production version (v2.1) segment cards completed mid-May 2008</a:t>
            </a:r>
            <a:endParaRPr b="0" lang="en-US" sz="1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Lucida Sans"/>
              </a:rPr>
              <a:t>pre-production version (v2.1) commissioning for core and 4 more segment cards due for completion end July 2008.</a:t>
            </a:r>
            <a:endParaRPr b="0" lang="en-US" sz="1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" name=""/>
          <p:cNvSpPr/>
          <p:nvPr/>
        </p:nvSpPr>
        <p:spPr>
          <a:xfrm>
            <a:off x="450360" y="6165720"/>
            <a:ext cx="193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Lucida Sans"/>
              </a:rPr>
              <a:t>Photos- CSNSM Orsay 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00720" y="259920"/>
            <a:ext cx="44640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Progress since last AGATA week- Mezzanine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08000" y="2179800"/>
            <a:ext cx="2309760" cy="1693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08000" y="3979800"/>
            <a:ext cx="2320920" cy="1825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2411280" y="2108160"/>
            <a:ext cx="2602080" cy="17496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2411280" y="4056120"/>
            <a:ext cx="2592360" cy="1722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0" y="2204640"/>
            <a:ext cx="44640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Core and segment mezzanine production run.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Despite successful February BERT tests, some improvements to MGT clock jitter have been found.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Power supplies and clock routing are being modified before the full production run.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Modifications tested on pre-production cards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10 more of the existing segment card design are being made now for October tests (€16k) They will be modified to include the same changes as will be made to the other cards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" name=""/>
          <p:cNvSpPr/>
          <p:nvPr/>
        </p:nvSpPr>
        <p:spPr>
          <a:xfrm>
            <a:off x="450360" y="6165720"/>
            <a:ext cx="193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Lucida Sans"/>
              </a:rPr>
              <a:t>Photos- CSNSM Orsay 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00720" y="259920"/>
            <a:ext cx="44640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Testing pre-production card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136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May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Carrier and 2 segment mezzanines available for test.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Digitiser set up in Padova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Last week of May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first traces with pulser through digitiser and pre-processing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560" y="44280"/>
            <a:ext cx="9109080" cy="20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Carefully attended by the LLP team, on </a:t>
            </a:r>
            <a:r>
              <a:rPr b="0" lang="en-US" sz="1800" spc="-1" strike="noStrike">
                <a:solidFill>
                  <a:srgbClr val="ff0000"/>
                </a:solidFill>
                <a:latin typeface="Lucida Sans"/>
              </a:rPr>
              <a:t>May 22, 2008,</a:t>
            </a:r>
            <a:br>
              <a:rPr sz="1800"/>
            </a:br>
            <a:r>
              <a:rPr b="0" lang="en-US" sz="2800" spc="-1" strike="noStrike">
                <a:solidFill>
                  <a:srgbClr val="333399"/>
                </a:solidFill>
                <a:latin typeface="Lucida Sans"/>
              </a:rPr>
              <a:t>THE FIRST AGATA TRACE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made its way from the digitiser to th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TCA-carrier, via segment mezzanine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-71" t="7792" r="0" b="14655"/>
          <a:stretch/>
        </p:blipFill>
        <p:spPr>
          <a:xfrm>
            <a:off x="250920" y="2050920"/>
            <a:ext cx="866916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1T11:13:04Z</dcterms:created>
  <dc:creator>Ian Lazarus</dc:creator>
  <dc:description/>
  <dc:language>en-US</dc:language>
  <cp:lastModifiedBy> </cp:lastModifiedBy>
  <dcterms:modified xsi:type="dcterms:W3CDTF">2008-07-09T08:44:24Z</dcterms:modified>
  <cp:revision>41</cp:revision>
  <dc:subject/>
  <dc:title>AGATA Pre-processing team report</dc:title>
</cp:coreProperties>
</file>