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30E-E6AF-4EF2-8850-098ECB89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A6E-8398-48BF-BFF5-3A43C0B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4F2-ACEB-40EF-B116-CEF94F7E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8FF-9681-4135-AA2E-7E54151E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60F-391C-46EC-BF31-92CD53A9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F56-E7B8-4F99-9B9D-98C1C21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108-EC1D-4773-AA0D-F45BD0C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8731-BA69-4BDE-AA9F-B95C1DB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C12-6759-46D1-A950-9C7A2A4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6958-2094-4FDB-B562-CBA214F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050C-B76B-49D7-9DEB-9D968DC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DE9-5DEF-4156-B620-3FA7739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D730-3D1B-4969-8289-DC98BAF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426-7374-47C3-B77A-DB104FB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3584-FD63-4897-B7EC-3CC8DE69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095B-82D4-4BEB-869A-ABB171EE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8479-3563-4FCF-AF7D-6C58A830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094-7BAB-446B-B067-14A69FE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FDF-B8F0-4340-8A8A-9D1FE2E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02C-BE08-40C2-9612-9265F81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9ED-DB41-4DA5-9B60-B8DB648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86D-BF03-423E-B23D-585103B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AE6-2A29-490D-80C1-CAF2C3AF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F84-D7B4-4C72-8A1F-51CE1AF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E0BD-2569-4E3F-9CD1-27277979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A34F-C52F-45DE-A88E-769A58A8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60680" y="2847960"/>
            <a:ext cx="5551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S-G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4558" r="92160" b="0"/>
          <a:stretch/>
        </p:blipFill>
        <p:spPr>
          <a:xfrm>
            <a:off x="7816680" y="0"/>
            <a:ext cx="12099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87520" y="1951200"/>
            <a:ext cx="581652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70200" y="23256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324560" y="2491920"/>
            <a:ext cx="789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5720" y="4500720"/>
            <a:ext cx="579240" cy="10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267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" y="276696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9640" y="3392640"/>
            <a:ext cx="5936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60720" y="2519280"/>
            <a:ext cx="2052720" cy="4748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560480" y="2965320"/>
            <a:ext cx="2940120" cy="22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310360" y="2906280"/>
            <a:ext cx="2039760" cy="12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160680" y="2833200"/>
            <a:ext cx="1328760" cy="2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3520" y="28224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fere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24920" y="391788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25800" y="50068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nito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57103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tons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92240" y="5895720"/>
            <a:ext cx="39528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7120" y="2625840"/>
            <a:ext cx="468360" cy="25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29160" y="2637000"/>
            <a:ext cx="728640" cy="25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6840" y="4321080"/>
            <a:ext cx="4038480" cy="1922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00" y="1417680"/>
            <a:ext cx="2981520" cy="261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46040" y="147492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e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6h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al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57680" y="2494080"/>
            <a:ext cx="4361040" cy="2813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657600" y="277164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ling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2440" y="3995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tector ic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1080" y="2600280"/>
            <a:ext cx="92376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6920" y="4317840"/>
            <a:ext cx="495360" cy="149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24680" y="185112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ing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tector is select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: elapsed filling time is displa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66680" y="2263680"/>
            <a:ext cx="1116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1680" y="303840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040" y="2787480"/>
            <a:ext cx="23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ector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osition in the arr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357440" y="3117960"/>
            <a:ext cx="9874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16480" y="28828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N2 filling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80200" y="2660760"/>
            <a:ext cx="1019160" cy="1209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240" y="3772080"/>
            <a:ext cx="253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rystal tempera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reasing (&gt; X °C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temperature al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30480" y="3820680"/>
            <a:ext cx="3682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43920" y="3962520"/>
            <a:ext cx="344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 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ck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power supplies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ang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least high voltag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een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power suppli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d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299120" y="3944520"/>
            <a:ext cx="2728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35160" y="1982880"/>
            <a:ext cx="4872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7360" y="35784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960" y="3160800"/>
            <a:ext cx="130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7240" y="2112840"/>
            <a:ext cx="495360" cy="9273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78040" y="1614600"/>
            <a:ext cx="26028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04560" y="132408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voltage / Low voltage / Auto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71760" y="1693800"/>
            <a:ext cx="46368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4320" y="13460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c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749640" y="2913120"/>
            <a:ext cx="74628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03200" y="27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8600" y="2530440"/>
            <a:ext cx="725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rent version (0.8) needs some bugfixes for tests in LNL (week 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 notifications (sms/m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 conn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7:11:28Z</dcterms:created>
  <dc:creator>Kerstin Schiebel</dc:creator>
  <dc:description/>
  <dc:language>en-US</dc:language>
  <cp:lastModifiedBy>Engert</cp:lastModifiedBy>
  <cp:lastPrinted>2002-09-19T14:00:30Z</cp:lastPrinted>
  <dcterms:modified xsi:type="dcterms:W3CDTF">2008-07-09T15:17:18Z</dcterms:modified>
  <cp:revision>1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6057314</vt:r8>
  </property>
  <property fmtid="{D5CDD505-2E9C-101B-9397-08002B2CF9AE}" pid="3" name="_AuthorEmail">
    <vt:lpwstr>T.Habermann@gsi.de</vt:lpwstr>
  </property>
  <property fmtid="{D5CDD505-2E9C-101B-9397-08002B2CF9AE}" pid="4" name="_AuthorEmailDisplayName">
    <vt:lpwstr>Habermann, Tobia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