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9.wmf" ContentType="image/x-wmf"/>
  <Override PartName="/ppt/media/image14.png" ContentType="image/png"/>
  <Override PartName="/ppt/media/image6.wmf" ContentType="image/x-wmf"/>
  <Override PartName="/ppt/media/image11.wmf" ContentType="image/x-wmf"/>
  <Override PartName="/ppt/media/image12.png" ContentType="image/png"/>
  <Override PartName="/ppt/media/image7.jpeg" ContentType="image/jpeg"/>
  <Override PartName="/ppt/media/image10.wmf" ContentType="image/x-wmf"/>
  <Override PartName="/ppt/media/image4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3A33-7520-4D9C-8BDF-ED160DCA1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EF85-F309-4CE5-80B4-D65C2553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13B9-1038-4318-9098-F46DD6D65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A6EF-276C-4B1F-A711-092530D8A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5FAD-A566-4260-ACBE-B078FFBB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329E-D6F7-4AA6-BA61-C70790B2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1559-EA0A-4E52-BBEC-E4885C81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3826-EB80-4C0B-B90B-1413F7B7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A925-368E-4BC3-A53F-CA246470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E01B-A7D6-4CE4-A01C-63A1FA9D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3921-7A96-4A5E-8074-0538B6C8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8528-6644-46D5-AAC3-57203515B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4E13A-8654-49E6-B29E-43EC580F26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44640" y="2611440"/>
            <a:ext cx="4062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Concept of the scanning table in Strasbou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66840" y="395280"/>
            <a:ext cx="2144520" cy="14860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55640" y="4884840"/>
            <a:ext cx="3745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ançois DIDIERJ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tjana FAUL, Fabrice STEH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asbou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11271" t="12442" r="10148" b="12904"/>
          <a:stretch/>
        </p:blipFill>
        <p:spPr>
          <a:xfrm>
            <a:off x="7667640" y="333360"/>
            <a:ext cx="1008000" cy="1295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221440" y="5877000"/>
            <a:ext cx="367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ATA week.  8 - 11 July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ppsala, Sw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457200" y="336600"/>
            <a:ext cx="82296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EANT 4 sim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608800" y="2668680"/>
            <a:ext cx="27860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scintill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1 cm x 5 cm x 3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BGO  or  LaBr</a:t>
            </a:r>
            <a:r>
              <a:rPr b="1" lang="fr-FR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  or  L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325600" y="3478320"/>
            <a:ext cx="274680" cy="260280"/>
          </a:xfrm>
          <a:prstGeom prst="star5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583000" y="3630600"/>
            <a:ext cx="1481040" cy="0"/>
          </a:xfrm>
          <a:prstGeom prst="line">
            <a:avLst/>
          </a:prstGeom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122720" y="3443400"/>
            <a:ext cx="941400" cy="369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122720" y="3035160"/>
            <a:ext cx="941400" cy="37008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122720" y="3849840"/>
            <a:ext cx="941400" cy="36972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960" y="4168800"/>
            <a:ext cx="38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63300"/>
                </a:solidFill>
                <a:latin typeface="Arial"/>
              </a:rPr>
              <a:t>10000  </a:t>
            </a:r>
            <a:r>
              <a:rPr b="1" lang="fr-FR" sz="1800" spc="-1" strike="noStrike">
                <a:solidFill>
                  <a:srgbClr val="663300"/>
                </a:solidFill>
                <a:latin typeface="Symbol"/>
                <a:ea typeface="Symbol"/>
              </a:rPr>
              <a:t></a:t>
            </a:r>
            <a:r>
              <a:rPr b="1" lang="fr-FR" sz="1800" spc="-1" strike="noStrike">
                <a:solidFill>
                  <a:srgbClr val="663300"/>
                </a:solidFill>
                <a:latin typeface="Arial"/>
              </a:rPr>
              <a:t> -rays of 288 keV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8720" y="1190520"/>
            <a:ext cx="70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to determine the best scintillator detector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30520" y="5425920"/>
            <a:ext cx="642960" cy="166680"/>
          </a:xfrm>
          <a:prstGeom prst="rightArrow">
            <a:avLst>
              <a:gd name="adj1" fmla="val 50000"/>
              <a:gd name="adj2" fmla="val 96436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080" bIns="37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471760" y="5289480"/>
            <a:ext cx="293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Arial"/>
              </a:rPr>
              <a:t>to see the effect of the scat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481120" y="1405080"/>
            <a:ext cx="4181760" cy="40543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098880" y="501480"/>
            <a:ext cx="2917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BGO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scintillator (1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rot="16200000">
            <a:off x="3612960" y="2306160"/>
            <a:ext cx="10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1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960640" y="3672000"/>
            <a:ext cx="10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978440" y="1595520"/>
            <a:ext cx="10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78440" y="3627360"/>
            <a:ext cx="10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486160" y="1409760"/>
            <a:ext cx="4170240" cy="40449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3025800" y="501480"/>
            <a:ext cx="31352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GSO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scintillator (1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16200000">
            <a:off x="3612960" y="2306160"/>
            <a:ext cx="10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2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60640" y="3586320"/>
            <a:ext cx="10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978440" y="1595520"/>
            <a:ext cx="10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978440" y="3627360"/>
            <a:ext cx="10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487600" y="1409760"/>
            <a:ext cx="4170240" cy="40449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3025800" y="487440"/>
            <a:ext cx="3208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LaBr</a:t>
            </a:r>
            <a:r>
              <a:rPr b="1" lang="fr-FR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scintillator (1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6200000">
            <a:off x="3612960" y="2306160"/>
            <a:ext cx="10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9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60640" y="3328920"/>
            <a:ext cx="10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978440" y="1595520"/>
            <a:ext cx="10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78440" y="3627360"/>
            <a:ext cx="10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481120" y="1405080"/>
            <a:ext cx="4170600" cy="40449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3083040" y="501480"/>
            <a:ext cx="2975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LaBr</a:t>
            </a:r>
            <a:r>
              <a:rPr b="1" lang="fr-FR" sz="18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scintillator  (2 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16200000">
            <a:off x="3612960" y="2306160"/>
            <a:ext cx="10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3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960640" y="3328920"/>
            <a:ext cx="10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3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78440" y="1595520"/>
            <a:ext cx="10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978440" y="3627360"/>
            <a:ext cx="10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709560" y="249120"/>
            <a:ext cx="773748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onclus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The Choice of the scintillator should be BGO which presents the smaller spot size composed of Compton scattering interaction poi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ff"/>
                </a:solidFill>
                <a:uFillTx/>
                <a:latin typeface="Arial"/>
              </a:rPr>
              <a:t>To do lis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Geant simulation calculations to determine the optimal dimension of the scintillator (in particular the thickne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validation test with radioactive source (288 keV </a:t>
            </a:r>
            <a:r>
              <a:rPr b="0" lang="en-US" sz="1800" spc="-1" strike="noStrike">
                <a:solidFill>
                  <a:srgbClr val="0000ff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rays) to decide the use of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* a large scintillator coupled to segmented P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* a set of thin scintillators coupled each one to a PM via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ptical fi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347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X-Y scanning table of Strasbou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98640" y="1120680"/>
            <a:ext cx="4327560" cy="3246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526000" y="1819440"/>
            <a:ext cx="2874960" cy="3832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38120" y="4595760"/>
            <a:ext cx="38448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or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fixed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active source and collimator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X - Y mo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46000" y="6129360"/>
            <a:ext cx="615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o improve the device to access to the Z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6880" y="6229440"/>
            <a:ext cx="536760" cy="210960"/>
          </a:xfrm>
          <a:prstGeom prst="rightArrow">
            <a:avLst>
              <a:gd name="adj1" fmla="val 50000"/>
              <a:gd name="adj2" fmla="val 636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28760" y="1257480"/>
            <a:ext cx="8315280" cy="4933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073160" y="2509920"/>
            <a:ext cx="1401840" cy="2300040"/>
            <a:chOff x="1073160" y="2509920"/>
            <a:chExt cx="1401840" cy="2300040"/>
          </a:xfrm>
        </p:grpSpPr>
        <p:sp>
          <p:nvSpPr>
            <p:cNvPr id="54" name=""/>
            <p:cNvSpPr/>
            <p:nvPr/>
          </p:nvSpPr>
          <p:spPr>
            <a:xfrm flipH="1">
              <a:off x="1469880" y="4809960"/>
              <a:ext cx="10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386000" y="4351320"/>
              <a:ext cx="108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1295640" y="3806640"/>
              <a:ext cx="117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1185480" y="3171600"/>
              <a:ext cx="128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1073160" y="2509920"/>
              <a:ext cx="13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2470320" y="1549440"/>
            <a:ext cx="1463040" cy="3790800"/>
            <a:chOff x="2470320" y="1549440"/>
            <a:chExt cx="1463040" cy="3790800"/>
          </a:xfrm>
        </p:grpSpPr>
        <p:sp>
          <p:nvSpPr>
            <p:cNvPr id="60" name=""/>
            <p:cNvSpPr/>
            <p:nvPr/>
          </p:nvSpPr>
          <p:spPr>
            <a:xfrm>
              <a:off x="2470320" y="1549440"/>
              <a:ext cx="0" cy="37908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470320" y="4225680"/>
              <a:ext cx="1025280" cy="857520"/>
            </a:xfrm>
            <a:custGeom>
              <a:avLst/>
              <a:gdLst/>
              <a:ahLst/>
              <a:rect l="l" t="t" r="r" b="b"/>
              <a:pathLst>
                <a:path w="646" h="540">
                  <a:moveTo>
                    <a:pt x="122" y="0"/>
                  </a:moveTo>
                  <a:lnTo>
                    <a:pt x="122" y="210"/>
                  </a:lnTo>
                  <a:lnTo>
                    <a:pt x="0" y="210"/>
                  </a:lnTo>
                  <a:lnTo>
                    <a:pt x="0" y="540"/>
                  </a:lnTo>
                  <a:lnTo>
                    <a:pt x="612" y="540"/>
                  </a:lnTo>
                  <a:lnTo>
                    <a:pt x="646" y="368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660400" y="4038480"/>
              <a:ext cx="914040" cy="771480"/>
            </a:xfrm>
            <a:custGeom>
              <a:avLst/>
              <a:gdLst/>
              <a:ahLst/>
              <a:rect l="l" t="t" r="r" b="b"/>
              <a:pathLst>
                <a:path w="576" h="486">
                  <a:moveTo>
                    <a:pt x="0" y="116"/>
                  </a:moveTo>
                  <a:lnTo>
                    <a:pt x="524" y="486"/>
                  </a:lnTo>
                  <a:lnTo>
                    <a:pt x="576" y="196"/>
                  </a:lnTo>
                  <a:lnTo>
                    <a:pt x="4" y="0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63640" y="3622680"/>
              <a:ext cx="1018800" cy="730080"/>
            </a:xfrm>
            <a:custGeom>
              <a:avLst/>
              <a:gdLst/>
              <a:ahLst/>
              <a:rect l="l" t="t" r="r" b="b"/>
              <a:pathLst>
                <a:path w="642" h="460">
                  <a:moveTo>
                    <a:pt x="0" y="264"/>
                  </a:moveTo>
                  <a:lnTo>
                    <a:pt x="0" y="0"/>
                  </a:lnTo>
                  <a:lnTo>
                    <a:pt x="642" y="112"/>
                  </a:lnTo>
                  <a:lnTo>
                    <a:pt x="574" y="460"/>
                  </a:lnTo>
                  <a:lnTo>
                    <a:pt x="0" y="264"/>
                  </a:lnTo>
                  <a:close/>
                </a:path>
              </a:pathLst>
            </a:custGeom>
            <a:solidFill>
              <a:srgbClr val="00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663640" y="2965320"/>
              <a:ext cx="1130040" cy="835200"/>
            </a:xfrm>
            <a:custGeom>
              <a:avLst/>
              <a:gdLst/>
              <a:ahLst/>
              <a:rect l="l" t="t" r="r" b="b"/>
              <a:pathLst>
                <a:path w="712" h="526">
                  <a:moveTo>
                    <a:pt x="0" y="414"/>
                  </a:moveTo>
                  <a:lnTo>
                    <a:pt x="640" y="526"/>
                  </a:lnTo>
                  <a:lnTo>
                    <a:pt x="712" y="128"/>
                  </a:lnTo>
                  <a:lnTo>
                    <a:pt x="0" y="0"/>
                  </a:lnTo>
                  <a:lnTo>
                    <a:pt x="0" y="414"/>
                  </a:lnTo>
                  <a:close/>
                </a:path>
              </a:pathLst>
            </a:cu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660400" y="2419200"/>
              <a:ext cx="1250640" cy="749520"/>
            </a:xfrm>
            <a:custGeom>
              <a:avLst/>
              <a:gdLst/>
              <a:ahLst/>
              <a:rect l="l" t="t" r="r" b="b"/>
              <a:pathLst>
                <a:path w="788" h="472">
                  <a:moveTo>
                    <a:pt x="0" y="344"/>
                  </a:moveTo>
                  <a:lnTo>
                    <a:pt x="712" y="472"/>
                  </a:lnTo>
                  <a:lnTo>
                    <a:pt x="788" y="54"/>
                  </a:lnTo>
                  <a:lnTo>
                    <a:pt x="2" y="0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660400" y="1866960"/>
              <a:ext cx="1272960" cy="637920"/>
            </a:xfrm>
            <a:custGeom>
              <a:avLst/>
              <a:gdLst/>
              <a:ahLst/>
              <a:rect l="l" t="t" r="r" b="b"/>
              <a:pathLst>
                <a:path w="802" h="402">
                  <a:moveTo>
                    <a:pt x="0" y="348"/>
                  </a:moveTo>
                  <a:lnTo>
                    <a:pt x="786" y="402"/>
                  </a:lnTo>
                  <a:lnTo>
                    <a:pt x="800" y="350"/>
                  </a:lnTo>
                  <a:lnTo>
                    <a:pt x="802" y="0"/>
                  </a:lnTo>
                  <a:lnTo>
                    <a:pt x="2" y="2"/>
                  </a:lnTo>
                  <a:lnTo>
                    <a:pt x="0" y="348"/>
                  </a:lnTo>
                  <a:close/>
                </a:path>
              </a:pathLst>
            </a:custGeom>
            <a:solidFill>
              <a:srgbClr val="ff00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042920" y="1860480"/>
            <a:ext cx="2889000" cy="3230640"/>
            <a:chOff x="1042920" y="1860480"/>
            <a:chExt cx="2889000" cy="3230640"/>
          </a:xfrm>
        </p:grpSpPr>
        <p:sp>
          <p:nvSpPr>
            <p:cNvPr id="68" name=""/>
            <p:cNvSpPr/>
            <p:nvPr/>
          </p:nvSpPr>
          <p:spPr>
            <a:xfrm>
              <a:off x="2306520" y="1860480"/>
              <a:ext cx="360360" cy="269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042920" y="1860480"/>
              <a:ext cx="2889000" cy="3230640"/>
            </a:xfrm>
            <a:custGeom>
              <a:avLst/>
              <a:gdLst/>
              <a:ahLst/>
              <a:rect l="l" t="t" r="r" b="b"/>
              <a:pathLst>
                <a:path w="1820" h="2035">
                  <a:moveTo>
                    <a:pt x="0" y="0"/>
                  </a:moveTo>
                  <a:lnTo>
                    <a:pt x="0" y="316"/>
                  </a:lnTo>
                  <a:lnTo>
                    <a:pt x="297" y="2035"/>
                  </a:lnTo>
                  <a:lnTo>
                    <a:pt x="1514" y="2035"/>
                  </a:lnTo>
                  <a:lnTo>
                    <a:pt x="1820" y="353"/>
                  </a:lnTo>
                  <a:lnTo>
                    <a:pt x="182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4037040" y="1595520"/>
            <a:ext cx="2879640" cy="4014720"/>
            <a:chOff x="4037040" y="1595520"/>
            <a:chExt cx="2879640" cy="4014720"/>
          </a:xfrm>
        </p:grpSpPr>
        <p:sp>
          <p:nvSpPr>
            <p:cNvPr id="71" name=""/>
            <p:cNvSpPr/>
            <p:nvPr/>
          </p:nvSpPr>
          <p:spPr>
            <a:xfrm>
              <a:off x="4037040" y="1595520"/>
              <a:ext cx="2879640" cy="5763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037040" y="2227320"/>
              <a:ext cx="2879640" cy="5763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037040" y="2859120"/>
              <a:ext cx="2879640" cy="3603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037040" y="3275280"/>
              <a:ext cx="2879640" cy="738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037040" y="4068720"/>
              <a:ext cx="2879640" cy="503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037040" y="4622760"/>
              <a:ext cx="2879640" cy="3603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037040" y="5034240"/>
              <a:ext cx="2879640" cy="576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7070760" y="4925880"/>
            <a:ext cx="1079640" cy="684360"/>
          </a:xfrm>
          <a:prstGeom prst="rect">
            <a:avLst/>
          </a:prstGeom>
          <a:solidFill>
            <a:srgbClr val="0000ff">
              <a:alpha val="30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70760" y="4257720"/>
            <a:ext cx="1079640" cy="684000"/>
          </a:xfrm>
          <a:prstGeom prst="rect">
            <a:avLst/>
          </a:prstGeom>
          <a:solidFill>
            <a:srgbClr val="0000ff">
              <a:alpha val="30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70760" y="3354480"/>
            <a:ext cx="1079640" cy="900000"/>
          </a:xfrm>
          <a:prstGeom prst="rect">
            <a:avLst/>
          </a:prstGeom>
          <a:solidFill>
            <a:srgbClr val="0000ff">
              <a:alpha val="30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70760" y="2454120"/>
            <a:ext cx="1079640" cy="900360"/>
          </a:xfrm>
          <a:prstGeom prst="rect">
            <a:avLst/>
          </a:prstGeom>
          <a:solidFill>
            <a:srgbClr val="0000ff">
              <a:alpha val="30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80120" y="1554120"/>
            <a:ext cx="1079640" cy="900000"/>
          </a:xfrm>
          <a:prstGeom prst="rect">
            <a:avLst/>
          </a:prstGeom>
          <a:solidFill>
            <a:srgbClr val="0000ff">
              <a:alpha val="30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414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ffffff"/>
                </a:solidFill>
                <a:uFillTx/>
                <a:latin typeface="Arial"/>
              </a:rPr>
              <a:t>Scheme of the scanning table of Liver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2487240" y="5010120"/>
            <a:ext cx="1538280" cy="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487240" y="4587840"/>
            <a:ext cx="1538280" cy="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487240" y="4037040"/>
            <a:ext cx="1538280" cy="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2487240" y="3238560"/>
            <a:ext cx="1538280" cy="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487240" y="2817720"/>
            <a:ext cx="1538280" cy="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487240" y="2193840"/>
            <a:ext cx="1538280" cy="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191360" y="35812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B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29240" y="572436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b collim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9399200">
            <a:off x="4437360" y="350280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lites 1.5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763560" y="1530360"/>
            <a:ext cx="14400" cy="40543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92000" y="1341360"/>
            <a:ext cx="3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47840" y="1276200"/>
            <a:ext cx="8315280" cy="4934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073160" y="2509920"/>
            <a:ext cx="1401840" cy="2300040"/>
            <a:chOff x="1073160" y="2509920"/>
            <a:chExt cx="1401840" cy="2300040"/>
          </a:xfrm>
        </p:grpSpPr>
        <p:sp>
          <p:nvSpPr>
            <p:cNvPr id="97" name=""/>
            <p:cNvSpPr/>
            <p:nvPr/>
          </p:nvSpPr>
          <p:spPr>
            <a:xfrm flipH="1">
              <a:off x="1469880" y="4809960"/>
              <a:ext cx="10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1386000" y="4351320"/>
              <a:ext cx="108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1295640" y="3806640"/>
              <a:ext cx="117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185480" y="3171600"/>
              <a:ext cx="128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1073160" y="2509920"/>
              <a:ext cx="139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2470320" y="1549440"/>
            <a:ext cx="1463040" cy="3790800"/>
            <a:chOff x="2470320" y="1549440"/>
            <a:chExt cx="1463040" cy="3790800"/>
          </a:xfrm>
        </p:grpSpPr>
        <p:sp>
          <p:nvSpPr>
            <p:cNvPr id="103" name=""/>
            <p:cNvSpPr/>
            <p:nvPr/>
          </p:nvSpPr>
          <p:spPr>
            <a:xfrm>
              <a:off x="2470320" y="1549440"/>
              <a:ext cx="0" cy="37908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70320" y="4225680"/>
              <a:ext cx="1025280" cy="857520"/>
            </a:xfrm>
            <a:custGeom>
              <a:avLst/>
              <a:gdLst/>
              <a:ahLst/>
              <a:rect l="l" t="t" r="r" b="b"/>
              <a:pathLst>
                <a:path w="646" h="540">
                  <a:moveTo>
                    <a:pt x="122" y="0"/>
                  </a:moveTo>
                  <a:lnTo>
                    <a:pt x="122" y="210"/>
                  </a:lnTo>
                  <a:lnTo>
                    <a:pt x="0" y="210"/>
                  </a:lnTo>
                  <a:lnTo>
                    <a:pt x="0" y="540"/>
                  </a:lnTo>
                  <a:lnTo>
                    <a:pt x="612" y="540"/>
                  </a:lnTo>
                  <a:lnTo>
                    <a:pt x="646" y="368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60400" y="4038480"/>
              <a:ext cx="914040" cy="771480"/>
            </a:xfrm>
            <a:custGeom>
              <a:avLst/>
              <a:gdLst/>
              <a:ahLst/>
              <a:rect l="l" t="t" r="r" b="b"/>
              <a:pathLst>
                <a:path w="576" h="486">
                  <a:moveTo>
                    <a:pt x="0" y="116"/>
                  </a:moveTo>
                  <a:lnTo>
                    <a:pt x="524" y="486"/>
                  </a:lnTo>
                  <a:lnTo>
                    <a:pt x="576" y="196"/>
                  </a:lnTo>
                  <a:lnTo>
                    <a:pt x="4" y="0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663640" y="3622680"/>
              <a:ext cx="1018800" cy="730080"/>
            </a:xfrm>
            <a:custGeom>
              <a:avLst/>
              <a:gdLst/>
              <a:ahLst/>
              <a:rect l="l" t="t" r="r" b="b"/>
              <a:pathLst>
                <a:path w="642" h="460">
                  <a:moveTo>
                    <a:pt x="0" y="264"/>
                  </a:moveTo>
                  <a:lnTo>
                    <a:pt x="0" y="0"/>
                  </a:lnTo>
                  <a:lnTo>
                    <a:pt x="642" y="112"/>
                  </a:lnTo>
                  <a:lnTo>
                    <a:pt x="574" y="460"/>
                  </a:lnTo>
                  <a:lnTo>
                    <a:pt x="0" y="264"/>
                  </a:lnTo>
                  <a:close/>
                </a:path>
              </a:pathLst>
            </a:custGeom>
            <a:solidFill>
              <a:srgbClr val="00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663640" y="2965320"/>
              <a:ext cx="1130040" cy="835200"/>
            </a:xfrm>
            <a:custGeom>
              <a:avLst/>
              <a:gdLst/>
              <a:ahLst/>
              <a:rect l="l" t="t" r="r" b="b"/>
              <a:pathLst>
                <a:path w="712" h="526">
                  <a:moveTo>
                    <a:pt x="0" y="414"/>
                  </a:moveTo>
                  <a:lnTo>
                    <a:pt x="640" y="526"/>
                  </a:lnTo>
                  <a:lnTo>
                    <a:pt x="712" y="128"/>
                  </a:lnTo>
                  <a:lnTo>
                    <a:pt x="0" y="0"/>
                  </a:lnTo>
                  <a:lnTo>
                    <a:pt x="0" y="414"/>
                  </a:lnTo>
                  <a:close/>
                </a:path>
              </a:pathLst>
            </a:cu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60400" y="2419200"/>
              <a:ext cx="1250640" cy="749520"/>
            </a:xfrm>
            <a:custGeom>
              <a:avLst/>
              <a:gdLst/>
              <a:ahLst/>
              <a:rect l="l" t="t" r="r" b="b"/>
              <a:pathLst>
                <a:path w="788" h="472">
                  <a:moveTo>
                    <a:pt x="0" y="344"/>
                  </a:moveTo>
                  <a:lnTo>
                    <a:pt x="712" y="472"/>
                  </a:lnTo>
                  <a:lnTo>
                    <a:pt x="788" y="54"/>
                  </a:lnTo>
                  <a:lnTo>
                    <a:pt x="2" y="0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60400" y="1866960"/>
              <a:ext cx="1272960" cy="637920"/>
            </a:xfrm>
            <a:custGeom>
              <a:avLst/>
              <a:gdLst/>
              <a:ahLst/>
              <a:rect l="l" t="t" r="r" b="b"/>
              <a:pathLst>
                <a:path w="802" h="402">
                  <a:moveTo>
                    <a:pt x="0" y="348"/>
                  </a:moveTo>
                  <a:lnTo>
                    <a:pt x="786" y="402"/>
                  </a:lnTo>
                  <a:lnTo>
                    <a:pt x="800" y="350"/>
                  </a:lnTo>
                  <a:lnTo>
                    <a:pt x="802" y="0"/>
                  </a:lnTo>
                  <a:lnTo>
                    <a:pt x="2" y="2"/>
                  </a:lnTo>
                  <a:lnTo>
                    <a:pt x="0" y="348"/>
                  </a:lnTo>
                  <a:close/>
                </a:path>
              </a:pathLst>
            </a:custGeom>
            <a:solidFill>
              <a:srgbClr val="ff00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042920" y="1860480"/>
            <a:ext cx="2889000" cy="3230640"/>
            <a:chOff x="1042920" y="1860480"/>
            <a:chExt cx="2889000" cy="3230640"/>
          </a:xfrm>
        </p:grpSpPr>
        <p:sp>
          <p:nvSpPr>
            <p:cNvPr id="111" name=""/>
            <p:cNvSpPr/>
            <p:nvPr/>
          </p:nvSpPr>
          <p:spPr>
            <a:xfrm>
              <a:off x="2306520" y="1860480"/>
              <a:ext cx="360360" cy="269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042920" y="1860480"/>
              <a:ext cx="2889000" cy="3230640"/>
            </a:xfrm>
            <a:custGeom>
              <a:avLst/>
              <a:gdLst/>
              <a:ahLst/>
              <a:rect l="l" t="t" r="r" b="b"/>
              <a:pathLst>
                <a:path w="1820" h="2035">
                  <a:moveTo>
                    <a:pt x="0" y="0"/>
                  </a:moveTo>
                  <a:lnTo>
                    <a:pt x="0" y="316"/>
                  </a:lnTo>
                  <a:lnTo>
                    <a:pt x="297" y="2035"/>
                  </a:lnTo>
                  <a:lnTo>
                    <a:pt x="1514" y="2035"/>
                  </a:lnTo>
                  <a:lnTo>
                    <a:pt x="1820" y="353"/>
                  </a:lnTo>
                  <a:lnTo>
                    <a:pt x="182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037040" y="1595520"/>
            <a:ext cx="2879640" cy="4014720"/>
            <a:chOff x="4037040" y="1595520"/>
            <a:chExt cx="2879640" cy="4014720"/>
          </a:xfrm>
        </p:grpSpPr>
        <p:sp>
          <p:nvSpPr>
            <p:cNvPr id="114" name=""/>
            <p:cNvSpPr/>
            <p:nvPr/>
          </p:nvSpPr>
          <p:spPr>
            <a:xfrm>
              <a:off x="4037040" y="1595520"/>
              <a:ext cx="2879640" cy="5763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037040" y="2227320"/>
              <a:ext cx="2879640" cy="5763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37040" y="2859120"/>
              <a:ext cx="2879640" cy="3603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37040" y="3275280"/>
              <a:ext cx="2879640" cy="738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037040" y="4068720"/>
              <a:ext cx="2879640" cy="5032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37040" y="4622760"/>
              <a:ext cx="2879640" cy="3603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037040" y="5034240"/>
              <a:ext cx="2879640" cy="576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7070760" y="1554120"/>
            <a:ext cx="1079640" cy="4119480"/>
          </a:xfrm>
          <a:prstGeom prst="rect">
            <a:avLst/>
          </a:prstGeom>
          <a:solidFill>
            <a:srgbClr val="0000ff">
              <a:alpha val="30000"/>
            </a:srgbClr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6200000">
            <a:off x="5382000" y="3208680"/>
            <a:ext cx="4457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Position sen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scintillator 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9200" y="228600"/>
            <a:ext cx="775332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ffff00"/>
                </a:solidFill>
                <a:uFillTx/>
                <a:latin typeface="Arial"/>
              </a:rPr>
              <a:t>Objectives :</a:t>
            </a: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    1.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use a unique position sensitiv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increase the number of sl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3038400" y="2814480"/>
            <a:ext cx="38160" cy="3081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2828880"/>
            <a:ext cx="41529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6200000">
            <a:off x="2291760" y="348408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662 k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863600" y="245592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0000"/>
                </a:solidFill>
                <a:latin typeface="Arial"/>
              </a:rPr>
              <a:t>288 k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46000" y="6296040"/>
            <a:ext cx="760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o find the minimal distance between 2 slites to disentangle 2 diffused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6880" y="6396120"/>
            <a:ext cx="536760" cy="210960"/>
          </a:xfrm>
          <a:prstGeom prst="rightArrow">
            <a:avLst>
              <a:gd name="adj1" fmla="val 50000"/>
              <a:gd name="adj2" fmla="val 636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046840" y="434880"/>
            <a:ext cx="3724200" cy="27939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591000" y="4245120"/>
            <a:ext cx="144360" cy="1263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95560" y="4245120"/>
            <a:ext cx="595440" cy="12636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74800" y="4478400"/>
            <a:ext cx="2120760" cy="725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50840" y="4681440"/>
            <a:ext cx="15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ectron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8760" y="4884840"/>
            <a:ext cx="1596960" cy="914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38760" y="3854520"/>
            <a:ext cx="1596960" cy="91440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39840" y="3419640"/>
            <a:ext cx="25257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GSO scintil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Arial"/>
              </a:rPr>
              <a:t>5 cm x 5 cm x 2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71680" y="3984480"/>
            <a:ext cx="376560" cy="2462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400480" y="5522760"/>
            <a:ext cx="682560" cy="42552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1200" y="5641920"/>
            <a:ext cx="239400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PM, Hamamats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Arial"/>
              </a:rPr>
              <a:t>8 x 8  pix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35200" y="6016680"/>
            <a:ext cx="207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b collim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417920" y="5827320"/>
            <a:ext cx="29052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72120" y="4681440"/>
            <a:ext cx="274680" cy="260280"/>
          </a:xfrm>
          <a:prstGeom prst="star5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232680" y="4971960"/>
            <a:ext cx="102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663300"/>
                </a:solidFill>
                <a:latin typeface="Arial"/>
              </a:rPr>
              <a:t>241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3080" y="328680"/>
            <a:ext cx="3657600" cy="20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Validation tests of the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experimental setup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4457880" y="3067200"/>
          <a:ext cx="3362040" cy="251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57880" y="3067200"/>
                    <a:ext cx="336204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1392120" y="461880"/>
            <a:ext cx="62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Validation test of the GSO-PM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rcRect l="0" t="7415" r="526" b="4979"/>
          <a:stretch/>
        </p:blipFill>
        <p:spPr>
          <a:xfrm>
            <a:off x="1057320" y="2955960"/>
            <a:ext cx="3002040" cy="2568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309840" y="1258920"/>
            <a:ext cx="144720" cy="1263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714760" y="1258920"/>
            <a:ext cx="595080" cy="12636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93640" y="1492200"/>
            <a:ext cx="2121120" cy="725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62560" y="1695600"/>
            <a:ext cx="274680" cy="260280"/>
          </a:xfrm>
          <a:prstGeom prst="star5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22760" y="1986120"/>
            <a:ext cx="10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663300"/>
                </a:solidFill>
                <a:latin typeface="Arial"/>
              </a:rPr>
              <a:t>241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5600" y="1854360"/>
            <a:ext cx="174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256440" y="1198440"/>
            <a:ext cx="318960" cy="641520"/>
          </a:xfrm>
          <a:prstGeom prst="upArrow">
            <a:avLst>
              <a:gd name="adj1" fmla="val 50000"/>
              <a:gd name="adj2" fmla="val 5028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629320" y="5218200"/>
            <a:ext cx="13572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al position (m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00440" y="3389400"/>
            <a:ext cx="228600" cy="14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3854880" y="3998880"/>
            <a:ext cx="164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easured position (m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32400" y="5735520"/>
            <a:ext cx="42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ff"/>
                </a:solidFill>
                <a:latin typeface="Arial"/>
              </a:rPr>
              <a:t>linear variation except for the last 5 mm </a:t>
            </a:r>
            <a:r>
              <a:rPr b="0" lang="fr-FR" sz="1800" spc="-1" strike="noStrike">
                <a:solidFill>
                  <a:srgbClr val="0000ff"/>
                </a:solidFill>
                <a:latin typeface="Wingdings 3"/>
                <a:ea typeface="Wingdings 3"/>
              </a:rPr>
              <a:t></a:t>
            </a:r>
            <a:r>
              <a:rPr b="0" lang="fr-FR" sz="1800" spc="-1" strike="noStrike">
                <a:solidFill>
                  <a:srgbClr val="0000ff"/>
                </a:solidFill>
                <a:latin typeface="Arial"/>
              </a:rPr>
              <a:t> saturation due to the border eff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666960" y="1492200"/>
            <a:ext cx="144720" cy="12636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71880" y="1492200"/>
            <a:ext cx="595080" cy="12636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50760" y="1725480"/>
            <a:ext cx="2121120" cy="725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014720" y="2349360"/>
            <a:ext cx="1596960" cy="69696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14720" y="1101600"/>
            <a:ext cx="1596960" cy="8128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459480" y="1998720"/>
            <a:ext cx="274680" cy="260280"/>
          </a:xfrm>
          <a:prstGeom prst="star5">
            <a:avLst/>
          </a:prstGeom>
          <a:solidFill>
            <a:srgbClr val="663300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20040" y="2289240"/>
            <a:ext cx="102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663300"/>
                </a:solidFill>
                <a:latin typeface="Arial"/>
              </a:rPr>
              <a:t>241</a:t>
            </a: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14720" y="2014560"/>
            <a:ext cx="1596960" cy="23328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7786" r="1705" b="3038"/>
          <a:stretch/>
        </p:blipFill>
        <p:spPr>
          <a:xfrm>
            <a:off x="4379760" y="3397320"/>
            <a:ext cx="3384720" cy="29829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0" y="142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ffffff"/>
                </a:solidFill>
                <a:uFillTx/>
                <a:latin typeface="Arial"/>
              </a:rPr>
              <a:t>Variation of the  slite-to-slite dist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80080" y="2013120"/>
            <a:ext cx="581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680080" y="2244600"/>
            <a:ext cx="581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6146640" y="201924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146640" y="930240"/>
            <a:ext cx="1416240" cy="108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19341000">
            <a:off x="5909040" y="1101240"/>
            <a:ext cx="18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, 3, 4, 5, 6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1495440" y="857160"/>
          <a:ext cx="4203720" cy="201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5440" y="857160"/>
                    <a:ext cx="4203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1495440" y="2617920"/>
          <a:ext cx="4203720" cy="2011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95440" y="2617920"/>
                    <a:ext cx="4203720" cy="20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494000" y="4378320"/>
          <a:ext cx="4201920" cy="2001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94000" y="4378320"/>
                    <a:ext cx="4201920" cy="20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1523880" y="885960"/>
            <a:ext cx="4124520" cy="5457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42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ffffff"/>
                </a:solidFill>
                <a:uFillTx/>
                <a:latin typeface="Arial"/>
              </a:rPr>
              <a:t>Variation of the  slite-to-slite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38360" y="6330960"/>
            <a:ext cx="21812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easured position (m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38960" y="154296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ff"/>
                </a:solidFill>
                <a:latin typeface="Arial"/>
              </a:rPr>
              <a:t>3 mm    /                 21 %  overl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38960" y="330516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ff"/>
                </a:solidFill>
                <a:latin typeface="Arial"/>
              </a:rPr>
              <a:t>4 mm    /                 12 %  overl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38960" y="507672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0000ff"/>
                </a:solidFill>
                <a:latin typeface="Arial"/>
              </a:rPr>
              <a:t>5 mm    /                   4 %  overl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28760" y="1781280"/>
            <a:ext cx="8315280" cy="4581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071360" y="3008160"/>
            <a:ext cx="1401480" cy="2300400"/>
            <a:chOff x="1071360" y="3008160"/>
            <a:chExt cx="1401480" cy="2300400"/>
          </a:xfrm>
        </p:grpSpPr>
        <p:sp>
          <p:nvSpPr>
            <p:cNvPr id="190" name=""/>
            <p:cNvSpPr/>
            <p:nvPr/>
          </p:nvSpPr>
          <p:spPr>
            <a:xfrm flipH="1">
              <a:off x="1468440" y="5308560"/>
              <a:ext cx="100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1383840" y="4849920"/>
              <a:ext cx="108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1293480" y="4305240"/>
              <a:ext cx="117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1184040" y="3670200"/>
              <a:ext cx="128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1071360" y="3008160"/>
              <a:ext cx="139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2468520" y="2048040"/>
            <a:ext cx="1463760" cy="3790800"/>
            <a:chOff x="2468520" y="2048040"/>
            <a:chExt cx="1463760" cy="3790800"/>
          </a:xfrm>
        </p:grpSpPr>
        <p:sp>
          <p:nvSpPr>
            <p:cNvPr id="196" name=""/>
            <p:cNvSpPr/>
            <p:nvPr/>
          </p:nvSpPr>
          <p:spPr>
            <a:xfrm>
              <a:off x="2468520" y="2048040"/>
              <a:ext cx="0" cy="37908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468520" y="4724280"/>
              <a:ext cx="1025640" cy="857520"/>
            </a:xfrm>
            <a:custGeom>
              <a:avLst/>
              <a:gdLst/>
              <a:ahLst/>
              <a:rect l="l" t="t" r="r" b="b"/>
              <a:pathLst>
                <a:path w="646" h="540">
                  <a:moveTo>
                    <a:pt x="122" y="0"/>
                  </a:moveTo>
                  <a:lnTo>
                    <a:pt x="122" y="210"/>
                  </a:lnTo>
                  <a:lnTo>
                    <a:pt x="0" y="210"/>
                  </a:lnTo>
                  <a:lnTo>
                    <a:pt x="0" y="540"/>
                  </a:lnTo>
                  <a:lnTo>
                    <a:pt x="612" y="540"/>
                  </a:lnTo>
                  <a:lnTo>
                    <a:pt x="646" y="368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00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58960" y="4537080"/>
              <a:ext cx="914400" cy="771480"/>
            </a:xfrm>
            <a:custGeom>
              <a:avLst/>
              <a:gdLst/>
              <a:ahLst/>
              <a:rect l="l" t="t" r="r" b="b"/>
              <a:pathLst>
                <a:path w="576" h="486">
                  <a:moveTo>
                    <a:pt x="0" y="116"/>
                  </a:moveTo>
                  <a:lnTo>
                    <a:pt x="524" y="486"/>
                  </a:lnTo>
                  <a:lnTo>
                    <a:pt x="576" y="196"/>
                  </a:lnTo>
                  <a:lnTo>
                    <a:pt x="4" y="0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ff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662200" y="4121280"/>
              <a:ext cx="1019160" cy="730080"/>
            </a:xfrm>
            <a:custGeom>
              <a:avLst/>
              <a:gdLst/>
              <a:ahLst/>
              <a:rect l="l" t="t" r="r" b="b"/>
              <a:pathLst>
                <a:path w="642" h="460">
                  <a:moveTo>
                    <a:pt x="0" y="264"/>
                  </a:moveTo>
                  <a:lnTo>
                    <a:pt x="0" y="0"/>
                  </a:lnTo>
                  <a:lnTo>
                    <a:pt x="642" y="112"/>
                  </a:lnTo>
                  <a:lnTo>
                    <a:pt x="574" y="460"/>
                  </a:lnTo>
                  <a:lnTo>
                    <a:pt x="0" y="264"/>
                  </a:lnTo>
                  <a:close/>
                </a:path>
              </a:pathLst>
            </a:custGeom>
            <a:solidFill>
              <a:srgbClr val="00ff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62200" y="3463920"/>
              <a:ext cx="1130400" cy="835200"/>
            </a:xfrm>
            <a:custGeom>
              <a:avLst/>
              <a:gdLst/>
              <a:ahLst/>
              <a:rect l="l" t="t" r="r" b="b"/>
              <a:pathLst>
                <a:path w="712" h="526">
                  <a:moveTo>
                    <a:pt x="0" y="414"/>
                  </a:moveTo>
                  <a:lnTo>
                    <a:pt x="640" y="526"/>
                  </a:lnTo>
                  <a:lnTo>
                    <a:pt x="712" y="128"/>
                  </a:lnTo>
                  <a:lnTo>
                    <a:pt x="0" y="0"/>
                  </a:lnTo>
                  <a:lnTo>
                    <a:pt x="0" y="414"/>
                  </a:lnTo>
                  <a:close/>
                </a:path>
              </a:pathLst>
            </a:custGeom>
            <a:solidFill>
              <a:srgbClr val="ff00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58960" y="2917800"/>
              <a:ext cx="1251000" cy="749520"/>
            </a:xfrm>
            <a:custGeom>
              <a:avLst/>
              <a:gdLst/>
              <a:ahLst/>
              <a:rect l="l" t="t" r="r" b="b"/>
              <a:pathLst>
                <a:path w="788" h="472">
                  <a:moveTo>
                    <a:pt x="0" y="344"/>
                  </a:moveTo>
                  <a:lnTo>
                    <a:pt x="712" y="472"/>
                  </a:lnTo>
                  <a:lnTo>
                    <a:pt x="788" y="54"/>
                  </a:lnTo>
                  <a:lnTo>
                    <a:pt x="2" y="0"/>
                  </a:lnTo>
                  <a:lnTo>
                    <a:pt x="0" y="344"/>
                  </a:lnTo>
                  <a:close/>
                </a:path>
              </a:pathLst>
            </a:custGeom>
            <a:solidFill>
              <a:srgbClr val="00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58960" y="2365560"/>
              <a:ext cx="1273320" cy="637920"/>
            </a:xfrm>
            <a:custGeom>
              <a:avLst/>
              <a:gdLst/>
              <a:ahLst/>
              <a:rect l="l" t="t" r="r" b="b"/>
              <a:pathLst>
                <a:path w="802" h="402">
                  <a:moveTo>
                    <a:pt x="0" y="348"/>
                  </a:moveTo>
                  <a:lnTo>
                    <a:pt x="786" y="402"/>
                  </a:lnTo>
                  <a:lnTo>
                    <a:pt x="800" y="350"/>
                  </a:lnTo>
                  <a:lnTo>
                    <a:pt x="802" y="0"/>
                  </a:lnTo>
                  <a:lnTo>
                    <a:pt x="2" y="2"/>
                  </a:lnTo>
                  <a:lnTo>
                    <a:pt x="0" y="348"/>
                  </a:lnTo>
                  <a:close/>
                </a:path>
              </a:pathLst>
            </a:custGeom>
            <a:solidFill>
              <a:srgbClr val="ff000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1041480" y="2359080"/>
            <a:ext cx="2889000" cy="3230640"/>
            <a:chOff x="1041480" y="2359080"/>
            <a:chExt cx="2889000" cy="3230640"/>
          </a:xfrm>
        </p:grpSpPr>
        <p:sp>
          <p:nvSpPr>
            <p:cNvPr id="204" name=""/>
            <p:cNvSpPr/>
            <p:nvPr/>
          </p:nvSpPr>
          <p:spPr>
            <a:xfrm>
              <a:off x="2305080" y="2359080"/>
              <a:ext cx="360360" cy="2698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041480" y="2359080"/>
              <a:ext cx="2889000" cy="3230640"/>
            </a:xfrm>
            <a:custGeom>
              <a:avLst/>
              <a:gdLst/>
              <a:ahLst/>
              <a:rect l="l" t="t" r="r" b="b"/>
              <a:pathLst>
                <a:path w="1820" h="2035">
                  <a:moveTo>
                    <a:pt x="0" y="0"/>
                  </a:moveTo>
                  <a:lnTo>
                    <a:pt x="0" y="316"/>
                  </a:lnTo>
                  <a:lnTo>
                    <a:pt x="297" y="2035"/>
                  </a:lnTo>
                  <a:lnTo>
                    <a:pt x="1514" y="2035"/>
                  </a:lnTo>
                  <a:lnTo>
                    <a:pt x="1820" y="353"/>
                  </a:lnTo>
                  <a:lnTo>
                    <a:pt x="182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 flipH="1">
            <a:off x="2485800" y="5508720"/>
            <a:ext cx="1538280" cy="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2485800" y="5086440"/>
            <a:ext cx="1538280" cy="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2485800" y="4535640"/>
            <a:ext cx="1538280" cy="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2485800" y="3736800"/>
            <a:ext cx="1538280" cy="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485800" y="3316320"/>
            <a:ext cx="1538280" cy="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2485800" y="2692440"/>
            <a:ext cx="1538280" cy="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040280" y="2336760"/>
            <a:ext cx="2879640" cy="3341520"/>
            <a:chOff x="4040280" y="2336760"/>
            <a:chExt cx="2879640" cy="3341520"/>
          </a:xfrm>
        </p:grpSpPr>
        <p:sp>
          <p:nvSpPr>
            <p:cNvPr id="213" name=""/>
            <p:cNvSpPr/>
            <p:nvPr/>
          </p:nvSpPr>
          <p:spPr>
            <a:xfrm>
              <a:off x="4040280" y="5533920"/>
              <a:ext cx="2879640" cy="14436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40280" y="5334120"/>
              <a:ext cx="2879640" cy="14436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040280" y="5133960"/>
              <a:ext cx="2879640" cy="14436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040280" y="4933800"/>
              <a:ext cx="2879640" cy="14472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40280" y="4734000"/>
              <a:ext cx="2879640" cy="14436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040280" y="4533840"/>
              <a:ext cx="2879640" cy="14436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40280" y="4333680"/>
              <a:ext cx="2879640" cy="14472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040280" y="4133880"/>
              <a:ext cx="2879640" cy="14436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40280" y="3933720"/>
              <a:ext cx="2879640" cy="14436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040280" y="3733920"/>
              <a:ext cx="2879640" cy="14436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040280" y="3533760"/>
              <a:ext cx="2879640" cy="14436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040280" y="3333600"/>
              <a:ext cx="2879640" cy="14472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40280" y="3135240"/>
              <a:ext cx="2879640" cy="14436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040280" y="2936880"/>
              <a:ext cx="2879640" cy="14436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040280" y="2736720"/>
              <a:ext cx="2879640" cy="14472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40280" y="2536920"/>
              <a:ext cx="2879640" cy="14436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40280" y="2336760"/>
              <a:ext cx="2879640" cy="144360"/>
            </a:xfrm>
            <a:prstGeom prst="rect">
              <a:avLst/>
            </a:prstGeom>
            <a:solidFill>
              <a:srgbClr val="b2b2b2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192320" y="249120"/>
            <a:ext cx="726588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ffffff"/>
                </a:solidFill>
                <a:uFillTx/>
                <a:latin typeface="Arial"/>
              </a:rPr>
              <a:t>Proposed scheme of the Strasbourg scanning t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ff00"/>
                </a:solidFill>
                <a:latin typeface="Arial"/>
              </a:rPr>
              <a:t>(collimator thickness 4 mm, slites 1.5 m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986520" y="2219400"/>
            <a:ext cx="179280" cy="180000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986520" y="4019400"/>
            <a:ext cx="179280" cy="1800360"/>
          </a:xfrm>
          <a:prstGeom prst="rect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176960" y="2219400"/>
            <a:ext cx="1079640" cy="180000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176960" y="4019400"/>
            <a:ext cx="1079640" cy="180036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19399200">
            <a:off x="4437360" y="350280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6 slites 1.5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2:49:07Z</dcterms:created>
  <dc:creator>didierj</dc:creator>
  <dc:description/>
  <dc:language>en-US</dc:language>
  <cp:lastModifiedBy>didierj</cp:lastModifiedBy>
  <dcterms:modified xsi:type="dcterms:W3CDTF">2008-07-10T11:51:38Z</dcterms:modified>
  <cp:revision>48</cp:revision>
  <dc:subject/>
  <dc:title>Diapositive 1</dc:title>
</cp:coreProperties>
</file>