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2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3949920"/>
            <a:ext cx="8202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28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0200" y="1599840"/>
            <a:ext cx="40028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3949920"/>
            <a:ext cx="40028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0200" y="3949920"/>
            <a:ext cx="40028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0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0280" y="1599840"/>
            <a:ext cx="2640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03720" y="1599840"/>
            <a:ext cx="2640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3949920"/>
            <a:ext cx="2640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0280" y="3949920"/>
            <a:ext cx="2640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03720" y="3949920"/>
            <a:ext cx="264096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026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3813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02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28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0200" y="1599840"/>
            <a:ext cx="40028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026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3813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28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0200" y="1599840"/>
            <a:ext cx="40028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3949920"/>
            <a:ext cx="40028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28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200" y="1599840"/>
            <a:ext cx="40028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0200" y="3949920"/>
            <a:ext cx="40028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028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200" y="1599840"/>
            <a:ext cx="40028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3949920"/>
            <a:ext cx="820260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813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02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4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026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ts val="3813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lnSpc>
                <a:spcPts val="3813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3813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3813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3813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3813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3813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0920" y="1942920"/>
            <a:ext cx="8642160" cy="154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575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800000"/>
                </a:solidFill>
                <a:latin typeface="Times New Roman"/>
              </a:rPr>
              <a:t>Status of the AGATA scanning table using TIGRESS cards at Orsa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612720" y="271440"/>
            <a:ext cx="7687800" cy="1031400"/>
            <a:chOff x="612720" y="271440"/>
            <a:chExt cx="7687800" cy="1031400"/>
          </a:xfrm>
        </p:grpSpPr>
        <p:pic>
          <p:nvPicPr>
            <p:cNvPr id="40" name="" descr=""/>
            <p:cNvPicPr/>
            <p:nvPr/>
          </p:nvPicPr>
          <p:blipFill>
            <a:blip r:embed="rId1"/>
            <a:stretch/>
          </p:blipFill>
          <p:spPr>
            <a:xfrm>
              <a:off x="3761280" y="271440"/>
              <a:ext cx="1902600" cy="97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" descr=""/>
            <p:cNvPicPr/>
            <p:nvPr/>
          </p:nvPicPr>
          <p:blipFill>
            <a:blip r:embed="rId2"/>
            <a:stretch/>
          </p:blipFill>
          <p:spPr>
            <a:xfrm>
              <a:off x="612720" y="474480"/>
              <a:ext cx="1931400" cy="66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" descr=""/>
            <p:cNvPicPr/>
            <p:nvPr/>
          </p:nvPicPr>
          <p:blipFill>
            <a:blip r:embed="rId3"/>
            <a:stretch/>
          </p:blipFill>
          <p:spPr>
            <a:xfrm>
              <a:off x="6210360" y="296640"/>
              <a:ext cx="2090160" cy="1006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" name=""/>
          <p:cNvSpPr/>
          <p:nvPr/>
        </p:nvSpPr>
        <p:spPr>
          <a:xfrm>
            <a:off x="3681360" y="4149720"/>
            <a:ext cx="546264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7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8000"/>
                </a:solidFill>
                <a:latin typeface="Times New Roman"/>
              </a:rPr>
              <a:t>Agata week Uppsala July 2008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77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64040" y="3560760"/>
            <a:ext cx="235116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ts val="2599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HA Thi Mai Ho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spcBef>
                <a:spcPts val="13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411280" y="3430440"/>
            <a:ext cx="2737080" cy="22305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52560"/>
            <a:ext cx="8989920" cy="33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The number of single interaction Compton scatter events at a given position :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2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From GEANT4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simulations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for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AGATA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400/h @ front 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100/h @ front thi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10/h @ the back of the det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20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From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measurement</a:t>
            </a: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with </a:t>
            </a:r>
            <a:r>
              <a:rPr b="1" i="1" lang="en-US" sz="1800" spc="-1" strike="noStrike" u="sng">
                <a:solidFill>
                  <a:srgbClr val="0000ff"/>
                </a:solidFill>
                <a:uFillTx/>
                <a:latin typeface="Times New Roman"/>
              </a:rPr>
              <a:t>standard EG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 det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ff"/>
                </a:solidFill>
                <a:latin typeface="Times New Roman"/>
              </a:rPr>
              <a:t>358/h @ front 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177/h @ 2cm from the front 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00cc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788000" y="2421000"/>
            <a:ext cx="2231640" cy="650520"/>
            <a:chOff x="4788000" y="2421000"/>
            <a:chExt cx="2231640" cy="650520"/>
          </a:xfrm>
        </p:grpSpPr>
        <p:sp>
          <p:nvSpPr>
            <p:cNvPr id="180" name=""/>
            <p:cNvSpPr/>
            <p:nvPr/>
          </p:nvSpPr>
          <p:spPr>
            <a:xfrm>
              <a:off x="4788000" y="2800800"/>
              <a:ext cx="534600" cy="1440"/>
            </a:xfrm>
            <a:prstGeom prst="line">
              <a:avLst/>
            </a:prstGeom>
            <a:ln w="367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8760" y="2421000"/>
              <a:ext cx="1460880" cy="65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0000"/>
                  </a:solidFill>
                  <a:latin typeface="Lucida Sans"/>
                </a:rPr>
                <a:t>☺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281160" y="3168720"/>
            <a:ext cx="7845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Pulse shape of coincidence event at differents radius (given z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54720" y="2247840"/>
            <a:ext cx="1444680" cy="417600"/>
          </a:xfrm>
          <a:prstGeom prst="roundRect">
            <a:avLst>
              <a:gd name="adj" fmla="val 380"/>
            </a:avLst>
          </a:prstGeom>
          <a:noFill/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46640" y="3809880"/>
            <a:ext cx="1384560" cy="446040"/>
          </a:xfrm>
          <a:prstGeom prst="roundRect">
            <a:avLst>
              <a:gd name="adj" fmla="val 356"/>
            </a:avLst>
          </a:prstGeom>
          <a:solidFill>
            <a:srgbClr val="ffffff"/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506920" y="3483000"/>
            <a:ext cx="3737160" cy="241452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7157880" y="5737320"/>
            <a:ext cx="1944720" cy="277560"/>
            <a:chOff x="7157880" y="5737320"/>
            <a:chExt cx="1944720" cy="277560"/>
          </a:xfrm>
        </p:grpSpPr>
        <p:sp>
          <p:nvSpPr>
            <p:cNvPr id="187" name=""/>
            <p:cNvSpPr/>
            <p:nvPr/>
          </p:nvSpPr>
          <p:spPr>
            <a:xfrm>
              <a:off x="7157880" y="5737320"/>
              <a:ext cx="1944720" cy="277560"/>
            </a:xfrm>
            <a:prstGeom prst="roundRect">
              <a:avLst>
                <a:gd name="adj" fmla="val 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57880" y="5737320"/>
              <a:ext cx="1944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t(10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860640" y="5751360"/>
            <a:ext cx="1944720" cy="277920"/>
            <a:chOff x="3860640" y="5751360"/>
            <a:chExt cx="1944720" cy="277920"/>
          </a:xfrm>
        </p:grpSpPr>
        <p:sp>
          <p:nvSpPr>
            <p:cNvPr id="190" name=""/>
            <p:cNvSpPr/>
            <p:nvPr/>
          </p:nvSpPr>
          <p:spPr>
            <a:xfrm>
              <a:off x="3860640" y="5751360"/>
              <a:ext cx="1944720" cy="277920"/>
            </a:xfrm>
            <a:prstGeom prst="roundRect">
              <a:avLst>
                <a:gd name="adj" fmla="val 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60640" y="5751360"/>
              <a:ext cx="194472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ff"/>
                  </a:solidFill>
                  <a:latin typeface="Times New Roman"/>
                </a:rPr>
                <a:t>t(10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516640" y="3855960"/>
            <a:ext cx="277560" cy="1000080"/>
            <a:chOff x="5516640" y="3855960"/>
            <a:chExt cx="277560" cy="1000080"/>
          </a:xfrm>
        </p:grpSpPr>
        <p:sp>
          <p:nvSpPr>
            <p:cNvPr id="193" name=""/>
            <p:cNvSpPr/>
            <p:nvPr/>
          </p:nvSpPr>
          <p:spPr>
            <a:xfrm rot="16200000">
              <a:off x="5155200" y="4217040"/>
              <a:ext cx="1000080" cy="277560"/>
            </a:xfrm>
            <a:prstGeom prst="roundRect">
              <a:avLst>
                <a:gd name="adj" fmla="val 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16200000">
              <a:off x="5131080" y="4241520"/>
              <a:ext cx="100008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Times New Roman"/>
                </a:rPr>
                <a:t>Amplitu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270160" y="3914280"/>
            <a:ext cx="277920" cy="1000440"/>
            <a:chOff x="2270160" y="3914280"/>
            <a:chExt cx="277920" cy="1000440"/>
          </a:xfrm>
        </p:grpSpPr>
        <p:sp>
          <p:nvSpPr>
            <p:cNvPr id="196" name=""/>
            <p:cNvSpPr/>
            <p:nvPr/>
          </p:nvSpPr>
          <p:spPr>
            <a:xfrm rot="16200000">
              <a:off x="1908720" y="4275360"/>
              <a:ext cx="1000440" cy="277920"/>
            </a:xfrm>
            <a:prstGeom prst="roundRect">
              <a:avLst>
                <a:gd name="adj" fmla="val 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6200000">
              <a:off x="1884240" y="4299840"/>
              <a:ext cx="10004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ff"/>
                  </a:solidFill>
                  <a:latin typeface="Times New Roman"/>
                </a:rPr>
                <a:t>Amplitud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46160" y="3860640"/>
            <a:ext cx="2120760" cy="1668600"/>
            <a:chOff x="146160" y="3860640"/>
            <a:chExt cx="2120760" cy="1668600"/>
          </a:xfrm>
        </p:grpSpPr>
        <p:grpSp>
          <p:nvGrpSpPr>
            <p:cNvPr id="199" name=""/>
            <p:cNvGrpSpPr/>
            <p:nvPr/>
          </p:nvGrpSpPr>
          <p:grpSpPr>
            <a:xfrm>
              <a:off x="428760" y="3860640"/>
              <a:ext cx="1838160" cy="1668600"/>
              <a:chOff x="428760" y="3860640"/>
              <a:chExt cx="1838160" cy="1668600"/>
            </a:xfrm>
          </p:grpSpPr>
          <p:sp>
            <p:nvSpPr>
              <p:cNvPr id="200" name=""/>
              <p:cNvSpPr/>
              <p:nvPr/>
            </p:nvSpPr>
            <p:spPr>
              <a:xfrm>
                <a:off x="428760" y="3860640"/>
                <a:ext cx="1838160" cy="1668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124640" y="4654440"/>
                <a:ext cx="120600" cy="1033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7160" y="4654440"/>
                <a:ext cx="120240" cy="1033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904320" y="4654440"/>
                <a:ext cx="120240" cy="1033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447840" y="4740120"/>
              <a:ext cx="110304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8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30 </a:t>
              </a:r>
              <a:r>
                <a:rPr b="0" lang="en-US" sz="1200" spc="-1" strike="noStrike">
                  <a:solidFill>
                    <a:srgbClr val="008000"/>
                  </a:solidFill>
                  <a:latin typeface="Times New Roman"/>
                </a:rPr>
                <a:t>    14</a:t>
              </a:r>
              <a:r>
                <a:rPr b="0" lang="en-US" sz="12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ff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193680" y="4701960"/>
              <a:ext cx="1022400" cy="28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6160" y="4708440"/>
              <a:ext cx="669960" cy="2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813040" y="3691080"/>
            <a:ext cx="2550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00"/>
                </a:solidFill>
                <a:latin typeface="Times New Roman"/>
              </a:rPr>
              <a:t>All signals @ r=14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224000" y="4076640"/>
            <a:ext cx="961236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1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3124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1076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SCANNING TABLE @ ORSAY IS READY NO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52560" y="833400"/>
            <a:ext cx="587844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Stability of DAQ: 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Energy resolution: 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Counting rate: 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Intensity and rise time distributions: ok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4000"/>
              </a:lnSpc>
              <a:buClr>
                <a:srgbClr val="0000ff"/>
              </a:buClr>
              <a:buFont typeface="Wingdings" charset="2"/>
              <a:buChar char="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GB" sz="2200" spc="-1" strike="noStrike">
                <a:solidFill>
                  <a:srgbClr val="0000ff"/>
                </a:solidFill>
                <a:latin typeface="Times New Roman"/>
              </a:rPr>
              <a:t>Coincidence measurement: similar to simul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4360" y="506520"/>
            <a:ext cx="7950240" cy="3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62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8000"/>
                </a:solidFill>
                <a:uFillTx/>
                <a:latin typeface="Times New Roman"/>
              </a:rPr>
              <a:t>To conclude</a:t>
            </a:r>
            <a:r>
              <a:rPr b="0" lang="en-US" sz="2200" spc="-1" strike="noStrike">
                <a:solidFill>
                  <a:srgbClr val="008000"/>
                </a:solidFill>
                <a:latin typeface="Times New Roman"/>
              </a:rPr>
              <a:t>: with the new electronics TIGRE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47720" y="5370480"/>
            <a:ext cx="82407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013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Test a NEW electronics: TIGRESS-Ethernet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3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12 November: first TIGRESS card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for tes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137200" y="1979640"/>
            <a:ext cx="3108240" cy="29923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9280" y="196920"/>
            <a:ext cx="9242640" cy="12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1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July 2007: received Exogam detector --&gt; DAQ:  TNT2 + Nar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buClr>
                <a:srgbClr val="2800f2"/>
              </a:buClr>
              <a:buSzPct val="80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Option Energy + Trace: instable DAQ due to USB links (high rate data fl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901"/>
              </a:spcBef>
              <a:buClr>
                <a:srgbClr val="2800f2"/>
              </a:buClr>
              <a:buSzPct val="80000"/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Uncorrelated data due to the fact that the trigger number for trace and energy are differ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1484280"/>
            <a:ext cx="37450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660033"/>
                </a:solidFill>
                <a:latin typeface="Times New Roman"/>
              </a:rPr>
              <a:t>Rise time distribution T9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5006880"/>
            <a:ext cx="3672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Times New Roman"/>
              </a:rPr>
              <a:t>x (mm/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1032840" y="3492000"/>
            <a:ext cx="3456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660033"/>
                </a:solidFill>
                <a:latin typeface="Times New Roman"/>
              </a:rPr>
              <a:t>                          </a:t>
            </a:r>
            <a:r>
              <a:rPr b="0" lang="fr-FR" sz="1400" spc="-1" strike="noStrike">
                <a:solidFill>
                  <a:srgbClr val="660033"/>
                </a:solidFill>
                <a:latin typeface="Times New Roman"/>
              </a:rPr>
              <a:t>y (mm/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37960" y="2611440"/>
            <a:ext cx="4038840" cy="28195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626000" y="639720"/>
            <a:ext cx="4289400" cy="4716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1280" y="485640"/>
            <a:ext cx="453708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125"/>
              </a:spcBef>
              <a:buClr>
                <a:srgbClr val="0000ff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50 electronics channel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(5 TIG10) + 1 collector card(TIG 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VME c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buClr>
                <a:srgbClr val="0000ff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ff"/>
                </a:solidFill>
                <a:latin typeface="Times New Roman"/>
              </a:rPr>
              <a:t>Flash ADC 14bits 100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8440" y="5738760"/>
            <a:ext cx="837900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563"/>
              </a:lnSpc>
              <a:spcBef>
                <a:spcPts val="1125"/>
              </a:spcBef>
              <a:buClr>
                <a:srgbClr val="0000ff"/>
              </a:buClr>
              <a:buFont typeface="Wingdings" charset="2"/>
              <a:buChar char="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en-GB" sz="2200" spc="-1" strike="noStrike">
                <a:solidFill>
                  <a:srgbClr val="af0d62"/>
                </a:solidFill>
                <a:latin typeface="Times New Roman"/>
              </a:rPr>
              <a:t>June 08:</a:t>
            </a:r>
            <a:r>
              <a:rPr b="0" lang="en-GB" sz="22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en-GB" sz="2200" spc="-1" strike="noStrike">
                <a:solidFill>
                  <a:srgbClr val="af0d62"/>
                </a:solidFill>
                <a:latin typeface="Times New Roman"/>
              </a:rPr>
              <a:t>commissioning of this electronics started with standard </a:t>
            </a:r>
            <a:r>
              <a:rPr b="1" lang="en-GB" sz="2200" spc="-1" strike="noStrike">
                <a:solidFill>
                  <a:srgbClr val="af0d62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af0d62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af0d62"/>
                </a:solidFill>
                <a:latin typeface="Times New Roman"/>
              </a:rPr>
              <a:t>	</a:t>
            </a:r>
            <a:r>
              <a:rPr b="1" lang="en-GB" sz="2200" spc="-1" strike="noStrike">
                <a:solidFill>
                  <a:srgbClr val="af0d62"/>
                </a:solidFill>
                <a:latin typeface="Times New Roman"/>
              </a:rPr>
              <a:t>  EG Ge det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2563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f0d62"/>
                </a:solidFill>
                <a:latin typeface="Times New Roman"/>
              </a:rPr>
              <a:t>      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</a:rPr>
              <a:t>(with help from J.P Martens_Montreal Universit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080" y="104760"/>
            <a:ext cx="317484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Test with 1 TIGRESS card: OK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</a:rPr>
              <a:t>May 08 we were equiped wit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400" y="-125640"/>
            <a:ext cx="90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6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 u="sng">
                <a:solidFill>
                  <a:srgbClr val="008000"/>
                </a:solidFill>
                <a:uFillTx/>
                <a:latin typeface="Times New Roman"/>
              </a:rPr>
              <a:t>TIGRESS card tests: signal and resolution (1)</a:t>
            </a:r>
            <a:r>
              <a:rPr b="1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8840" y="1176480"/>
            <a:ext cx="4924440" cy="23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6080" indent="-316080">
              <a:lnSpc>
                <a:spcPts val="305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800f2"/>
                </a:solidFill>
                <a:latin typeface="Times New Roman"/>
              </a:rPr>
              <a:t>Pulser @ different rates: 10Hz, 50Hz, 100Hz, 1kHz, 10kHz --&gt; 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ts val="305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2800f2"/>
                </a:solidFill>
                <a:latin typeface="Times New Roman"/>
              </a:rPr>
              <a:t>EG Ge  + NaI detector : test with radioactive sources</a:t>
            </a:r>
            <a:r>
              <a:rPr b="0" lang="en-US" sz="2000" spc="-1" strike="noStrike">
                <a:solidFill>
                  <a:srgbClr val="2300dc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611280" y="3784680"/>
            <a:ext cx="3616200" cy="2306520"/>
            <a:chOff x="611280" y="3784680"/>
            <a:chExt cx="3616200" cy="230652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611280" y="3784680"/>
              <a:ext cx="3616200" cy="23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2491200" y="4317120"/>
              <a:ext cx="13838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NaI TOH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5148360" y="907920"/>
            <a:ext cx="3763800" cy="2308320"/>
            <a:chOff x="5148360" y="907920"/>
            <a:chExt cx="3763800" cy="2308320"/>
          </a:xfrm>
        </p:grpSpPr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5148360" y="907920"/>
              <a:ext cx="3763800" cy="23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6608160" y="1581840"/>
              <a:ext cx="1383480" cy="6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Pul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48360" y="3789360"/>
            <a:ext cx="3655800" cy="2254320"/>
            <a:chOff x="5148360" y="3789360"/>
            <a:chExt cx="3655800" cy="2254320"/>
          </a:xfrm>
        </p:grpSpPr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5148360" y="3789360"/>
              <a:ext cx="3655800" cy="22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576120" y="4444200"/>
              <a:ext cx="13838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EG Ge d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18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3244680" y="5981760"/>
            <a:ext cx="1816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(x10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24880" y="3168720"/>
            <a:ext cx="1815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(x10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96360" y="6012000"/>
            <a:ext cx="1815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(x10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-647280" y="3562200"/>
            <a:ext cx="2247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6200000">
            <a:off x="3849840" y="3573360"/>
            <a:ext cx="2247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6200000">
            <a:off x="3922200" y="695880"/>
            <a:ext cx="2249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mpl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6237360"/>
            <a:ext cx="56163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4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( NaI TOHR is used to detect the scattered 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γ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7120" y="639720"/>
            <a:ext cx="8215560" cy="13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35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FWHM  with TIG10: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1.63 keV @  121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2.22 keV @  662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2.80 keV @1408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(corresponds to the measured resolution before coming to Ors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8320" y="-327240"/>
            <a:ext cx="90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6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 u="sng">
                <a:solidFill>
                  <a:srgbClr val="008000"/>
                </a:solidFill>
                <a:uFillTx/>
                <a:latin typeface="Times New Roman"/>
              </a:rPr>
              <a:t>TIGRESS card tests: signal and resolution (2)</a:t>
            </a:r>
            <a:r>
              <a:rPr b="1" lang="en-US" sz="2600" spc="-1" strike="noStrike" u="sng">
                <a:solidFill>
                  <a:srgbClr val="008000"/>
                </a:solidFill>
                <a:uFillTx/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6400" y="6097680"/>
            <a:ext cx="8766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1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8000"/>
                </a:solidFill>
                <a:latin typeface="Times New Roman"/>
              </a:rPr>
              <a:t>--&gt; The card gives the performances as expected in term of resolut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37960" y="2500200"/>
            <a:ext cx="5432760" cy="3408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3303720" y="2203560"/>
            <a:ext cx="5418000" cy="23637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647800" y="4722840"/>
            <a:ext cx="51357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1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b0094"/>
                </a:solidFill>
                <a:latin typeface="Times New Roman"/>
              </a:rPr>
              <a:t>Spectra EG Ge with </a:t>
            </a:r>
            <a:r>
              <a:rPr b="0" i="1" lang="en-US" sz="2000" spc="-1" strike="noStrike" baseline="30000">
                <a:solidFill>
                  <a:srgbClr val="6b0094"/>
                </a:solidFill>
                <a:latin typeface="Times New Roman"/>
              </a:rPr>
              <a:t>152</a:t>
            </a:r>
            <a:r>
              <a:rPr b="0" i="1" lang="en-US" sz="2000" spc="-1" strike="noStrike">
                <a:solidFill>
                  <a:srgbClr val="6b0094"/>
                </a:solidFill>
                <a:latin typeface="Times New Roman"/>
              </a:rPr>
              <a:t>Eu and </a:t>
            </a:r>
            <a:r>
              <a:rPr b="0" i="1" lang="en-US" sz="2000" spc="-1" strike="noStrike" baseline="30000">
                <a:solidFill>
                  <a:srgbClr val="6b0094"/>
                </a:solidFill>
                <a:latin typeface="Times New Roman"/>
              </a:rPr>
              <a:t>137</a:t>
            </a:r>
            <a:r>
              <a:rPr b="0" i="1" lang="en-US" sz="2000" spc="-1" strike="noStrike">
                <a:solidFill>
                  <a:srgbClr val="6b0094"/>
                </a:solidFill>
                <a:latin typeface="Times New Roman"/>
              </a:rPr>
              <a:t>Cs sources</a:t>
            </a:r>
            <a:r>
              <a:rPr b="0" lang="en-US" sz="2000" spc="-1" strike="noStrike">
                <a:solidFill>
                  <a:srgbClr val="6b0094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348160" y="2338560"/>
            <a:ext cx="51357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b0094"/>
                </a:solidFill>
                <a:latin typeface="Times New Roman"/>
              </a:rPr>
              <a:t>662 k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b0094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58080" y="4479840"/>
            <a:ext cx="996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417040" y="2613600"/>
            <a:ext cx="1401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 of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51360" y="5864400"/>
            <a:ext cx="996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-586080" y="3016800"/>
            <a:ext cx="1401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 of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56280" y="3670200"/>
            <a:ext cx="3087720" cy="2921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64000" y="260280"/>
            <a:ext cx="3416400" cy="32860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3079800" y="3660840"/>
            <a:ext cx="3066840" cy="28875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668600" y="-119160"/>
            <a:ext cx="849816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36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Single scan standard EG detector</a:t>
            </a:r>
            <a:br>
              <a:rPr sz="2400"/>
            </a:b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(energy+trace)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1280" y="3648240"/>
            <a:ext cx="3068640" cy="290016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5987880" y="3483000"/>
            <a:ext cx="3154320" cy="357480"/>
            <a:chOff x="5987880" y="3483000"/>
            <a:chExt cx="3154320" cy="357480"/>
          </a:xfrm>
        </p:grpSpPr>
        <p:sp>
          <p:nvSpPr>
            <p:cNvPr id="92" name=""/>
            <p:cNvSpPr/>
            <p:nvPr/>
          </p:nvSpPr>
          <p:spPr>
            <a:xfrm>
              <a:off x="5987880" y="3483000"/>
              <a:ext cx="3137040" cy="35748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05160" y="3512880"/>
              <a:ext cx="31370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31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80"/>
                  </a:solidFill>
                  <a:latin typeface="Times New Roman"/>
                </a:rPr>
                <a:t>   </a:t>
              </a:r>
              <a:r>
                <a:rPr b="0" i="1" lang="en-US" sz="2000" spc="-1" strike="noStrike">
                  <a:solidFill>
                    <a:srgbClr val="000080"/>
                  </a:solidFill>
                  <a:latin typeface="Times New Roman"/>
                </a:rPr>
                <a:t>T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364000" y="187200"/>
            <a:ext cx="4462560" cy="344520"/>
            <a:chOff x="5364000" y="187200"/>
            <a:chExt cx="4462560" cy="344520"/>
          </a:xfrm>
        </p:grpSpPr>
        <p:sp>
          <p:nvSpPr>
            <p:cNvPr id="95" name=""/>
            <p:cNvSpPr/>
            <p:nvPr/>
          </p:nvSpPr>
          <p:spPr>
            <a:xfrm>
              <a:off x="5364000" y="187200"/>
              <a:ext cx="2846520" cy="344520"/>
            </a:xfrm>
            <a:prstGeom prst="roundRect">
              <a:avLst>
                <a:gd name="adj" fmla="val 4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364000" y="187200"/>
              <a:ext cx="44625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31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8000"/>
                  </a:solidFill>
                  <a:latin typeface="Times New Roman"/>
                </a:rPr>
                <a:t>         </a:t>
              </a:r>
              <a:r>
                <a:rPr b="0" i="1" lang="en-US" sz="20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80"/>
                  </a:solidFill>
                  <a:latin typeface="Times New Roman"/>
                </a:rPr>
                <a:t>Photo peak Intensit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921040" y="3483000"/>
            <a:ext cx="3087720" cy="358560"/>
            <a:chOff x="2921040" y="3483000"/>
            <a:chExt cx="3087720" cy="358560"/>
          </a:xfrm>
        </p:grpSpPr>
        <p:sp>
          <p:nvSpPr>
            <p:cNvPr id="98" name=""/>
            <p:cNvSpPr/>
            <p:nvPr/>
          </p:nvSpPr>
          <p:spPr>
            <a:xfrm>
              <a:off x="2921040" y="3483000"/>
              <a:ext cx="3087720" cy="358560"/>
            </a:xfrm>
            <a:prstGeom prst="roundRect">
              <a:avLst>
                <a:gd name="adj" fmla="val 44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21040" y="3483000"/>
              <a:ext cx="30877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31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80"/>
                  </a:solidFill>
                  <a:latin typeface="Times New Roman"/>
                </a:rPr>
                <a:t>T6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11240" y="3473280"/>
            <a:ext cx="2861640" cy="375120"/>
            <a:chOff x="111240" y="3473280"/>
            <a:chExt cx="2861640" cy="375120"/>
          </a:xfrm>
        </p:grpSpPr>
        <p:sp>
          <p:nvSpPr>
            <p:cNvPr id="101" name=""/>
            <p:cNvSpPr/>
            <p:nvPr/>
          </p:nvSpPr>
          <p:spPr>
            <a:xfrm>
              <a:off x="111240" y="3473280"/>
              <a:ext cx="2817360" cy="375120"/>
            </a:xfrm>
            <a:prstGeom prst="roundRect">
              <a:avLst>
                <a:gd name="adj" fmla="val 42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5160" y="3473280"/>
              <a:ext cx="28177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ts val="231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8000"/>
                  </a:solidFill>
                  <a:latin typeface="Times New Roman"/>
                </a:rPr>
                <a:t> </a:t>
              </a:r>
              <a:r>
                <a:rPr b="0" lang="en-US" sz="20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r>
                <a:rPr b="0" i="1" lang="en-US" sz="2000" spc="-1" strike="noStrike">
                  <a:solidFill>
                    <a:srgbClr val="000080"/>
                  </a:solidFill>
                  <a:latin typeface="Times New Roman"/>
                </a:rPr>
                <a:t>T9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112400"/>
            <a:ext cx="8229600" cy="26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6080" indent="-316080">
              <a:lnSpc>
                <a:spcPts val="305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mm step, 10s/position, 100 points/trace</a:t>
            </a: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ts val="305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Energy dis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gate on 662 keV photo pea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080" indent="-316080">
              <a:lnSpc>
                <a:spcPts val="305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Rise time dis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lnSpc>
                <a:spcPct val="101000"/>
              </a:lnSpc>
              <a:spcBef>
                <a:spcPts val="70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T90, T60, T30- 662 keV g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6080" indent="0">
              <a:lnSpc>
                <a:spcPts val="3050"/>
              </a:lnSpc>
              <a:spcBef>
                <a:spcPts val="7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83560" y="3438360"/>
            <a:ext cx="18604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x (mm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4258440" y="503280"/>
            <a:ext cx="18622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y(mm/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319560"/>
            <a:ext cx="4546440" cy="2665080"/>
            <a:chOff x="0" y="3319560"/>
            <a:chExt cx="4546440" cy="266508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0" y="3612960"/>
              <a:ext cx="4546440" cy="237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02920" y="3738240"/>
              <a:ext cx="3552840" cy="218520"/>
            </a:xfrm>
            <a:prstGeom prst="roundRect">
              <a:avLst>
                <a:gd name="adj" fmla="val 72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19320" y="3319560"/>
              <a:ext cx="375840" cy="2387520"/>
            </a:xfrm>
            <a:custGeom>
              <a:avLst/>
              <a:gdLst>
                <a:gd name="textAreaLeft" fmla="*/ 360 w 375840"/>
                <a:gd name="textAreaRight" fmla="*/ 375480 w 375840"/>
                <a:gd name="textAreaTop" fmla="*/ 360 h 2387520"/>
                <a:gd name="textAreaBottom" fmla="*/ 2387160 h 2387520"/>
              </a:gdLst>
              <a:ahLst/>
              <a:rect l="textAreaLeft" t="textAreaTop" r="textAreaRight" b="textAreaBottom"/>
              <a:pathLst>
                <a:path w="21600" h="137103">
                  <a:moveTo>
                    <a:pt x="91" y="0"/>
                  </a:moveTo>
                  <a:arcTo wR="91" hR="91" stAng="16200000" swAng="-5400000"/>
                  <a:lnTo>
                    <a:pt x="0" y="137012"/>
                  </a:lnTo>
                  <a:arcTo wR="91" hR="91" stAng="10800000" swAng="-5400000"/>
                  <a:lnTo>
                    <a:pt x="21509" y="137103"/>
                  </a:lnTo>
                  <a:arcTo wR="91" hR="91" stAng="5400000" swAng="-5400000"/>
                  <a:lnTo>
                    <a:pt x="21600" y="91"/>
                  </a:lnTo>
                  <a:arcTo wR="91" hR="91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1739880" y="-56088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36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Coincidence measurements (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98600"/>
            <a:ext cx="7056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2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1. Coinc Ge – 1 TOHR module (</a:t>
            </a:r>
            <a:r>
              <a:rPr b="1" lang="en-US" sz="2000" spc="-1" strike="noStrike" baseline="30000">
                <a:solidFill>
                  <a:srgbClr val="008000"/>
                </a:solidFill>
                <a:latin typeface="Times New Roman"/>
              </a:rPr>
              <a:t>22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N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470480" y="3452760"/>
            <a:ext cx="4665600" cy="2552400"/>
            <a:chOff x="4470480" y="3452760"/>
            <a:chExt cx="4665600" cy="255240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4470480" y="3607920"/>
              <a:ext cx="4665600" cy="239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4938480" y="3584160"/>
              <a:ext cx="3902040" cy="263160"/>
            </a:xfrm>
            <a:prstGeom prst="roundRect">
              <a:avLst>
                <a:gd name="adj" fmla="val 602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518680" y="3452760"/>
              <a:ext cx="393480" cy="2251440"/>
            </a:xfrm>
            <a:custGeom>
              <a:avLst/>
              <a:gdLst>
                <a:gd name="textAreaLeft" fmla="*/ 360 w 393480"/>
                <a:gd name="textAreaRight" fmla="*/ 393120 w 393480"/>
                <a:gd name="textAreaTop" fmla="*/ 360 h 2251440"/>
                <a:gd name="textAreaBottom" fmla="*/ 2251080 h 2251440"/>
              </a:gdLst>
              <a:ahLst/>
              <a:rect l="textAreaLeft" t="textAreaTop" r="textAreaRight" b="textAreaBottom"/>
              <a:pathLst>
                <a:path w="21600" h="123499">
                  <a:moveTo>
                    <a:pt x="87" y="0"/>
                  </a:moveTo>
                  <a:arcTo wR="87" hR="87" stAng="16200000" swAng="-5400000"/>
                  <a:lnTo>
                    <a:pt x="0" y="123412"/>
                  </a:lnTo>
                  <a:arcTo wR="87" hR="87" stAng="10800000" swAng="-5400000"/>
                  <a:lnTo>
                    <a:pt x="21513" y="123499"/>
                  </a:lnTo>
                  <a:arcTo wR="87" hR="87" stAng="5400000" swAng="-5400000"/>
                  <a:lnTo>
                    <a:pt x="21600" y="87"/>
                  </a:lnTo>
                  <a:arcTo wR="87" hR="87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435640" y="339840"/>
            <a:ext cx="3483000" cy="3087720"/>
            <a:chOff x="5435640" y="339840"/>
            <a:chExt cx="3483000" cy="308772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5435640" y="339840"/>
              <a:ext cx="3483000" cy="30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219360" y="2300760"/>
              <a:ext cx="466560" cy="507600"/>
            </a:xfrm>
            <a:prstGeom prst="ellipse">
              <a:avLst/>
            </a:prstGeom>
            <a:noFill/>
            <a:ln w="36720">
              <a:solidFill>
                <a:srgbClr val="dc2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941400" y="1265400"/>
            <a:ext cx="952200" cy="1534680"/>
            <a:chOff x="941400" y="1265400"/>
            <a:chExt cx="952200" cy="1534680"/>
          </a:xfrm>
        </p:grpSpPr>
        <p:sp>
          <p:nvSpPr>
            <p:cNvPr id="120" name=""/>
            <p:cNvSpPr/>
            <p:nvPr/>
          </p:nvSpPr>
          <p:spPr>
            <a:xfrm>
              <a:off x="952200" y="1265400"/>
              <a:ext cx="925560" cy="1062360"/>
            </a:xfrm>
            <a:custGeom>
              <a:avLst/>
              <a:gdLst>
                <a:gd name="textAreaLeft" fmla="*/ 360 w 925560"/>
                <a:gd name="textAreaRight" fmla="*/ 925200 w 925560"/>
                <a:gd name="textAreaTop" fmla="*/ 360 h 1062360"/>
                <a:gd name="textAreaBottom" fmla="*/ 1062000 h 1062360"/>
              </a:gdLst>
              <a:ahLst/>
              <a:rect l="textAreaLeft" t="textAreaTop" r="textAreaRight" b="textAreaBottom"/>
              <a:pathLst>
                <a:path w="21600" h="24791">
                  <a:moveTo>
                    <a:pt x="36" y="0"/>
                  </a:moveTo>
                  <a:arcTo wR="36" hR="36" stAng="16200000" swAng="-5400000"/>
                  <a:lnTo>
                    <a:pt x="0" y="24755"/>
                  </a:lnTo>
                  <a:arcTo wR="36" hR="36" stAng="10800000" swAng="-5400000"/>
                  <a:lnTo>
                    <a:pt x="21564" y="24791"/>
                  </a:lnTo>
                  <a:arcTo wR="36" hR="36" stAng="5400000" swAng="-5400000"/>
                  <a:lnTo>
                    <a:pt x="21600" y="36"/>
                  </a:lnTo>
                  <a:arcTo wR="36" hR="36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41400" y="2305440"/>
              <a:ext cx="925560" cy="134640"/>
            </a:xfrm>
            <a:prstGeom prst="roundRect">
              <a:avLst>
                <a:gd name="adj" fmla="val 1190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52200" y="2281680"/>
              <a:ext cx="222840" cy="51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674000" y="2281680"/>
              <a:ext cx="219600" cy="51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75400" y="2799000"/>
              <a:ext cx="4964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 flipV="1">
            <a:off x="2421000" y="1943280"/>
            <a:ext cx="1720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422440" y="2378160"/>
            <a:ext cx="17208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06600" y="2211480"/>
            <a:ext cx="1800" cy="43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67360" y="1938240"/>
            <a:ext cx="1440" cy="4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44800" y="2392200"/>
            <a:ext cx="168120" cy="1130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239920" y="2451240"/>
            <a:ext cx="671400" cy="17280"/>
          </a:xfrm>
          <a:prstGeom prst="line">
            <a:avLst/>
          </a:prstGeom>
          <a:ln w="1908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01840" y="2459160"/>
            <a:ext cx="615960" cy="1440"/>
          </a:xfrm>
          <a:prstGeom prst="line">
            <a:avLst/>
          </a:prstGeom>
          <a:ln w="19080">
            <a:solidFill>
              <a:srgbClr val="f0170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62280" y="2751120"/>
            <a:ext cx="10634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511 k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20680" y="1614600"/>
            <a:ext cx="7146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2192400"/>
            <a:ext cx="11527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8920" y="6308640"/>
            <a:ext cx="90201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Analysis off line using timestamp and on line using a trigger:  same resul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50080" y="3273480"/>
            <a:ext cx="17319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6200000">
            <a:off x="4669200" y="741240"/>
            <a:ext cx="12096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Na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5435640" y="152280"/>
            <a:ext cx="4370400" cy="365400"/>
            <a:chOff x="5435640" y="152280"/>
            <a:chExt cx="4370400" cy="365400"/>
          </a:xfrm>
        </p:grpSpPr>
        <p:sp>
          <p:nvSpPr>
            <p:cNvPr id="139" name=""/>
            <p:cNvSpPr/>
            <p:nvPr/>
          </p:nvSpPr>
          <p:spPr>
            <a:xfrm>
              <a:off x="5435640" y="152280"/>
              <a:ext cx="4370400" cy="365400"/>
            </a:xfrm>
            <a:prstGeom prst="roundRect">
              <a:avLst>
                <a:gd name="adj" fmla="val 43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35640" y="152280"/>
              <a:ext cx="4370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800080"/>
                  </a:solidFill>
                  <a:latin typeface="Times New Roman"/>
                </a:rPr>
                <a:t>Coinc matrix Ge - 1 TOHR mod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435640" y="5870520"/>
            <a:ext cx="34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imes New Roman"/>
              </a:rPr>
              <a:t>Ge coincidence spec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98560" y="5870520"/>
            <a:ext cx="345744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cc"/>
                </a:solidFill>
                <a:latin typeface="Times New Roman"/>
              </a:rPr>
              <a:t>NaI coincidence spec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3068640"/>
            <a:ext cx="53640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Schematic of coinc set up Ge-1 TOHR mo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5937120"/>
            <a:ext cx="9972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12240" y="5864400"/>
            <a:ext cx="9968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586080" y="4268880"/>
            <a:ext cx="14014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 of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3698280" y="4268880"/>
            <a:ext cx="14014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um of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8960" y="590400"/>
            <a:ext cx="7056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25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2. Coinc Ge - 6 TOHR (</a:t>
            </a:r>
            <a:r>
              <a:rPr b="1" lang="en-US" sz="2000" spc="-1" strike="noStrike" baseline="30000">
                <a:solidFill>
                  <a:srgbClr val="008000"/>
                </a:solidFill>
                <a:latin typeface="Times New Roman"/>
              </a:rPr>
              <a:t>137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s) </a:t>
            </a:r>
            <a:r>
              <a:rPr b="0" lang="en-US" sz="22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200" y="-2872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63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Arial"/>
              </a:rPr>
              <a:t>Coincidence measurements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95440" y="1125360"/>
            <a:ext cx="4087800" cy="2508480"/>
            <a:chOff x="2395440" y="1125360"/>
            <a:chExt cx="4087800" cy="2508480"/>
          </a:xfrm>
        </p:grpSpPr>
        <p:grpSp>
          <p:nvGrpSpPr>
            <p:cNvPr id="151" name=""/>
            <p:cNvGrpSpPr/>
            <p:nvPr/>
          </p:nvGrpSpPr>
          <p:grpSpPr>
            <a:xfrm>
              <a:off x="2395440" y="1125360"/>
              <a:ext cx="4087800" cy="2508480"/>
              <a:chOff x="2395440" y="1125360"/>
              <a:chExt cx="4087800" cy="2508480"/>
            </a:xfrm>
          </p:grpSpPr>
          <p:pic>
            <p:nvPicPr>
              <p:cNvPr id="1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95440" y="1125360"/>
                <a:ext cx="4087800" cy="250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flipH="1">
                <a:off x="3880440" y="2615040"/>
                <a:ext cx="504360" cy="96480"/>
              </a:xfrm>
              <a:prstGeom prst="line">
                <a:avLst/>
              </a:prstGeom>
              <a:ln w="27360">
                <a:solidFill>
                  <a:srgbClr val="e6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965320" y="1571760"/>
              <a:ext cx="960480" cy="457560"/>
              <a:chOff x="2965320" y="1571760"/>
              <a:chExt cx="960480" cy="457560"/>
            </a:xfrm>
          </p:grpSpPr>
          <p:sp>
            <p:nvSpPr>
              <p:cNvPr id="155" name=""/>
              <p:cNvSpPr/>
              <p:nvPr/>
            </p:nvSpPr>
            <p:spPr>
              <a:xfrm>
                <a:off x="2965320" y="1571760"/>
                <a:ext cx="960480" cy="243360"/>
              </a:xfrm>
              <a:prstGeom prst="roundRect">
                <a:avLst>
                  <a:gd name="adj" fmla="val 648"/>
                </a:avLst>
              </a:prstGeom>
              <a:solidFill>
                <a:srgbClr val="28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965320" y="1571760"/>
                <a:ext cx="96048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ts val="18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EG de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817560" y="3889440"/>
            <a:ext cx="6742080" cy="19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spcAft>
                <a:spcPts val="224"/>
              </a:spcAft>
              <a:buClr>
                <a:srgbClr val="0000ff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137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s source: 477 Mbq (~ 1.8 kHz after collima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Aft>
                <a:spcPts val="224"/>
              </a:spcAft>
              <a:buClr>
                <a:srgbClr val="0000ff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 TOHR modules:  - look at the same focal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2 groups:  3NaI are positioned at 79.8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NaI are positioned at 100.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spcAft>
                <a:spcPts val="224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ompton scattering formul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760920" y="5340240"/>
            <a:ext cx="2998800" cy="8589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457280" y="6151680"/>
            <a:ext cx="7143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So, @ 79.8°:  Energy deposited in Ge = 340keV and in NaI = 322k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0" i="1" lang="en-US" sz="1600" spc="-1" strike="noStrike">
                <a:solidFill>
                  <a:srgbClr val="0000ff"/>
                </a:solidFill>
                <a:latin typeface="Times New Roman"/>
              </a:rPr>
              <a:t>@100.2°: Energy deposited in Ge = 401keV and in NaI = 261ke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26920" y="4869000"/>
            <a:ext cx="397368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buClr>
                <a:srgbClr val="0000ff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Times New Roman"/>
              </a:rPr>
              <a:t>Resolution of NaI: 12%-1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29000" y="3632040"/>
            <a:ext cx="614664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Schematic of coinc set up Ge – 6 TOHR modu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00160" y="801720"/>
            <a:ext cx="4443120" cy="3797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653000" y="833400"/>
            <a:ext cx="4298760" cy="37591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65200" y="4951440"/>
            <a:ext cx="8945640" cy="174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Energy range in NaI: 240-360 keV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in Ge : 300-420 k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is energy range can be explained b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4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13600" y="4465800"/>
            <a:ext cx="33987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Energy/2 in Ge(k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7600" y="179280"/>
            <a:ext cx="419724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673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Times New Roman"/>
              </a:rPr>
              <a:t>Coincidence matrix Ge - 6TOH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73280" y="4465800"/>
            <a:ext cx="33987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Energy/2  in Ge (k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2937600" y="1235160"/>
            <a:ext cx="33987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Energy/5 in NaI (k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-1489320" y="1235160"/>
            <a:ext cx="339876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Energy/5 in NaI (keV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1280" y="758880"/>
            <a:ext cx="4570560" cy="364680"/>
            <a:chOff x="71280" y="758880"/>
            <a:chExt cx="4570560" cy="364680"/>
          </a:xfrm>
        </p:grpSpPr>
        <p:sp>
          <p:nvSpPr>
            <p:cNvPr id="171" name=""/>
            <p:cNvSpPr/>
            <p:nvPr/>
          </p:nvSpPr>
          <p:spPr>
            <a:xfrm>
              <a:off x="71280" y="758880"/>
              <a:ext cx="4570560" cy="364680"/>
            </a:xfrm>
            <a:prstGeom prst="roundRect">
              <a:avLst>
                <a:gd name="adj" fmla="val 43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280" y="758880"/>
              <a:ext cx="45705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007a"/>
                  </a:solidFill>
                  <a:latin typeface="Times New Roman"/>
                </a:rPr>
                <a:t>Coinc matrix Ge - TOHR@ 8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643280" y="765000"/>
            <a:ext cx="4246560" cy="365400"/>
            <a:chOff x="4643280" y="765000"/>
            <a:chExt cx="4246560" cy="365400"/>
          </a:xfrm>
        </p:grpSpPr>
        <p:sp>
          <p:nvSpPr>
            <p:cNvPr id="174" name=""/>
            <p:cNvSpPr/>
            <p:nvPr/>
          </p:nvSpPr>
          <p:spPr>
            <a:xfrm>
              <a:off x="4643280" y="765000"/>
              <a:ext cx="4246560" cy="365400"/>
            </a:xfrm>
            <a:prstGeom prst="roundRect">
              <a:avLst>
                <a:gd name="adj" fmla="val 43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643280" y="765000"/>
              <a:ext cx="42465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1125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a007a"/>
                  </a:solidFill>
                  <a:latin typeface="Times New Roman"/>
                </a:rPr>
                <a:t>Coinc matrix Ge - TOHR@ 100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003640" y="5835600"/>
            <a:ext cx="3311640" cy="6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ts val="18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Resolution of Na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ts val="1800"/>
              </a:lnSpc>
              <a:spcBef>
                <a:spcPts val="1125"/>
              </a:spcBef>
              <a:buClr>
                <a:srgbClr val="0066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Times New Roman"/>
              </a:rPr>
              <a:t>Angular coverag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HOA</cp:lastModifiedBy>
  <dcterms:modified xsi:type="dcterms:W3CDTF">2008-07-09T16:32:55Z</dcterms:modified>
  <cp:revision>38</cp:revision>
  <dc:subject/>
  <dc:title>Status of the AGATA scanning table at Orsay</dc:title>
</cp:coreProperties>
</file>