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B62D-C8E2-43F1-B1FD-155BA86A5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273-4540-4C39-BF10-25E87E67A9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81F-D611-4859-A07B-A82FAAFC5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A66-6627-4620-A60D-FE63B8C7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CB9D-A5B7-4B28-BF8B-3D231CA89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963-BC1D-4DCD-8F89-A43B44EE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50A-E9BD-45A5-B9F3-3F563F04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127A-1C42-4F4A-B8EE-A059A82E4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9F5D-9627-467F-81C6-4D97745A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7E9-00A8-4795-B724-67B9FB12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06E-766F-4F68-96E3-C4EEB243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414-6D5F-4C36-82F1-F5D2B680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3A6C-8BEF-49B8-9EE0-C88810ED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873-DF3C-40A9-AF1B-DFD54CBE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A9C3-F775-49CA-B920-032853EA54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213840"/>
            <a:ext cx="737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ore Risetimes (T30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Core_T30_R1-6.png"/>
          <p:cNvPicPr/>
          <p:nvPr/>
        </p:nvPicPr>
        <p:blipFill>
          <a:blip r:embed="rId1"/>
          <a:stretch/>
        </p:blipFill>
        <p:spPr>
          <a:xfrm>
            <a:off x="285840" y="1285920"/>
            <a:ext cx="8700840" cy="4595760"/>
          </a:xfrm>
          <a:prstGeom prst="rect">
            <a:avLst/>
          </a:prstGeom>
          <a:ln w="0">
            <a:noFill/>
          </a:ln>
        </p:spPr>
      </p:pic>
      <p:sp>
        <p:nvSpPr>
          <p:cNvPr id="70" name="TextBox 3"/>
          <p:cNvSpPr/>
          <p:nvPr/>
        </p:nvSpPr>
        <p:spPr>
          <a:xfrm>
            <a:off x="2484000" y="6143760"/>
            <a:ext cx="64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details tomorrow ….  C. Unsw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GS/Experiment Comparison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453960" y="1357200"/>
            <a:ext cx="3971880" cy="4048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4740120" y="1374840"/>
            <a:ext cx="3975120" cy="4054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"/>
          <p:cNvPicPr/>
          <p:nvPr/>
        </p:nvPicPr>
        <p:blipFill>
          <a:blip r:embed="rId4"/>
          <a:stretch/>
        </p:blipFill>
        <p:spPr>
          <a:xfrm>
            <a:off x="-142920" y="5072040"/>
            <a:ext cx="934416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s0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rcRect l="0" t="0" r="0" b="7846"/>
          <a:stretch/>
        </p:blipFill>
        <p:spPr>
          <a:xfrm>
            <a:off x="1857240" y="1571760"/>
            <a:ext cx="50720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57240" y="1071720"/>
            <a:ext cx="915804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"/>
          <p:cNvPicPr/>
          <p:nvPr/>
        </p:nvPicPr>
        <p:blipFill>
          <a:blip r:embed="rId2"/>
          <a:stretch/>
        </p:blipFill>
        <p:spPr>
          <a:xfrm>
            <a:off x="0" y="1081080"/>
            <a:ext cx="91440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erivative Cross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214200" y="1428840"/>
            <a:ext cx="8867880" cy="50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am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verpool Statu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/Matt Dimmock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osstalk properties of AGATA detecto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S003 scan data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rt Bruyneel (IKP Cologn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of T0 calculation with R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aging with two sources and how to determine position resolu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no Bazzacco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mple test experiments to adjust PSA algorithm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an Gernhauser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Characteris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i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dy Bos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ngles and Coincidence scan of c001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l Unsworth (Liverpoo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tus of the Orsay scanning system utilising the TIGRESS cards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 Thi Mai Hoa (CSNSM Ors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novel technique for the characterisation of a HPGe detector position resolution based on pulse shape comparison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abio Crespi  (INFN Mila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rasbourg scanning syste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ncois Didierjean (IPHC Strasbour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aracterisation &amp; PSA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ssion 12 (Thursday P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sentations (PS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d signal basis and tests with extensive grid search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chael Schlarb (TUM Muni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RVAL implementation of a PSA framework and a NARVAL emulation for code development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a Ljungvall (CEA Sacla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of Legnaro data using the NARVAL implementation of the Grid Search algorithm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niele Mengoli (INFN Pado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ernal Fix on c0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Content Placeholder 3" descr="P3190029small.jpg"/>
          <p:cNvPicPr/>
          <p:nvPr/>
        </p:nvPicPr>
        <p:blipFill>
          <a:blip r:embed="rId1"/>
          <a:stretch/>
        </p:blipFill>
        <p:spPr>
          <a:xfrm>
            <a:off x="2852640" y="1428840"/>
            <a:ext cx="3965760" cy="5286240"/>
          </a:xfrm>
          <a:prstGeom prst="rect">
            <a:avLst/>
          </a:prstGeom>
          <a:ln w="0">
            <a:noFill/>
          </a:ln>
        </p:spPr>
      </p:pic>
      <p:sp>
        <p:nvSpPr>
          <p:cNvPr id="58" name="Oval 3"/>
          <p:cNvSpPr/>
          <p:nvPr/>
        </p:nvSpPr>
        <p:spPr>
          <a:xfrm>
            <a:off x="5786280" y="1643040"/>
            <a:ext cx="1571760" cy="150012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iverpool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Feb 08: Asymmetric detecto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6a6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6a6a6"/>
                </a:solidFill>
                <a:latin typeface="Arial"/>
              </a:rPr>
              <a:t>March 08: Test and repair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ril 08: Resolution and x-talk measu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08: Configure scann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ne – July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ate July – mid August: Scanning Lab cl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id August – September 08: Scan c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symmetric scan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s Singles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incidence scan -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241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 front face &amp; side s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ctor alig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cation of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 x-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lood measurement with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rief update since last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. Dimmock – PhD thesis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isting GRT cards – last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issioning GRETINA digitiser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w slides to indicate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001 scan … in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ison of MGS/Experiment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fferential Crosstalk s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001 singles intensity@662k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Intensity_R1-6.png"/>
          <p:cNvPicPr/>
          <p:nvPr/>
        </p:nvPicPr>
        <p:blipFill>
          <a:blip r:embed="rId2"/>
          <a:stretch/>
        </p:blipFill>
        <p:spPr>
          <a:xfrm>
            <a:off x="428760" y="1500120"/>
            <a:ext cx="815652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14:33:26Z</dcterms:created>
  <dc:creator>FSC</dc:creator>
  <dc:description/>
  <dc:language>en-US</dc:language>
  <cp:lastModifiedBy> Andy Boston</cp:lastModifiedBy>
  <dcterms:modified xsi:type="dcterms:W3CDTF">2008-07-09T13:54:12Z</dcterms:modified>
  <cp:revision>160</cp:revision>
  <dc:subject/>
  <dc:title>Slide 1</dc:title>
</cp:coreProperties>
</file>