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EDDE-D579-410E-A7EB-99B4783098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A3E3-3600-4362-963D-FEAB0B616C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C7BE-FC50-445A-8995-FD0CFE4724A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BDBF1-DBE1-41D1-A2EC-C7502AF133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D272-2C02-4F23-A069-BEA67273026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D0C-A93B-415C-AF32-9CA9B4BA62E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21AF-816F-43BC-856B-359FE3D6593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62E7-DE93-46E7-8B32-A018E6E95E7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F835-EFEB-4867-AE85-FDEEF8BE8DD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040B-F293-46EB-A90B-DFC8C79405E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103B-2DAD-475A-B85D-C169B477B7D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FDF6-1F31-4099-B724-EA0AD84D7F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01F8-9B3D-433B-989E-831A16E02E2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6A46-AF07-494F-AA76-EAE685B3AE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29E9-D669-42AE-8B94-EBA9913FC5D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BA21-56F4-404B-ADF8-D5B406A54F0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6C17-0BCC-480E-87FA-F5FCB9F4E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E5F-E776-49F0-9BB8-C6329C9F7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3EDF-C55D-4D7D-8EC6-B1206DD13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84E-FA25-4C18-8BCC-363B41471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2F42-B442-47E1-9049-F7BB339C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A499-BC4E-4667-8A56-C0B6F726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255D-6B15-4BC3-86E0-589F226F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527A8-75B9-405D-A1CF-196649F79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D120-41A9-4711-81CC-660F99C0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50959-0ECC-4C1F-96B9-869665FF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A7B4-DB4C-43FA-8C22-ECBEDD9C2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951B-4AAB-460E-9EEF-697F49BB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69063-E626-478E-BD69-A96DEF1E5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99E0-81BE-4DC4-819B-8919CC67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FD9C2-1412-40D0-B985-6B07FCB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2D73-FAF1-47A0-BA92-2F6DA209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11EA-DF68-47DF-96A7-6460E4C04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F080-4246-44FB-BD49-3CC26D3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F63E-4F53-4C89-B0B1-E1841E51D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BB5-B276-41E6-B680-2EA280AF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015-8BB7-4159-B84F-4411CFB4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086C-062D-4331-B189-0924D585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3454-2EF4-4935-B330-714201F3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7E82-9CAE-4604-B315-997DD06E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F792-DCAE-451B-9EEE-594CBABF9B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colour_logo_1849"/>
          <p:cNvPicPr/>
          <p:nvPr/>
        </p:nvPicPr>
        <p:blipFill>
          <a:blip r:embed="rId2"/>
          <a:srcRect l="13369" t="30157" r="73409" b="31787"/>
          <a:stretch/>
        </p:blipFill>
        <p:spPr>
          <a:xfrm>
            <a:off x="142920" y="95400"/>
            <a:ext cx="57132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Object 3"/>
          <p:cNvGraphicFramePr/>
          <p:nvPr/>
        </p:nvGraphicFramePr>
        <p:xfrm>
          <a:off x="8340840" y="0"/>
          <a:ext cx="803160" cy="108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40840" y="0"/>
                    <a:ext cx="803160" cy="108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6C30-BD06-4E7C-A2E0-0B6B366EF0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2928960"/>
            <a:ext cx="727236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GATA wee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Uppsala, July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13840" y="214200"/>
            <a:ext cx="6715080" cy="28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ingles and Coincidence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canning of C001 in Liverp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0" descr="uni-logo.png"/>
          <p:cNvPicPr/>
          <p:nvPr/>
        </p:nvPicPr>
        <p:blipFill>
          <a:blip r:embed="rId1"/>
          <a:srcRect l="11078" t="27908" r="9562" b="28270"/>
          <a:stretch/>
        </p:blipFill>
        <p:spPr>
          <a:xfrm>
            <a:off x="246240" y="5357880"/>
            <a:ext cx="446868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3"/>
          <p:cNvGraphicFramePr/>
          <p:nvPr/>
        </p:nvGraphicFramePr>
        <p:xfrm>
          <a:off x="7643880" y="5072040"/>
          <a:ext cx="1143000" cy="1544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43880" y="5072040"/>
                    <a:ext cx="1143000" cy="15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8" descr="agata.png"/>
          <p:cNvPicPr/>
          <p:nvPr/>
        </p:nvPicPr>
        <p:blipFill>
          <a:blip r:embed="rId4"/>
          <a:srcRect l="15539" t="0" r="17680" b="0"/>
          <a:stretch/>
        </p:blipFill>
        <p:spPr>
          <a:xfrm>
            <a:off x="6715080" y="0"/>
            <a:ext cx="242892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re Risetimes (T9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3" descr="Core_T90_R1-6.png"/>
          <p:cNvPicPr/>
          <p:nvPr/>
        </p:nvPicPr>
        <p:blipFill>
          <a:blip r:embed="rId1"/>
          <a:stretch/>
        </p:blipFill>
        <p:spPr>
          <a:xfrm>
            <a:off x="565200" y="1000080"/>
            <a:ext cx="8001000" cy="3605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357120" y="4929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90 – t10 for fold 1 photopeak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ak field evident at corners of ring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Risetimes (T3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3" descr="Seg_T30_R1-6.png"/>
          <p:cNvPicPr/>
          <p:nvPr/>
        </p:nvPicPr>
        <p:blipFill>
          <a:blip r:embed="rId1"/>
          <a:stretch/>
        </p:blipFill>
        <p:spPr>
          <a:xfrm>
            <a:off x="760320" y="1131840"/>
            <a:ext cx="7643880" cy="35830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857160" y="501984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30 – t10 for events when 662 keV deposited in one segment, for rings 1 to 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Risetimes (T9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Seg_T90_R1-6.png"/>
          <p:cNvPicPr/>
          <p:nvPr/>
        </p:nvPicPr>
        <p:blipFill>
          <a:blip r:embed="rId1"/>
          <a:stretch/>
        </p:blipFill>
        <p:spPr>
          <a:xfrm>
            <a:off x="571680" y="1247760"/>
            <a:ext cx="8130960" cy="375300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571680" y="5487840"/>
            <a:ext cx="80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ong T90 at corners of ring 1 due to weak fie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mage Charge Asymm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ICA_R1-6.png"/>
          <p:cNvPicPr/>
          <p:nvPr/>
        </p:nvPicPr>
        <p:blipFill>
          <a:blip r:embed="rId1"/>
          <a:stretch/>
        </p:blipFill>
        <p:spPr>
          <a:xfrm>
            <a:off x="565200" y="1071720"/>
            <a:ext cx="7929360" cy="3738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3"/>
          <p:cNvSpPr/>
          <p:nvPr/>
        </p:nvSpPr>
        <p:spPr>
          <a:xfrm>
            <a:off x="285840" y="5148360"/>
            <a:ext cx="835812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CA =  [1000 x (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loc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nt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/  (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clock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anti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] + 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uced sensitivity  in mid radius regions of seg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osstalk 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alogue crosstalk measurements unreliable due to problems with spectroscopy amplifiers and ADC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gital crosstalk measurements to commence shortly after return to Liverpool using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alibri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 source and baseline offset measurements from GRT4 ca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85724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Collabo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thew Dimm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eve Barr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y Bo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elen Bos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en Coo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John Cres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Energy Resolution Measu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Content Placeholder 3" descr="C001_Res_Liv.TIF"/>
          <p:cNvPicPr/>
          <p:nvPr/>
        </p:nvPicPr>
        <p:blipFill>
          <a:blip r:embed="rId1"/>
          <a:srcRect l="3144" t="13741" r="2227" b="12350"/>
          <a:stretch/>
        </p:blipFill>
        <p:spPr>
          <a:xfrm>
            <a:off x="3643200" y="1373040"/>
            <a:ext cx="5357880" cy="2341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001_Res_Col.TIF"/>
          <p:cNvPicPr/>
          <p:nvPr/>
        </p:nvPicPr>
        <p:blipFill>
          <a:blip r:embed="rId2"/>
          <a:srcRect l="2019" t="13373" r="2019" b="11090"/>
          <a:stretch/>
        </p:blipFill>
        <p:spPr>
          <a:xfrm>
            <a:off x="3571920" y="4143240"/>
            <a:ext cx="5429160" cy="23576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214200" y="1214280"/>
            <a:ext cx="32860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FWHM measured in Liverpool (top) at 60 keV (blue) and 1332 keV (re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001 coupled to ORTEC 671 spectroscopy amplifier and ORTEC AD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unt rate maintained below 2 kHz on c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ese results are as good or better than those found in Cologne 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gment F4 missing from data due to broken connection between FET and pream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fficiency Measu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Chart 4" descr=""/>
          <p:cNvPicPr/>
          <p:nvPr/>
        </p:nvPicPr>
        <p:blipFill>
          <a:blip r:embed="rId1"/>
          <a:stretch/>
        </p:blipFill>
        <p:spPr>
          <a:xfrm>
            <a:off x="3382920" y="1407960"/>
            <a:ext cx="5585040" cy="50961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285840" y="1357200"/>
            <a:ext cx="328608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bsolute efficiencies were measured using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241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m and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alibri"/>
              </a:rPr>
              <a:t>152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u sources placed 25cm from the front face of the crys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sults for C001 are consistent with those seen for S00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= 0.30% @ 120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lang="en-GB" sz="2000" spc="-1" strike="noStrike" baseline="-25000">
                <a:solidFill>
                  <a:srgbClr val="000000"/>
                </a:solidFill>
                <a:latin typeface="Calibri"/>
              </a:rPr>
              <a:t>AB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= 0.08% @ 1408 k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anning table Set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3429000" y="1500120"/>
            <a:ext cx="5419800" cy="4200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214200" y="1285920"/>
            <a:ext cx="31435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001 mounted on coincidence scanning assemb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llimated 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s source moved in x-y plane on Parker scanning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action position of 90˚ Compton scatter events identified through coincidence between C001 and scintillators mounted at 6 depth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system is triggered all 37 signals are recorded in 128 12.5ns samples using 14 GRT4 car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me Al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001_traces.tif"/>
          <p:cNvPicPr/>
          <p:nvPr/>
        </p:nvPicPr>
        <p:blipFill>
          <a:blip r:embed="rId1"/>
          <a:srcRect l="1633" t="9375" r="800" b="3124"/>
          <a:stretch/>
        </p:blipFill>
        <p:spPr>
          <a:xfrm>
            <a:off x="2714760" y="1428840"/>
            <a:ext cx="6429240" cy="46162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214200" y="1285920"/>
            <a:ext cx="2357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alignment has been the limiting factor in analysis of scan data from symmetric prototype det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AGATA signals per 4 channel GRT ca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 channel per card fed with triangular pul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interpolation linear fit to both sides of pulse will identify peak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l signals then aligned to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egment Gated Intens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3" descr="Intensity_R1-6.png"/>
          <p:cNvPicPr/>
          <p:nvPr/>
        </p:nvPicPr>
        <p:blipFill>
          <a:blip r:embed="rId1"/>
          <a:stretch/>
        </p:blipFill>
        <p:spPr>
          <a:xfrm>
            <a:off x="487440" y="1071720"/>
            <a:ext cx="8156520" cy="42256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428760" y="5429160"/>
            <a:ext cx="828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counts at each scanning table position when 662 keV is deposited in a single segment during singles scan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rystal Align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285840" y="1214280"/>
            <a:ext cx="2857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wo methods applied to intensity map data to obtain crystal t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 1 finds the minimum bounding circle of points near centre which fall below threshold number of cou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thod 2 uses a cross correlation between the intensity map for each ring and an image of a single circ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38 mm between centres of rings 2 – 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.88 mm between centres of ring 1 and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Ring_Centres.tif"/>
          <p:cNvPicPr/>
          <p:nvPr/>
        </p:nvPicPr>
        <p:blipFill>
          <a:blip r:embed="rId1"/>
          <a:srcRect l="5644" t="2103" r="6655" b="3360"/>
          <a:stretch/>
        </p:blipFill>
        <p:spPr>
          <a:xfrm>
            <a:off x="3214800" y="1298520"/>
            <a:ext cx="5786280" cy="49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WD Energy Spect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C001_Core_Energy.tif"/>
          <p:cNvPicPr/>
          <p:nvPr/>
        </p:nvPicPr>
        <p:blipFill>
          <a:blip r:embed="rId1"/>
          <a:srcRect l="6646" t="0" r="7516" b="0"/>
          <a:stretch/>
        </p:blipFill>
        <p:spPr>
          <a:xfrm>
            <a:off x="2000160" y="1023840"/>
            <a:ext cx="707256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Core_T30_R1-6.png"/>
          <p:cNvPicPr/>
          <p:nvPr/>
        </p:nvPicPr>
        <p:blipFill>
          <a:blip r:embed="rId1"/>
          <a:stretch/>
        </p:blipFill>
        <p:spPr>
          <a:xfrm>
            <a:off x="519120" y="1031760"/>
            <a:ext cx="8072280" cy="3667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357120" y="492912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30 – t10 for fold 1 photopeak ev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ast axis (100) not aligned with any segment cent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2:42:32Z</dcterms:created>
  <dc:creator>Windows User</dc:creator>
  <dc:description/>
  <dc:language>en-US</dc:language>
  <cp:lastModifiedBy>Windows User</cp:lastModifiedBy>
  <dcterms:modified xsi:type="dcterms:W3CDTF">2008-07-10T10:06:28Z</dcterms:modified>
  <cp:revision>77</cp:revision>
  <dc:subject/>
  <dc:title>AGATA week Uppsala, July 2008</dc:title>
</cp:coreProperties>
</file>