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6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6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6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6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6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6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6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6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62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160" y="85320"/>
            <a:ext cx="618156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62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6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6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6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6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771280" y="6545160"/>
            <a:ext cx="453708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AGATA week, Orsay (France), January 15-18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89800"/>
            <a:ext cx="4284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Wolfram KORTEN, JRA-02 AGAT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1547640" cy="9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56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33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07480" y="-38160"/>
            <a:ext cx="1163520" cy="1600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8535960" y="5854680"/>
            <a:ext cx="573120" cy="1015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8532720" y="5799240"/>
            <a:ext cx="6112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f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160" y="267840"/>
            <a:ext cx="6181560" cy="46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ATA within EUR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8567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0099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330099"/>
                </a:solidFill>
                <a:latin typeface="Comic Sans MS"/>
              </a:rPr>
              <a:t>Objectives: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Development,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nstruction, commissioning and evaluation of the first module(s) for an advanced gamma ray tracking array 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(AGATA) including digital front-end electronics and a data acquisition system capable of handling the gamma-ray tracking procedure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0099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330099"/>
                </a:solidFill>
                <a:latin typeface="Comic Sans MS"/>
              </a:rPr>
              <a:t>Deliverables: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Full AGATA Prototype system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 (now planned for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09/08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(triple-cluster module, local level processing electronics, specific data acquisition hardware,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valuation report on full prototype commissioning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 (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2/08</a:t>
            </a: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) (incl. detector module characterisation, LLP incl. PSA, GLP and tracking, MC simulations and data analysis routines)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99"/>
                </a:solidFill>
                <a:latin typeface="Comic Sans MS"/>
              </a:rPr>
              <a:t>Milestones and deliverables for 2008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Characterisation of Ge detector prototype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(ongoing 06/0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66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Noise problems with detectors/cryostats solved 12/07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66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Asymmetric Ge detector delivered to Liverpool 02/08 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rototype triple-module assembly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(ongoing)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66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3 cryostat(s) delivered end 2007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66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First module completely integrated (111 signals) by 03/08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cc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99"/>
                </a:solidFill>
                <a:latin typeface="Comic Sans MS"/>
              </a:rPr>
              <a:t>Still some minor difficulties to solve before delivery (04/08?)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ront-end electronics construction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(ongo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0066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cc"/>
                </a:solidFill>
                <a:latin typeface="Comic Sans MS"/>
              </a:rPr>
              <a:t>All final prototypes delivered (04/08)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cc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99"/>
                </a:solidFill>
                <a:latin typeface="Comic Sans MS"/>
              </a:rPr>
              <a:t>Validation test until 05/08; first chain ready by 06/08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2" marL="1131480" indent="-226080">
              <a:spcBef>
                <a:spcPts val="451"/>
              </a:spcBef>
              <a:buClr>
                <a:srgbClr val="cc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99"/>
                </a:solidFill>
                <a:latin typeface="Comic Sans MS"/>
              </a:rPr>
              <a:t>System complete for one triple Ge detector (09/08)</a:t>
            </a:r>
            <a:endParaRPr b="0" lang="en-US" sz="18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ata Acquisition system commissioned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(ongoing until 05/08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GATA demonstrator subsystems commissioned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by 06/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livery of the full AGATA prototype system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 by 09/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645920" y="102960"/>
            <a:ext cx="6310440" cy="949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TA within the EURONS pro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Status and developments in 2008 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160" y="236160"/>
            <a:ext cx="6181560" cy="522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TA deliverables for EUR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62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1200" y="1557360"/>
          <a:ext cx="8507520" cy="4064040"/>
        </p:xfrm>
        <a:graphic>
          <a:graphicData uri="http://schemas.openxmlformats.org/drawingml/2006/table">
            <a:tbl>
              <a:tblPr/>
              <a:tblGrid>
                <a:gridCol w="978120"/>
                <a:gridCol w="4278240"/>
                <a:gridCol w="865080"/>
                <a:gridCol w="1217520"/>
                <a:gridCol w="592200"/>
                <a:gridCol w="576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1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of the full AGATA prototype syste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CCLR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1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l evaluation report on the full prototype system commission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CEA-DS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2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of prototype triple-cluster 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-Köl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2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 on the characterisation of the detector 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U-Liverp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3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of prototype local level processing electronic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0" lang="en-US" sz="1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 on local level processing system and pulse shape analy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TUM/IN</a:t>
                      </a:r>
                      <a:r>
                        <a:rPr b="1" lang="en-US" sz="1400" spc="-1" strike="noStrike" baseline="-30000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400" spc="-1" strike="noStrike" baseline="-30000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4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ivery of prototypes of specific data acquisition hardw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cc"/>
                          </a:solidFill>
                          <a:latin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4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 on global level processing system and gamma-ray trac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IN</a:t>
                      </a:r>
                      <a:r>
                        <a:rPr b="1" lang="en-US" sz="1400" spc="-1" strike="noStrike" baseline="-30000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r>
                        <a:rPr b="1" lang="en-US" sz="1400" spc="-1" strike="noStrike" baseline="-30000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/INF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-J08-5.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 on MC simulations and data analysis routine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-J02-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0099"/>
                          </a:solidFill>
                          <a:latin typeface="Times New Roman"/>
                          <a:ea typeface="Times New Roman"/>
                        </a:rPr>
                        <a:t>U-Uppsa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93240" y="5811840"/>
            <a:ext cx="74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s of </a:t>
            </a:r>
            <a:r>
              <a:rPr b="1" lang="en-US" sz="1800" spc="-1" strike="noStrike">
                <a:solidFill>
                  <a:srgbClr val="330099"/>
                </a:solidFill>
                <a:latin typeface="Arial"/>
              </a:rPr>
              <a:t>all AGATA tea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eded by October/November 2008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ease start now to prepare these rep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RONS Town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hodes, September 17-19,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95280" y="1022400"/>
            <a:ext cx="7632720" cy="4567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09040" y="5661000"/>
            <a:ext cx="597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Venue: Rodos Palace International Convention Cent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Abstracts for poster presentations still poss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3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Registration deadline August 15th,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4480" y="3357720"/>
            <a:ext cx="76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0099"/>
                </a:solidFill>
                <a:uFillTx/>
                <a:latin typeface="Arial"/>
              </a:rPr>
              <a:t>http://www.gsi.de/informationen/jofu/EURONS/TownMeetingRhodos.html</a:t>
            </a:r>
            <a:r>
              <a:rPr b="0" lang="en-US" sz="1800" spc="-1" strike="noStrike">
                <a:solidFill>
                  <a:srgbClr val="33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237600"/>
            <a:ext cx="6181560" cy="522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GATA Planning (2008 and beyond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8840" y="1484280"/>
            <a:ext cx="88902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emonstrator commissioning</a:t>
            </a:r>
            <a:r>
              <a:rPr b="1" lang="en-US" sz="2400" spc="-1" strike="noStrike">
                <a:solidFill>
                  <a:srgbClr val="330099"/>
                </a:solidFill>
                <a:latin typeface="Comic Sans MS"/>
              </a:rPr>
              <a:t> at LNL: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ff0000"/>
                </a:solidFill>
                <a:latin typeface="Comic Sans MS"/>
              </a:rPr>
              <a:t>n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semester 2008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99"/>
                </a:solidFill>
                <a:latin typeface="Comic Sans MS"/>
              </a:rPr>
              <a:t>First physics campaign at LNL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from spring 2009 - ?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urther campaigns at GANIL (2010/11) and GSI (2011/1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ea1f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f0a"/>
                </a:solidFill>
                <a:latin typeface="Comic Sans MS"/>
              </a:rPr>
              <a:t>LoI</a:t>
            </a:r>
            <a:r>
              <a:rPr b="1" lang="en-US" sz="2400" spc="-1" strike="noStrike">
                <a:solidFill>
                  <a:srgbClr val="330099"/>
                </a:solidFill>
                <a:latin typeface="Comic Sans MS"/>
              </a:rPr>
              <a:t> for construction phase signed in 2005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rst successful bids for new funding (D, I, UK, …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ea1f0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1f0a"/>
                </a:solidFill>
                <a:latin typeface="Comic Sans MS"/>
              </a:rPr>
              <a:t>MoU</a:t>
            </a:r>
            <a:r>
              <a:rPr b="1" lang="en-US" sz="2400" spc="-1" strike="noStrike">
                <a:solidFill>
                  <a:srgbClr val="330099"/>
                </a:solidFill>
                <a:latin typeface="Comic Sans MS"/>
              </a:rPr>
              <a:t> for AGATA construction and exploitation is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ady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arting in second half 2008, valid until end of 201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al continuous upgrade, 20 AGATA units expected by 20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NSAR </a:t>
            </a:r>
            <a:r>
              <a:rPr b="1" lang="en-US" sz="2400" spc="-1" strike="noStrike">
                <a:solidFill>
                  <a:srgbClr val="330099"/>
                </a:solidFill>
                <a:latin typeface="Comic Sans MS"/>
              </a:rPr>
              <a:t>FP7-I3 Proposal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upport for operation costs (~400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€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for 4 yea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ood evaluation report: 13/15 (threshold 13.5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ith 4.5/5 for science &amp; implementation 4/5 for management (?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99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3300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330099"/>
                </a:solidFill>
                <a:latin typeface="Comic Sans MS"/>
              </a:rPr>
              <a:t>reserve list (as in FP6), ongoing lobbying, but chances are slim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7fc"/>
            </a:gs>
            <a:gs pos="100000">
              <a:srgbClr val="cccd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85320"/>
            <a:ext cx="6181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morandum of Understanding for construction and exploitation of AG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MoU Annexes defining the project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A.1: List of Parties (i.e. signatories)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A.2: List of Collaborating Institutions: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39 laboratories from 10 count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B.1: AGATA Equipment and Capital Investment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Capital costs: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12295 k€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(for 15 new AGATA uni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Human resources: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200 person-years (in ~4 year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B.2: Sharing of Capital investment and Human resources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3 AGATA units from D,F,I &amp; UK; 2 from S, 1 from Tk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Smaller amounts of funding from Ro, Bu, Fin, Pl, …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B.3: Construction schedule and Milestones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4 years to complete the 20 unit AGATA syste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Annexe B.4: Responsibilities for the construction and operation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Needs to be worked out over the next 6-12 month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C.1: AGATA operation costs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C.2: Sharing of AGATA operation costs</a:t>
            </a: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99"/>
                </a:solidFill>
                <a:latin typeface="Comic Sans MS"/>
              </a:rPr>
              <a:t>Annexe D: AGATA Management Structure</a:t>
            </a:r>
            <a:endParaRPr b="0" lang="en-US" sz="2000" spc="-1" strike="noStrike">
              <a:solidFill>
                <a:srgbClr val="330099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SC, AMB, </a:t>
            </a:r>
            <a:r>
              <a:rPr b="1" i="1" lang="en-US" sz="1800" spc="-1" strike="noStrike">
                <a:solidFill>
                  <a:srgbClr val="ff0000"/>
                </a:solidFill>
                <a:latin typeface="Comic Sans MS"/>
              </a:rPr>
              <a:t>ACC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representing all collaborating institutio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0T10:05:26Z</dcterms:created>
  <dc:creator>w.korten</dc:creator>
  <dc:description/>
  <dc:language>en-US</dc:language>
  <cp:lastModifiedBy>Wolfram Korten</cp:lastModifiedBy>
  <dcterms:modified xsi:type="dcterms:W3CDTF">2008-07-11T08:30:48Z</dcterms:modified>
  <cp:revision>39</cp:revision>
  <dc:subject/>
  <dc:title>Status of the AGATA project</dc:title>
</cp:coreProperties>
</file>