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1FC6-6917-4EF3-9F5F-DCAE73157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last part of my talk, I would like to draw the attention to a problem common to any segmented detector : namely cros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reates strong energy shifts in the segment sum energy, and this proportional to the hit multipl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s are shifted compared to singles. Three folds even more, and so on. 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analyzes the doubles, one observes that it does not simply consists of a single peak, b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orting the two folds into all possible twofold combinations, one observes that the centroids of these peaks are individually shifting according to a regular pat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happens in the core,however there is no such offset observed as is in the se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thus real physics behind this phenomen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D03-F99B-4E7C-9378-65F05E5A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729-B731-4092-BA5E-AFAE0AF1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303-0578-47FB-B13A-5F56F7AE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0DC-CEF4-48B2-9EF6-CFC54F4A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A50F-F43B-4782-8D34-F5FD09CD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CA1-B2D2-44A8-BEFA-A0372E29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902-F0E7-41CB-A505-B2436727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617-8C5A-4612-8E2C-7F496253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BF5-EEB8-441F-85FF-C7299552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39A-BA46-431E-A0CC-3D460011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F11-4F88-449B-9B92-F2625087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D12-86A9-43F0-B0A1-D0E42FC9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AF1D-74F4-4D70-A3A8-2C20BB692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Bmovies" descr=""/>
          <p:cNvPicPr/>
          <p:nvPr/>
        </p:nvPicPr>
        <p:blipFill>
          <a:blip r:embed="rId1"/>
          <a:stretch/>
        </p:blipFill>
        <p:spPr>
          <a:xfrm>
            <a:off x="0" y="-295200"/>
            <a:ext cx="9220320" cy="720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12420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origin o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ial Crosstal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segmented det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. Bruyneel  for the AGATA week , Uppsala, Sweden 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3320" y="860400"/>
            <a:ext cx="8507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talk is present i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mented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luences energy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s strong energy shifts proportional to f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luences PSA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osstalk mixes with transient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and accurate crosstalk detection and energy correction methods develo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o : Crosstalk measurement and correction in P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3200400"/>
            <a:ext cx="5181840" cy="353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12960" y="3422520"/>
            <a:ext cx="322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um of segment Energies vs f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ross talk</a:t>
            </a:r>
            <a:r>
              <a:rPr b="1" lang="de-DE" sz="3200" spc="-1" strike="noStrike">
                <a:solidFill>
                  <a:srgbClr val="3333cc"/>
                </a:solidFill>
                <a:latin typeface="Comic Sans MS"/>
              </a:rPr>
              <a:t> analysis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: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8954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10360" y="3544920"/>
          <a:ext cx="3501720" cy="288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10360" y="3544920"/>
                    <a:ext cx="350172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843520" y="4230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72120" y="3497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alk sig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talk in all its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90720" y="4411800"/>
            <a:ext cx="2687040" cy="1932840"/>
            <a:chOff x="990720" y="4411800"/>
            <a:chExt cx="2687040" cy="1932840"/>
          </a:xfrm>
        </p:grpSpPr>
        <p:sp>
          <p:nvSpPr>
            <p:cNvPr id="62" name=""/>
            <p:cNvSpPr/>
            <p:nvPr/>
          </p:nvSpPr>
          <p:spPr>
            <a:xfrm>
              <a:off x="1143000" y="4799160"/>
              <a:ext cx="2009160" cy="609480"/>
            </a:xfrm>
            <a:custGeom>
              <a:avLst/>
              <a:gdLst/>
              <a:ahLst/>
              <a:rect l="l" t="t" r="r" b="b"/>
              <a:pathLst>
                <a:path w="1488" h="384">
                  <a:moveTo>
                    <a:pt x="0" y="384"/>
                  </a:moveTo>
                  <a:lnTo>
                    <a:pt x="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2105640" y="4507200"/>
              <a:ext cx="773280" cy="58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54320" y="4678560"/>
              <a:ext cx="52344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121920" y="4773600"/>
              <a:ext cx="4716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720" y="4923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00000" y="4799160"/>
              <a:ext cx="1295280" cy="1066680"/>
            </a:xfrm>
            <a:custGeom>
              <a:avLst/>
              <a:gdLst/>
              <a:ahLst/>
              <a:rect l="l" t="t" r="r" b="b"/>
              <a:pathLst>
                <a:path w="816" h="672">
                  <a:moveTo>
                    <a:pt x="0" y="0"/>
                  </a:moveTo>
                  <a:lnTo>
                    <a:pt x="0" y="672"/>
                  </a:lnTo>
                  <a:lnTo>
                    <a:pt x="816" y="6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89160" y="5740560"/>
              <a:ext cx="52344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056760" y="5835960"/>
              <a:ext cx="47160" cy="4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2113920" y="5571000"/>
              <a:ext cx="772920" cy="58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565280" y="5303880"/>
              <a:ext cx="453600" cy="152280"/>
              <a:chOff x="1565280" y="5303880"/>
              <a:chExt cx="453600" cy="152280"/>
            </a:xfrm>
          </p:grpSpPr>
          <p:sp>
            <p:nvSpPr>
              <p:cNvPr id="72" name=""/>
              <p:cNvSpPr/>
              <p:nvPr/>
            </p:nvSpPr>
            <p:spPr>
              <a:xfrm rot="5400000">
                <a:off x="1715760" y="5153040"/>
                <a:ext cx="152280" cy="45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6720" y="5303880"/>
                <a:ext cx="302760" cy="6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56720" y="5396040"/>
                <a:ext cx="302760" cy="60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038240" y="538020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76040" y="54374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28760" y="525636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66920" y="5313600"/>
              <a:ext cx="15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81240" y="4799160"/>
              <a:ext cx="151920" cy="53352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066680" y="4986360"/>
              <a:ext cx="151920" cy="17784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0" y="56"/>
                  </a:moveTo>
                  <a:cubicBezTo>
                    <a:pt x="20" y="84"/>
                    <a:pt x="40" y="112"/>
                    <a:pt x="48" y="104"/>
                  </a:cubicBezTo>
                  <a:cubicBezTo>
                    <a:pt x="56" y="96"/>
                    <a:pt x="40" y="16"/>
                    <a:pt x="48" y="8"/>
                  </a:cubicBezTo>
                  <a:cubicBezTo>
                    <a:pt x="56" y="0"/>
                    <a:pt x="76" y="28"/>
                    <a:pt x="96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95360" y="484668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50520" y="4846680"/>
              <a:ext cx="50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5280" y="538956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809880" y="4724280"/>
            <a:ext cx="510552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tal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rtional Xtalk model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iller = 1/sA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ller does not expla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ise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preamplifier…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04920" y="1182600"/>
            <a:ext cx="8610480" cy="2932200"/>
            <a:chOff x="304920" y="1182600"/>
            <a:chExt cx="8610480" cy="2932200"/>
          </a:xfrm>
        </p:grpSpPr>
        <p:sp>
          <p:nvSpPr>
            <p:cNvPr id="86" name=""/>
            <p:cNvSpPr/>
            <p:nvPr/>
          </p:nvSpPr>
          <p:spPr>
            <a:xfrm>
              <a:off x="3733920" y="1535040"/>
              <a:ext cx="51814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portional Xtalk (5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decay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Ener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fferential Xtalk (only during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risetim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P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04920" y="1182600"/>
              <a:ext cx="3502080" cy="2932200"/>
              <a:chOff x="304920" y="1182600"/>
              <a:chExt cx="3502080" cy="293220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304920" y="1230120"/>
              <a:ext cx="3502080" cy="28846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4920" y="1230120"/>
                        <a:ext cx="3502080" cy="288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838440" y="191592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67040" y="11826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ure Xtalk signal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752480" y="2678040"/>
              <a:ext cx="19814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7600" y="161136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amp model describing rise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44440" y="1100160"/>
          <a:ext cx="6853320" cy="46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1100160"/>
                    <a:ext cx="685332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209680" y="213372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imes New Roman"/>
              </a:rPr>
              <a:t>out</a:t>
            </a:r>
            <a:r>
              <a:rPr b="0" lang="en-US" sz="1800" spc="-1" strike="noStrike">
                <a:solidFill>
                  <a:srgbClr val="ff00ff"/>
                </a:solidFill>
                <a:latin typeface="Times New Roman"/>
              </a:rPr>
              <a:t>/I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ff00ff"/>
                </a:solidFill>
                <a:latin typeface="Times New Roman"/>
              </a:rPr>
              <a:t> = Z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imes New Roman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4148280"/>
            <a:ext cx="1295640" cy="82836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7432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= V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/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129200"/>
            <a:ext cx="2743200" cy="936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452840"/>
            <a:ext cx="2590920" cy="51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Z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f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A + 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5943600"/>
            <a:ext cx="716292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ld Resist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 - E. Gatti and P. Manfredi – Il Nuovo Cimento vol. 9 serie 3 (198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“Analogue circuits techniques Part II ” F. Anghinolfi , CERN (2002) – (available onl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475240" y="1514520"/>
            <a:ext cx="2305800" cy="1371600"/>
            <a:chOff x="5475240" y="1514520"/>
            <a:chExt cx="2305800" cy="1371600"/>
          </a:xfrm>
        </p:grpSpPr>
        <p:sp>
          <p:nvSpPr>
            <p:cNvPr id="104" name=""/>
            <p:cNvSpPr/>
            <p:nvPr/>
          </p:nvSpPr>
          <p:spPr>
            <a:xfrm>
              <a:off x="5475240" y="1514520"/>
              <a:ext cx="22096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551200" y="1666800"/>
              <a:ext cx="2229840" cy="1025640"/>
              <a:chOff x="5551200" y="1666800"/>
              <a:chExt cx="2229840" cy="1025640"/>
            </a:xfrm>
          </p:grpSpPr>
          <p:sp>
            <p:nvSpPr>
              <p:cNvPr id="106" name=""/>
              <p:cNvSpPr/>
              <p:nvPr/>
            </p:nvSpPr>
            <p:spPr>
              <a:xfrm>
                <a:off x="5703120" y="2054160"/>
                <a:ext cx="1552320" cy="609480"/>
              </a:xfrm>
              <a:custGeom>
                <a:avLst/>
                <a:gdLst/>
                <a:ahLst/>
                <a:rect l="l" t="t" r="r" b="b"/>
                <a:pathLst>
                  <a:path w="1488" h="384">
                    <a:moveTo>
                      <a:pt x="0" y="384"/>
                    </a:moveTo>
                    <a:lnTo>
                      <a:pt x="0" y="0"/>
                    </a:lnTo>
                    <a:lnTo>
                      <a:pt x="14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400000">
                <a:off x="6208920" y="1762200"/>
                <a:ext cx="773280" cy="582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57240" y="1933560"/>
                <a:ext cx="523800" cy="60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225560" y="2028600"/>
                <a:ext cx="47520" cy="4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51200" y="21780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98360" y="2635200"/>
                <a:ext cx="22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36520" y="2692440"/>
                <a:ext cx="15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627160" y="2241360"/>
                <a:ext cx="151920" cy="177840"/>
              </a:xfrm>
              <a:custGeom>
                <a:avLst/>
                <a:gdLst/>
                <a:ahLst/>
                <a:rect l="l" t="t" r="r" b="b"/>
                <a:pathLst>
                  <a:path w="96" h="112">
                    <a:moveTo>
                      <a:pt x="0" y="56"/>
                    </a:moveTo>
                    <a:cubicBezTo>
                      <a:pt x="20" y="84"/>
                      <a:pt x="40" y="112"/>
                      <a:pt x="48" y="104"/>
                    </a:cubicBezTo>
                    <a:cubicBezTo>
                      <a:pt x="56" y="96"/>
                      <a:pt x="40" y="16"/>
                      <a:pt x="48" y="8"/>
                    </a:cubicBezTo>
                    <a:cubicBezTo>
                      <a:pt x="56" y="0"/>
                      <a:pt x="76" y="28"/>
                      <a:pt x="96" y="56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941440" y="1781280"/>
                <a:ext cx="523440" cy="60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5855400" y="2190600"/>
            <a:ext cx="335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talk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0880" y="1820880"/>
            <a:ext cx="2687760" cy="1932840"/>
            <a:chOff x="380880" y="1820880"/>
            <a:chExt cx="2687760" cy="1932840"/>
          </a:xfrm>
        </p:grpSpPr>
        <p:sp>
          <p:nvSpPr>
            <p:cNvPr id="118" name=""/>
            <p:cNvSpPr/>
            <p:nvPr/>
          </p:nvSpPr>
          <p:spPr>
            <a:xfrm>
              <a:off x="533520" y="2208240"/>
              <a:ext cx="2009520" cy="609480"/>
            </a:xfrm>
            <a:custGeom>
              <a:avLst/>
              <a:gdLst/>
              <a:ahLst/>
              <a:rect l="l" t="t" r="r" b="b"/>
              <a:pathLst>
                <a:path w="1488" h="384">
                  <a:moveTo>
                    <a:pt x="0" y="384"/>
                  </a:moveTo>
                  <a:lnTo>
                    <a:pt x="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1496880" y="1916280"/>
              <a:ext cx="773280" cy="582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4840" y="2087640"/>
              <a:ext cx="52380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513160" y="2182680"/>
              <a:ext cx="4752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23320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90520" y="2208240"/>
              <a:ext cx="1295640" cy="1066680"/>
            </a:xfrm>
            <a:custGeom>
              <a:avLst/>
              <a:gdLst/>
              <a:ahLst/>
              <a:rect l="l" t="t" r="r" b="b"/>
              <a:pathLst>
                <a:path w="816" h="672">
                  <a:moveTo>
                    <a:pt x="0" y="0"/>
                  </a:moveTo>
                  <a:lnTo>
                    <a:pt x="0" y="672"/>
                  </a:lnTo>
                  <a:lnTo>
                    <a:pt x="816" y="6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9680" y="3149640"/>
              <a:ext cx="52380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448000" y="3245040"/>
              <a:ext cx="47520" cy="4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1504800" y="2979720"/>
              <a:ext cx="772920" cy="582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955440" y="2712960"/>
              <a:ext cx="453960" cy="152280"/>
              <a:chOff x="955440" y="2712960"/>
              <a:chExt cx="453960" cy="152280"/>
            </a:xfrm>
          </p:grpSpPr>
          <p:sp>
            <p:nvSpPr>
              <p:cNvPr id="128" name=""/>
              <p:cNvSpPr/>
              <p:nvPr/>
            </p:nvSpPr>
            <p:spPr>
              <a:xfrm rot="5400000">
                <a:off x="1106280" y="2562120"/>
                <a:ext cx="15228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46520" y="2712960"/>
                <a:ext cx="303120" cy="6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46520" y="2805120"/>
                <a:ext cx="303120" cy="60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28760" y="2789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6560" y="284652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19280" y="26654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57440" y="27226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71760" y="2208240"/>
              <a:ext cx="152280" cy="53352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57200" y="2395440"/>
              <a:ext cx="152280" cy="17784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0" y="56"/>
                  </a:moveTo>
                  <a:cubicBezTo>
                    <a:pt x="20" y="84"/>
                    <a:pt x="40" y="112"/>
                    <a:pt x="48" y="104"/>
                  </a:cubicBezTo>
                  <a:cubicBezTo>
                    <a:pt x="56" y="96"/>
                    <a:pt x="40" y="16"/>
                    <a:pt x="48" y="8"/>
                  </a:cubicBezTo>
                  <a:cubicBezTo>
                    <a:pt x="56" y="0"/>
                    <a:pt x="76" y="28"/>
                    <a:pt x="96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85880" y="2255760"/>
              <a:ext cx="7632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41040" y="2255760"/>
              <a:ext cx="50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" y="2798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2057400"/>
            <a:ext cx="5715000" cy="2044080"/>
            <a:chOff x="3276720" y="2057400"/>
            <a:chExt cx="5715000" cy="2044080"/>
          </a:xfrm>
        </p:grpSpPr>
        <p:sp>
          <p:nvSpPr>
            <p:cNvPr id="141" name=""/>
            <p:cNvSpPr/>
            <p:nvPr/>
          </p:nvSpPr>
          <p:spPr>
            <a:xfrm>
              <a:off x="3276720" y="2057400"/>
              <a:ext cx="5715000" cy="20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th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/s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o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talk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/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s .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ol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Proportional + Differential Xta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91160" y="2571480"/>
              <a:ext cx="1219320" cy="60984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0640" y="2590560"/>
              <a:ext cx="1447560" cy="60984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362320" y="4267080"/>
            <a:ext cx="4419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: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 Xtalk = 1000%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28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ning: Other ways possible to create Derivative Xtalk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tic simulation (Multisi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530360"/>
            <a:ext cx="2009880" cy="609480"/>
          </a:xfrm>
          <a:custGeom>
            <a:avLst/>
            <a:gdLst/>
            <a:ahLst/>
            <a:rect l="l" t="t" r="r" b="b"/>
            <a:pathLst>
              <a:path w="1488" h="384">
                <a:moveTo>
                  <a:pt x="0" y="384"/>
                </a:moveTo>
                <a:lnTo>
                  <a:pt x="0" y="0"/>
                </a:lnTo>
                <a:lnTo>
                  <a:pt x="14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1648800" y="1238040"/>
            <a:ext cx="773280" cy="582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97120" y="1409760"/>
            <a:ext cx="523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0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65440" y="1504800"/>
            <a:ext cx="4752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54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43160" y="1530360"/>
            <a:ext cx="1295280" cy="1066680"/>
          </a:xfrm>
          <a:custGeom>
            <a:avLst/>
            <a:gdLst/>
            <a:ahLst/>
            <a:rect l="l" t="t" r="r" b="b"/>
            <a:pathLst>
              <a:path w="816" h="672">
                <a:moveTo>
                  <a:pt x="0" y="0"/>
                </a:moveTo>
                <a:lnTo>
                  <a:pt x="0" y="672"/>
                </a:lnTo>
                <a:lnTo>
                  <a:pt x="816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31960" y="2471760"/>
            <a:ext cx="5241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3333cc"/>
                </a:solidFill>
                <a:latin typeface="Arial"/>
              </a:rPr>
              <a:t>1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0280" y="2567160"/>
            <a:ext cx="4752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1657080" y="2301840"/>
            <a:ext cx="772920" cy="582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07720" y="2035080"/>
            <a:ext cx="453960" cy="152280"/>
            <a:chOff x="1107720" y="2035080"/>
            <a:chExt cx="453960" cy="152280"/>
          </a:xfrm>
        </p:grpSpPr>
        <p:sp>
          <p:nvSpPr>
            <p:cNvPr id="157" name=""/>
            <p:cNvSpPr/>
            <p:nvPr/>
          </p:nvSpPr>
          <p:spPr>
            <a:xfrm rot="5400000">
              <a:off x="1258560" y="1884240"/>
              <a:ext cx="15228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8800" y="2035080"/>
              <a:ext cx="303120" cy="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98800" y="2127240"/>
              <a:ext cx="30312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81040" y="2111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9200" y="21686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1717560"/>
            <a:ext cx="152640" cy="177840"/>
          </a:xfrm>
          <a:custGeom>
            <a:avLst/>
            <a:gdLst/>
            <a:ahLst/>
            <a:rect l="l" t="t" r="r" b="b"/>
            <a:pathLst>
              <a:path w="96" h="112">
                <a:moveTo>
                  <a:pt x="0" y="56"/>
                </a:moveTo>
                <a:cubicBezTo>
                  <a:pt x="20" y="84"/>
                  <a:pt x="40" y="112"/>
                  <a:pt x="48" y="104"/>
                </a:cubicBezTo>
                <a:cubicBezTo>
                  <a:pt x="56" y="96"/>
                  <a:pt x="40" y="16"/>
                  <a:pt x="48" y="8"/>
                </a:cubicBezTo>
                <a:cubicBezTo>
                  <a:pt x="56" y="0"/>
                  <a:pt x="76" y="28"/>
                  <a:pt x="9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1207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2204" b="0"/>
          <a:stretch/>
        </p:blipFill>
        <p:spPr>
          <a:xfrm>
            <a:off x="380880" y="3429000"/>
            <a:ext cx="2880000" cy="3352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3048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stic Preamp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rcRect l="1348" t="0" r="1348" b="0"/>
          <a:stretch/>
        </p:blipFill>
        <p:spPr>
          <a:xfrm>
            <a:off x="3951360" y="1752480"/>
            <a:ext cx="4667040" cy="4321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01000" y="1674720"/>
            <a:ext cx="523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0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4722840"/>
            <a:ext cx="523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3333cc"/>
                </a:solidFill>
                <a:latin typeface="Arial"/>
              </a:rPr>
              <a:t>1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622440" y="1219320"/>
          <a:ext cx="4624200" cy="46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219320"/>
                    <a:ext cx="46242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ifferential Xtalk from Proportional Xtal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560" y="323856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2..A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50480" y="35910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6880" y="36482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1905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4317480" y="2427480"/>
            <a:ext cx="2438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Core to seg capac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19144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419720"/>
            <a:ext cx="41907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rcRect l="0" t="0" r="1222" b="0"/>
          <a:stretch/>
        </p:blipFill>
        <p:spPr>
          <a:xfrm>
            <a:off x="6324480" y="1828800"/>
            <a:ext cx="2095560" cy="2743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019920" y="1328760"/>
            <a:ext cx="26668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 label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ctors: A...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ngs: 1..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4343400"/>
            <a:ext cx="3049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91200" y="298116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086600" y="4457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421956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393372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176640"/>
            <a:ext cx="198144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g to se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pac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61437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 Xtalk will show up in adjacent segments and within same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easure …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286680" cy="31626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762120" y="3886200"/>
            <a:ext cx="7721280" cy="2286000"/>
            <a:chOff x="762120" y="3886200"/>
            <a:chExt cx="7721280" cy="228600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rcRect l="0" t="0" r="1063" b="0"/>
            <a:stretch/>
          </p:blipFill>
          <p:spPr>
            <a:xfrm>
              <a:off x="762120" y="3949560"/>
              <a:ext cx="5126040" cy="222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5943600" y="3886200"/>
              <a:ext cx="2539800" cy="2171880"/>
              <a:chOff x="5943600" y="3886200"/>
              <a:chExt cx="2539800" cy="2171880"/>
            </a:xfrm>
          </p:grpSpPr>
          <p:pic>
            <p:nvPicPr>
              <p:cNvPr id="194" name="" descr=""/>
              <p:cNvPicPr/>
              <p:nvPr/>
            </p:nvPicPr>
            <p:blipFill>
              <a:blip r:embed="rId3"/>
              <a:srcRect l="0" t="0" r="2074" b="0"/>
              <a:stretch/>
            </p:blipFill>
            <p:spPr>
              <a:xfrm>
                <a:off x="5943600" y="3886200"/>
                <a:ext cx="2539800" cy="217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4"/>
              <a:srcRect l="0" t="0" r="19316" b="0"/>
              <a:stretch/>
            </p:blipFill>
            <p:spPr>
              <a:xfrm>
                <a:off x="6400800" y="4038480"/>
                <a:ext cx="272880" cy="385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41120" y="6362640"/>
            <a:ext cx="887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Bruyneel et al. NIM A 569 (2006) 774-789  /  MGS workshop (April 2005)   /   AGATA week (Nov 2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1960" y="763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easure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4280" y="1123920"/>
            <a:ext cx="47242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Pulse Shape Characterization and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for the TIGRESS Gamma-ray Detect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is Robin Prest TRIUMF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physics.uoguelph.ca/Nucweb/tigress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5391000"/>
            <a:ext cx="512460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“</a:t>
            </a: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Differential Analysis” using mirror interaction poi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 from transients of mirror interactions are pur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333440" y="2639880"/>
            <a:ext cx="2792160" cy="2465640"/>
            <a:chOff x="1333440" y="2639880"/>
            <a:chExt cx="2792160" cy="2465640"/>
          </a:xfrm>
        </p:grpSpPr>
        <p:sp>
          <p:nvSpPr>
            <p:cNvPr id="201" name=""/>
            <p:cNvSpPr/>
            <p:nvPr/>
          </p:nvSpPr>
          <p:spPr>
            <a:xfrm>
              <a:off x="1379520" y="2639880"/>
              <a:ext cx="2261880" cy="235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94000" y="2639880"/>
              <a:ext cx="696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36320" y="2670120"/>
              <a:ext cx="696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79600" y="4545000"/>
              <a:ext cx="696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2440" y="3727440"/>
              <a:ext cx="17604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598480" y="3003120"/>
              <a:ext cx="695520" cy="7239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8480" y="382896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80960" y="3828960"/>
              <a:ext cx="10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511360" y="3919320"/>
              <a:ext cx="0" cy="10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514600" y="2652480"/>
              <a:ext cx="0" cy="10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3440" y="4560840"/>
              <a:ext cx="6998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25480" y="2884320"/>
              <a:ext cx="10112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(a,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33440" y="3389400"/>
              <a:ext cx="9921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(b,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3048120"/>
              <a:ext cx="504720" cy="49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410080" y="3911760"/>
            <a:ext cx="3429000" cy="2431800"/>
            <a:chOff x="5410080" y="3911760"/>
            <a:chExt cx="3429000" cy="2431800"/>
          </a:xfrm>
        </p:grpSpPr>
        <p:pic>
          <p:nvPicPr>
            <p:cNvPr id="216" name="rpair354045" descr=""/>
            <p:cNvPicPr/>
            <p:nvPr/>
          </p:nvPicPr>
          <p:blipFill>
            <a:blip r:embed="rId1"/>
            <a:srcRect l="0" t="3546" r="54809" b="52109"/>
            <a:stretch/>
          </p:blipFill>
          <p:spPr>
            <a:xfrm>
              <a:off x="5410080" y="3911760"/>
              <a:ext cx="342900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553080" y="4133880"/>
              <a:ext cx="205740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Differential analysis</a:t>
              </a:r>
              <a:r>
                <a:rPr b="0" lang="en-GB" sz="1200" spc="-1" strike="noStrike" baseline="-30000">
                  <a:solidFill>
                    <a:srgbClr val="000000"/>
                  </a:solidFill>
                  <a:latin typeface="Times New Roman"/>
                  <a:ea typeface="Bitstream Vera Sans"/>
                </a:rPr>
                <a:t>.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for simulation (green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and experiment (re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22884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884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410080" y="1238400"/>
            <a:ext cx="3448080" cy="2665440"/>
            <a:chOff x="5410080" y="1238400"/>
            <a:chExt cx="3448080" cy="2665440"/>
          </a:xfrm>
        </p:grpSpPr>
        <p:pic>
          <p:nvPicPr>
            <p:cNvPr id="221" name="convexp-3540b4" descr=""/>
            <p:cNvPicPr/>
            <p:nvPr/>
          </p:nvPicPr>
          <p:blipFill>
            <a:blip r:embed="rId2"/>
            <a:srcRect l="0" t="0" r="54809" b="51666"/>
            <a:stretch/>
          </p:blipFill>
          <p:spPr>
            <a:xfrm>
              <a:off x="5410080" y="1238400"/>
              <a:ext cx="344808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095880" y="1619280"/>
              <a:ext cx="2667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Simulated signal (green) compar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to experimental signal (red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suffering from cross-ta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297400" y="1122480"/>
            <a:ext cx="89532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7:01:25Z</dcterms:created>
  <dc:creator>Bart Bruyneel</dc:creator>
  <dc:description/>
  <dc:language>en-US</dc:language>
  <cp:lastModifiedBy>user</cp:lastModifiedBy>
  <dcterms:modified xsi:type="dcterms:W3CDTF">2008-07-08T23:31:40Z</dcterms:modified>
  <cp:revision>16</cp:revision>
  <dc:subject/>
  <dc:title>title</dc:title>
</cp:coreProperties>
</file>