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C986-FAFF-41BD-A5B4-C4F5A5A51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last part of my talk, I would like to draw the attention to a problem common to any segmented detector : namely cross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reates strong energy shifts in the segment sum energy, and this proportional to the hit multiplic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s are shifted compared to singles. Three folds even more, and so on. 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analyzes the doubles, one observes that it does not simply consists of a single peak, 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sorting the two folds into all possible twofold combinations, one observes that the centroids of these peaks are individually shifting according to a regular pa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happens in the core,however there is no such offset observed as is in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thus real physics behind this phenomen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E57-557E-4097-9DCB-0A85642A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F28-930C-4397-8A74-02F0FA9C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3EC-7B2D-49F1-A244-4980F5A3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AAF-4B87-486E-8AD5-A11FC6EA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BB5-D0FC-4FB5-8B7F-953671DB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02E-46E8-400D-B8D2-E2763D0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F13-79BB-4BD8-A79A-FB9EE45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69A-5B20-494C-BF85-9F12102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D61-D3E5-45BF-AE0D-181A5DE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127-E448-482D-877A-44E0642A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9F6-2E79-4859-A8C6-AB42E80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521-95BD-49C4-961D-BCFBAAC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E70-5197-4CAD-91EC-E9378E4E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85264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racking uses segmented detectors which are characterized by x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ces are modified in shape and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effects: peak shifts and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on and time identific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racking need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erg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 als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formation corrected by any type of xTal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57464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1409760"/>
            <a:ext cx="51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oberto Venturelli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INFN Pado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ITIS “G.Marconi”-Ve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6248520"/>
            <a:ext cx="746748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ATA week, Uppsala, July 8-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-13073" r="70705" b="0"/>
          <a:stretch/>
        </p:blipFill>
        <p:spPr>
          <a:xfrm>
            <a:off x="2362320" y="1600200"/>
            <a:ext cx="761760" cy="65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265800" y="914400"/>
            <a:ext cx="1506600" cy="203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Does xTalk influence PS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ome experiment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9159" t="22907" r="9499" b="4804"/>
          <a:stretch/>
        </p:blipFill>
        <p:spPr>
          <a:xfrm>
            <a:off x="228600" y="1066680"/>
            <a:ext cx="4038480" cy="5410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22086" t="23650" r="6206" b="5419"/>
          <a:stretch/>
        </p:blipFill>
        <p:spPr>
          <a:xfrm>
            <a:off x="4572000" y="1066680"/>
            <a:ext cx="1981080" cy="548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60" y="736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5 segments of the pencil beam in order to reduce th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6491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ial distribution in the z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971800"/>
            <a:ext cx="1752840" cy="733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A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n first 5 segments crossed by gamma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603680"/>
            <a:ext cx="1752840" cy="946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s at boundaries of segments excluded fr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1174680"/>
            <a:ext cx="1752840" cy="733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eg 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color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-100080"/>
            <a:ext cx="9067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662 keV of 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0320" y="64850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70920" y="6491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9840" y="1096920"/>
            <a:ext cx="2257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me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charg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s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3316" t="8049" r="1272" b="22263"/>
          <a:stretch/>
        </p:blipFill>
        <p:spPr>
          <a:xfrm>
            <a:off x="2484360" y="1052640"/>
            <a:ext cx="5543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840" y="1096920"/>
            <a:ext cx="2257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me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egments and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316" t="8333" r="1272" b="21960"/>
          <a:stretch/>
        </p:blipFill>
        <p:spPr>
          <a:xfrm>
            <a:off x="2484360" y="1052640"/>
            <a:ext cx="5543640" cy="3174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300" t="7867" r="1299" b="21676"/>
          <a:stretch/>
        </p:blipFill>
        <p:spPr>
          <a:xfrm>
            <a:off x="2482920" y="1052640"/>
            <a:ext cx="5545080" cy="316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9840" y="1096920"/>
            <a:ext cx="2360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djustment a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charg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s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4258" t="9685" r="1595" b="24073"/>
          <a:stretch/>
        </p:blipFill>
        <p:spPr>
          <a:xfrm>
            <a:off x="2482920" y="1052640"/>
            <a:ext cx="5545080" cy="3168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9840" y="1096920"/>
            <a:ext cx="2360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djustment a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egments and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079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effects were observed and corrected for the first time with the MARS det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Venturelli et 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NL Annual Report 20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eply investig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rt Bruyn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last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19640" y="1743120"/>
            <a:ext cx="6008400" cy="3990960"/>
            <a:chOff x="3419640" y="1743120"/>
            <a:chExt cx="6008400" cy="3990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419640" y="1743120"/>
              <a:ext cx="60084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81520" y="1994040"/>
              <a:ext cx="322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Sum of segment Energies vs fo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4920" y="2511360"/>
            <a:ext cx="5761080" cy="4347360"/>
            <a:chOff x="34920" y="2511360"/>
            <a:chExt cx="5761080" cy="4347360"/>
          </a:xfrm>
        </p:grpSpPr>
        <p:sp>
          <p:nvSpPr>
            <p:cNvPr id="60" name=""/>
            <p:cNvSpPr/>
            <p:nvPr/>
          </p:nvSpPr>
          <p:spPr>
            <a:xfrm>
              <a:off x="295200" y="3149640"/>
              <a:ext cx="41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Times New Roman"/>
                </a:rPr>
                <a:t>Segment sum energies projected on f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25360" y="2776680"/>
              <a:ext cx="5391360" cy="38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58880" y="3403440"/>
              <a:ext cx="471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2folds : </a:t>
              </a:r>
              <a:r>
                <a:rPr b="1" lang="en-US" sz="1400" spc="-1" strike="noStrike">
                  <a:solidFill>
                    <a:srgbClr val="ff0000"/>
                  </a:solidFill>
                  <a:latin typeface="Book Antiqua"/>
                </a:rPr>
                <a:t>Core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1" lang="en-US" sz="1400" spc="-1" strike="noStrike">
                  <a:solidFill>
                    <a:srgbClr val="00cc00"/>
                  </a:solidFill>
                  <a:latin typeface="Book Antiqua"/>
                </a:rPr>
                <a:t>Segment sum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centroids vs hitpatter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8480" y="6521400"/>
              <a:ext cx="35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…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All possible 2fold combin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-555120" y="3101400"/>
              <a:ext cx="14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Energy [keV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76320" y="-2556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nergy effects due to x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743" t="7602" r="1961" b="3254"/>
          <a:stretch/>
        </p:blipFill>
        <p:spPr>
          <a:xfrm>
            <a:off x="0" y="-271440"/>
            <a:ext cx="9144000" cy="748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882" t="17718" r="1458" b="26559"/>
          <a:stretch/>
        </p:blipFill>
        <p:spPr>
          <a:xfrm>
            <a:off x="1835280" y="1557360"/>
            <a:ext cx="4752720" cy="2303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052720" y="4437000"/>
            <a:ext cx="26636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716360" y="3860280"/>
            <a:ext cx="187164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834920" y="3860640"/>
            <a:ext cx="21564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5164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8532720" y="692280"/>
            <a:ext cx="611280" cy="79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1484280"/>
            <a:ext cx="792360" cy="16556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35480" y="11592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C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8160" y="98100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NET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ff33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240" y="0"/>
            <a:ext cx="638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dent xTalk on traces in the detection of a cosmic ray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443560"/>
            <a:ext cx="79930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GENERAL A SIMPLE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ative signals PULL DOWN trace amplitudes (i.e.CC 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itive signals PULL UP trace ampl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y factors proportional to the capacitive coupling betwee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765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C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ull d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mpl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t charge signal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pull up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amplitudes (2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320" y="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 amplitudes due to x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0" y="5311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49360"/>
            <a:ext cx="88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ue to the RAMO theorem without xTalk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egments traces) = - CC tr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S calculation signals are produced under this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300" t="8333" r="1285" b="20457"/>
          <a:stretch/>
        </p:blipFill>
        <p:spPr>
          <a:xfrm>
            <a:off x="826920" y="1855800"/>
            <a:ext cx="770436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8520" y="2421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- CC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0160" y="3354480"/>
            <a:ext cx="25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2708280"/>
            <a:ext cx="13460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85264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653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mplitude differences of the order of 6-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76360" y="2011320"/>
            <a:ext cx="532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360" y="2227320"/>
            <a:ext cx="532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11640" y="2133720"/>
            <a:ext cx="2305080" cy="23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7000" y="60930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eriment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wo reci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65280"/>
            <a:ext cx="9144000" cy="316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771" t="29525" r="48035" b="43900"/>
          <a:stretch/>
        </p:blipFill>
        <p:spPr>
          <a:xfrm>
            <a:off x="395280" y="1646280"/>
            <a:ext cx="35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3300" t="8049" r="1299" b="20741"/>
          <a:stretch/>
        </p:blipFill>
        <p:spPr>
          <a:xfrm>
            <a:off x="5219640" y="1008000"/>
            <a:ext cx="3816360" cy="249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89920" y="116856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alcul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4160" y="1774800"/>
            <a:ext cx="2235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Calculat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976560"/>
            <a:ext cx="9144000" cy="324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20640"/>
            <a:ext cx="741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culate the basis of signals for PSA with a theoretical model that include x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Bart Bruyneel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SA (measured,calculated &amp; cor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 the measured signals by the xTalk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SA (measured &amp; corrected,calcu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3316" t="8333" r="1272" b="20158"/>
          <a:stretch/>
        </p:blipFill>
        <p:spPr>
          <a:xfrm>
            <a:off x="5580000" y="4325760"/>
            <a:ext cx="3313080" cy="217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3300" t="8049" r="1299" b="20741"/>
          <a:stretch/>
        </p:blipFill>
        <p:spPr>
          <a:xfrm>
            <a:off x="468360" y="4329000"/>
            <a:ext cx="3311640" cy="216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14240" y="5084640"/>
            <a:ext cx="19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3240" y="5013360"/>
            <a:ext cx="217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2160" y="4437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2080" y="4437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157720"/>
            <a:ext cx="1152360" cy="432000"/>
          </a:xfrm>
          <a:prstGeom prst="rightArrow">
            <a:avLst>
              <a:gd name="adj1" fmla="val 50000"/>
              <a:gd name="adj2" fmla="val 6668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4324" t="22941" r="1962" b="10351"/>
          <a:stretch/>
        </p:blipFill>
        <p:spPr>
          <a:xfrm>
            <a:off x="0" y="3132000"/>
            <a:ext cx="9144000" cy="2457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20" y="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 amplitudes co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60840" y="4844880"/>
            <a:ext cx="73080" cy="71640"/>
          </a:xfrm>
          <a:prstGeom prst="ellipse">
            <a:avLst/>
          </a:prstGeom>
          <a:solidFill>
            <a:srgbClr val="66ff33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6160" y="4944960"/>
            <a:ext cx="72720" cy="7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6120" y="5072040"/>
            <a:ext cx="73080" cy="7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4068720"/>
            <a:ext cx="72720" cy="7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0280" y="5005440"/>
            <a:ext cx="72720" cy="71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3643200"/>
            <a:ext cx="29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ampleC i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f the segment iSe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e are corr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780000"/>
            <a:ext cx="72720" cy="71280"/>
          </a:xfrm>
          <a:prstGeom prst="ellipse">
            <a:avLst/>
          </a:prstGeom>
          <a:solidFill>
            <a:srgbClr val="66ff33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836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very sample of the traces needs to be corrected by x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is can be done using a matrix of xTalk coefficients that represents the capacitive coupling between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trix of xTalk coefficients is obtained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doing an energy analysis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of photopeak events at fol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119640"/>
            <a:ext cx="9144000" cy="76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34080"/>
            <a:ext cx="913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rrection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sampleC[iSegm][iTime] =  </a:t>
            </a:r>
            <a:r>
              <a:rPr b="0" lang="it-IT" sz="32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xTalkCoeff[iSegm][kSegm]*sample[kSegm][iTim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640" y="64371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kSe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0"/>
            <a:ext cx="90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s: two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fast-short component 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PSA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X,t: position and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slow-long component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MWD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E: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5908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xTalk coefficients are extracted doing an energy analysis on the slow-long component 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but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used to correct the entire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5320" y="184140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781360"/>
            <a:ext cx="172872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2781360"/>
            <a:ext cx="165708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0" y="5311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316" t="8333" r="1272" b="20457"/>
          <a:stretch/>
        </p:blipFill>
        <p:spPr>
          <a:xfrm>
            <a:off x="0" y="3429000"/>
            <a:ext cx="4572000" cy="298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3316" t="8333" r="1272" b="20457"/>
          <a:stretch/>
        </p:blipFill>
        <p:spPr>
          <a:xfrm>
            <a:off x="4572000" y="34304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98240" y="4292640"/>
            <a:ext cx="19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7320" y="4221000"/>
            <a:ext cx="217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652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616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6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|   fast-short     |        slow-long           |         |   fast-short    |        slow-long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easured event at sma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3440" y="2846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1800" y="2852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1300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ood xTalk correction for the slow-long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 always good for the fast-short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320" y="0"/>
            <a:ext cx="90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s: two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fast-short component 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PSA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X,t: position and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slow-long component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MWD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E: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5908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xTalk coefficients is extracted doing an energy analysis on the slow-long component 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but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used to correct the entire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15320" y="184140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5720" y="2781360"/>
            <a:ext cx="117792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22800" y="2781360"/>
            <a:ext cx="110484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1800" y="2846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5800" y="2852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" y="5311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6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|fast-short|           slow-long               |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|fast-short|           slow-long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easured event at high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316" t="8333" r="1272" b="20476"/>
          <a:stretch/>
        </p:blipFill>
        <p:spPr>
          <a:xfrm>
            <a:off x="0" y="3429000"/>
            <a:ext cx="4572000" cy="2984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3316" t="8333" r="1285" b="20457"/>
          <a:stretch/>
        </p:blipFill>
        <p:spPr>
          <a:xfrm>
            <a:off x="4572000" y="3429000"/>
            <a:ext cx="4572000" cy="298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98240" y="4292640"/>
            <a:ext cx="19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07320" y="4221000"/>
            <a:ext cx="217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652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616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141300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ood xTalk correction for the slow-long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 always good for the fast-short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320" y="0"/>
            <a:ext cx="90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partial test with bidimensional collimated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easured with the “scanning table” setup at LN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7926" t="13585" r="7926" b="3125"/>
          <a:stretch/>
        </p:blipFill>
        <p:spPr>
          <a:xfrm>
            <a:off x="900000" y="1341360"/>
            <a:ext cx="734544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33:44Z</dcterms:created>
  <dc:creator>ventu</dc:creator>
  <dc:description/>
  <dc:language>en-US</dc:language>
  <cp:lastModifiedBy>Roberto</cp:lastModifiedBy>
  <dcterms:modified xsi:type="dcterms:W3CDTF">2008-07-07T21:39:58Z</dcterms:modified>
  <cp:revision>37</cp:revision>
  <dc:subject/>
  <dc:title>Slide 1</dc:title>
</cp:coreProperties>
</file>