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FBB-41AD-44C7-BDE0-A34EF712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66C-C736-40E7-AFE0-ED55F11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460-B9C6-4291-951B-5B8AA3C6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781-072E-4D65-903C-7E0FFFEC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939-47BA-4619-88F6-011B329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CA5-6F0C-4C32-9B6C-FCD37E94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8E1-97E7-44C0-88BB-AD0238B6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C56-68AD-42DB-91F3-6E949CB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B95-4DED-4F5C-8F12-E8B4366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E7C-064A-45C1-A5A8-7E90A3B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7E6-DA9D-40BA-8CCF-865D1B8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C5E-1C9B-4D49-BEA4-0D2A0293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792B-9FDE-4B78-85FA-9D6387D1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package" Target="../embeddings/oleObject4.xls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21760"/>
            <a:ext cx="899136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Broadway"/>
              </a:rPr>
              <a:t>Analysis of S002 sca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911920"/>
            <a:ext cx="9144000" cy="838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Bart Bruyneel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and Benedikt Birkenbach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 – IKP Colog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At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 the 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7</a:t>
            </a:r>
            <a:r>
              <a:rPr b="0" lang="en-US" sz="2000" spc="-1" strike="noStrike" baseline="30000">
                <a:solidFill>
                  <a:srgbClr val="292929"/>
                </a:solidFill>
                <a:latin typeface="Broadway"/>
              </a:rPr>
              <a:t>th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 AGATA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week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, Uppsala July.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9480" y="817560"/>
            <a:ext cx="1098720" cy="484200"/>
          </a:xfrm>
          <a:custGeom>
            <a:avLst/>
            <a:gdLst/>
            <a:ahLst/>
            <a:rect l="l" t="t" r="r" b="b"/>
            <a:pathLst>
              <a:path w="692" h="305">
                <a:moveTo>
                  <a:pt x="0" y="305"/>
                </a:moveTo>
                <a:cubicBezTo>
                  <a:pt x="23" y="291"/>
                  <a:pt x="38" y="256"/>
                  <a:pt x="48" y="251"/>
                </a:cubicBezTo>
                <a:cubicBezTo>
                  <a:pt x="60" y="245"/>
                  <a:pt x="75" y="246"/>
                  <a:pt x="88" y="244"/>
                </a:cubicBezTo>
                <a:cubicBezTo>
                  <a:pt x="128" y="219"/>
                  <a:pt x="166" y="217"/>
                  <a:pt x="210" y="204"/>
                </a:cubicBezTo>
                <a:cubicBezTo>
                  <a:pt x="232" y="189"/>
                  <a:pt x="255" y="183"/>
                  <a:pt x="278" y="170"/>
                </a:cubicBezTo>
                <a:cubicBezTo>
                  <a:pt x="323" y="145"/>
                  <a:pt x="364" y="123"/>
                  <a:pt x="414" y="109"/>
                </a:cubicBezTo>
                <a:cubicBezTo>
                  <a:pt x="459" y="78"/>
                  <a:pt x="407" y="111"/>
                  <a:pt x="461" y="88"/>
                </a:cubicBezTo>
                <a:cubicBezTo>
                  <a:pt x="482" y="79"/>
                  <a:pt x="501" y="62"/>
                  <a:pt x="522" y="54"/>
                </a:cubicBezTo>
                <a:cubicBezTo>
                  <a:pt x="551" y="43"/>
                  <a:pt x="581" y="37"/>
                  <a:pt x="610" y="27"/>
                </a:cubicBezTo>
                <a:cubicBezTo>
                  <a:pt x="665" y="8"/>
                  <a:pt x="599" y="19"/>
                  <a:pt x="651" y="7"/>
                </a:cubicBezTo>
                <a:cubicBezTo>
                  <a:pt x="665" y="4"/>
                  <a:pt x="692" y="0"/>
                  <a:pt x="692" y="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56120" y="1255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066680"/>
            <a:ext cx="259092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Scan 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003 scan @ liver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veraged by J. Ljungv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6600" y="1371600"/>
            <a:ext cx="5848200" cy="4800600"/>
          </a:xfrm>
          <a:custGeom>
            <a:avLst/>
            <a:gdLst>
              <a:gd name="textAreaLeft" fmla="*/ 0 w 5848200"/>
              <a:gd name="textAreaRight" fmla="*/ 5848560 w 584820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2452" y="4893"/>
                </a:moveTo>
                <a:arcTo wR="-10226" hR="-10226" stAng="-8683020" swAng="-20240004"/>
                <a:lnTo>
                  <a:pt x="16531" y="19954"/>
                </a:lnTo>
                <a:arcTo wR="10800" hR="10800" stAng="3476976" swAng="20240004"/>
                <a:lnTo>
                  <a:pt x="21820" y="18598"/>
                </a:lnTo>
                <a:lnTo>
                  <a:pt x="17657" y="19311"/>
                </a:lnTo>
                <a:lnTo>
                  <a:pt x="16944" y="15147"/>
                </a:lnTo>
                <a:close/>
              </a:path>
            </a:pathLst>
          </a:cu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981080"/>
            <a:ext cx="2743200" cy="1819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mulation (~20 parameter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sitions (offs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sponses (Preamp + Xtal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bility (e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and latt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ields (Space char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724280"/>
            <a:ext cx="27432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ri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M (Chi Squ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828800"/>
            <a:ext cx="1371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80988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905120"/>
            <a:ext cx="1523880" cy="2819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308640"/>
            <a:ext cx="396252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peat till parameters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03320" y="1257480"/>
            <a:ext cx="5337360" cy="407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hi Square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38720" y="1162080"/>
          <a:ext cx="3333960" cy="454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720" y="1162080"/>
                    <a:ext cx="33339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165400" y="5889600"/>
            <a:ext cx="523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Almost 2x worse in Chi Square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???  Noise, derivative crosstalk, ...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25640" y="218880"/>
            <a:ext cx="557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a) Offs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3800" y="1424160"/>
            <a:ext cx="3848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ition of cryst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,Y position known from singles sc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 position to be determined relative to collim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2920" y="922320"/>
          <a:ext cx="4038480" cy="26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922320"/>
                    <a:ext cx="403848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165320" y="1173240"/>
            <a:ext cx="278676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Optimum   </a:t>
            </a:r>
            <a:r>
              <a:rPr b="1" lang="de-DE" sz="1400" spc="-1" strike="noStrike">
                <a:solidFill>
                  <a:srgbClr val="0033cc"/>
                </a:solidFill>
                <a:latin typeface="Times New Roman"/>
              </a:rPr>
              <a:t>S002: Z</a:t>
            </a:r>
            <a:r>
              <a:rPr b="1" lang="de-DE" sz="1400" spc="-1" strike="noStrike" baseline="-25000">
                <a:solidFill>
                  <a:srgbClr val="0033cc"/>
                </a:solidFill>
                <a:latin typeface="Times New Roman"/>
              </a:rPr>
              <a:t>offset</a:t>
            </a:r>
            <a:r>
              <a:rPr b="1" lang="de-DE" sz="1400" spc="-1" strike="noStrike">
                <a:solidFill>
                  <a:srgbClr val="0033cc"/>
                </a:solidFill>
                <a:latin typeface="Times New Roman"/>
              </a:rPr>
              <a:t> =  3,86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S003: Z</a:t>
            </a:r>
            <a:r>
              <a:rPr b="1" lang="de-DE" sz="1400" spc="-1" strike="noStrike" baseline="-25000">
                <a:solidFill>
                  <a:srgbClr val="ff0000"/>
                </a:solidFill>
                <a:latin typeface="Times New Roman"/>
              </a:rPr>
              <a:t>offset</a:t>
            </a: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 =  5,2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1920" y="3798720"/>
            <a:ext cx="4494240" cy="2973600"/>
            <a:chOff x="331920" y="3798720"/>
            <a:chExt cx="4494240" cy="2973600"/>
          </a:xfrm>
        </p:grpSpPr>
        <p:sp>
          <p:nvSpPr>
            <p:cNvPr id="65" name=""/>
            <p:cNvSpPr/>
            <p:nvPr/>
          </p:nvSpPr>
          <p:spPr>
            <a:xfrm>
              <a:off x="1224000" y="3798720"/>
              <a:ext cx="28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Variation of lattice orient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331920" y="4022640"/>
            <a:ext cx="4494240" cy="274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1920" y="4022640"/>
                      <a:ext cx="4494240" cy="274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1384200" y="4067280"/>
              <a:ext cx="25812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</a:rPr>
                <a:t>S002 : &lt;100&gt; = -14,9</a:t>
              </a: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S003 : &lt;100&gt; = 43.7</a:t>
              </a: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902120" y="3843360"/>
            <a:ext cx="3816360" cy="2822040"/>
            <a:chOff x="4902120" y="3843360"/>
            <a:chExt cx="3816360" cy="2822040"/>
          </a:xfrm>
        </p:grpSpPr>
        <p:sp>
          <p:nvSpPr>
            <p:cNvPr id="70" name=""/>
            <p:cNvSpPr/>
            <p:nvPr/>
          </p:nvSpPr>
          <p:spPr>
            <a:xfrm>
              <a:off x="5848200" y="4346280"/>
              <a:ext cx="1932120" cy="2319120"/>
            </a:xfrm>
            <a:custGeom>
              <a:avLst/>
              <a:gdLst/>
              <a:ahLst/>
              <a:rect l="l" t="t" r="r" b="b"/>
              <a:pathLst>
                <a:path w="1752" h="2076">
                  <a:moveTo>
                    <a:pt x="6" y="522"/>
                  </a:moveTo>
                  <a:lnTo>
                    <a:pt x="870" y="0"/>
                  </a:lnTo>
                  <a:lnTo>
                    <a:pt x="1752" y="522"/>
                  </a:lnTo>
                  <a:lnTo>
                    <a:pt x="1752" y="1566"/>
                  </a:lnTo>
                  <a:lnTo>
                    <a:pt x="870" y="2076"/>
                  </a:lnTo>
                  <a:lnTo>
                    <a:pt x="0" y="1560"/>
                  </a:lnTo>
                  <a:lnTo>
                    <a:pt x="6" y="52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857920" y="4582440"/>
              <a:ext cx="930240" cy="89172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2120" y="4046400"/>
              <a:ext cx="24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</a:rPr>
                <a:t>S002 : &lt;100&gt; = -14,9</a:t>
              </a: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80120" y="3843360"/>
              <a:ext cx="25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S003 : &lt;100&gt; = 43.7</a:t>
              </a: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799320" y="4398480"/>
              <a:ext cx="279360" cy="11077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324480" y="4627080"/>
              <a:ext cx="959040" cy="17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1160" y="5506920"/>
              <a:ext cx="19065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8360" y="4654440"/>
              <a:ext cx="958680" cy="17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9600" y="494964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15080" y="462744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9600" y="561312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4040" y="497664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0520" y="5694120"/>
              <a:ext cx="2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8600" y="610992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6468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b) Mob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280" y="717480"/>
          <a:ext cx="425628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17480"/>
                    <a:ext cx="425628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27720" y="1054080"/>
          <a:ext cx="446688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7720" y="1054080"/>
                    <a:ext cx="44668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5"/>
          <a:srcRect l="0" t="0" r="898" b="0"/>
          <a:stretch/>
        </p:blipFill>
        <p:spPr>
          <a:xfrm>
            <a:off x="263520" y="3436920"/>
            <a:ext cx="2065320" cy="3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515960" y="914400"/>
          <a:ext cx="248148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15960" y="914400"/>
                    <a:ext cx="2481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33840" y="3922560"/>
          <a:ext cx="4467240" cy="275436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33840" y="3922560"/>
                    <a:ext cx="446724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403960" y="1327320"/>
            <a:ext cx="22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 mobility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3200" y="4111560"/>
            <a:ext cx="22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e mobility un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3788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c) Space Ch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9080" y="1008000"/>
            <a:ext cx="34290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Zo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ther insensitive in certain reg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gion &gt; 0 is not 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gion &lt; -2 is not lik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40240" y="1376280"/>
            <a:ext cx="1711440" cy="1775160"/>
            <a:chOff x="4440240" y="1376280"/>
            <a:chExt cx="1711440" cy="1775160"/>
          </a:xfrm>
        </p:grpSpPr>
        <p:sp>
          <p:nvSpPr>
            <p:cNvPr id="99" name=""/>
            <p:cNvSpPr/>
            <p:nvPr/>
          </p:nvSpPr>
          <p:spPr>
            <a:xfrm rot="10800000">
              <a:off x="4475160" y="1773000"/>
              <a:ext cx="914400" cy="990360"/>
            </a:xfrm>
            <a:custGeom>
              <a:avLst/>
              <a:gdLst>
                <a:gd name="textAreaLeft" fmla="*/ 190440 w 914400"/>
                <a:gd name="textAreaRight" fmla="*/ 723960 w 914400"/>
                <a:gd name="textAreaTop" fmla="*/ 206280 h 990360"/>
                <a:gd name="textAreaBottom" fmla="*/ 7840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50" y="21600"/>
                  </a:lnTo>
                  <a:lnTo>
                    <a:pt x="495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4200" y="1935000"/>
              <a:ext cx="74520" cy="828720"/>
            </a:xfrm>
            <a:custGeom>
              <a:avLst/>
              <a:gdLst>
                <a:gd name="textAreaLeft" fmla="*/ 3600 w 74520"/>
                <a:gd name="textAreaRight" fmla="*/ 70920 w 74520"/>
                <a:gd name="textAreaTop" fmla="*/ 3600 h 828720"/>
                <a:gd name="textAreaBottom" fmla="*/ 825120 h 828720"/>
              </a:gdLst>
              <a:ahLst/>
              <a:rect l="textAreaLeft" t="textAreaTop" r="textAreaRight" b="textAreaBottom"/>
              <a:pathLst>
                <a:path w="21600" h="239158">
                  <a:moveTo>
                    <a:pt x="3600" y="0"/>
                  </a:moveTo>
                  <a:arcTo wR="3600" hR="3600" stAng="16200000" swAng="-5400000"/>
                  <a:lnTo>
                    <a:pt x="0" y="235558"/>
                  </a:lnTo>
                  <a:arcTo wR="3600" hR="3600" stAng="10800000" swAng="-5400000"/>
                  <a:lnTo>
                    <a:pt x="18000" y="2391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4840" y="273528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84840" y="1744560"/>
              <a:ext cx="75960" cy="763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3240" y="1735200"/>
              <a:ext cx="76320" cy="75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2960" y="2735280"/>
              <a:ext cx="7596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0240" y="1376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99"/>
                  </a:solidFill>
                  <a:latin typeface="Times New Roman"/>
                </a:rPr>
                <a:t>&lt;-2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4840" y="2752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33cc"/>
                  </a:solidFill>
                  <a:latin typeface="Times New Roman"/>
                </a:rPr>
                <a:t>-1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60880" y="2747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33"/>
                  </a:solidFill>
                  <a:latin typeface="Times New Roman"/>
                </a:rPr>
                <a:t>-0,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376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cc00"/>
                  </a:solidFill>
                  <a:latin typeface="Times New Roman"/>
                </a:rPr>
                <a:t>-1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8680" y="1925640"/>
              <a:ext cx="1143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808080"/>
                  </a:solidFill>
                  <a:latin typeface="Times New Roman"/>
                </a:rPr>
                <a:t>Core @ 5000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873520" y="1071720"/>
            <a:ext cx="1180800" cy="20574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1320" y="27608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11240"/>
          <a:ext cx="4206960" cy="26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1240"/>
                    <a:ext cx="420696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948280" y="1155600"/>
            <a:ext cx="2514600" cy="976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pace Charg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[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c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ylinder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inear in r and z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4 point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840" y="69840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00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13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1120" y="377352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60840" y="4735440"/>
            <a:ext cx="914400" cy="990720"/>
          </a:xfrm>
          <a:custGeom>
            <a:avLst/>
            <a:gdLst>
              <a:gd name="textAreaLeft" fmla="*/ 190440 w 914400"/>
              <a:gd name="textAreaRight" fmla="*/ 723960 w 914400"/>
              <a:gd name="textAreaTop" fmla="*/ 206280 h 990720"/>
              <a:gd name="textAreaBottom" fmla="*/ 784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650" y="21600"/>
                </a:lnTo>
                <a:lnTo>
                  <a:pt x="495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79880" y="4897440"/>
            <a:ext cx="74880" cy="828720"/>
          </a:xfrm>
          <a:custGeom>
            <a:avLst/>
            <a:gdLst>
              <a:gd name="textAreaLeft" fmla="*/ 3600 w 74880"/>
              <a:gd name="textAreaRight" fmla="*/ 71280 w 74880"/>
              <a:gd name="textAreaTop" fmla="*/ 3600 h 828720"/>
              <a:gd name="textAreaBottom" fmla="*/ 825120 h 828720"/>
            </a:gdLst>
            <a:ahLst/>
            <a:rect l="textAreaLeft" t="textAreaTop" r="textAreaRight" b="textAreaBottom"/>
            <a:pathLst>
              <a:path w="21600" h="238013">
                <a:moveTo>
                  <a:pt x="3600" y="0"/>
                </a:moveTo>
                <a:arcTo wR="3600" hR="3600" stAng="16200000" swAng="-5400000"/>
                <a:lnTo>
                  <a:pt x="0" y="234413"/>
                </a:lnTo>
                <a:arcTo wR="3600" hR="3600" stAng="10800000" swAng="-5400000"/>
                <a:lnTo>
                  <a:pt x="18000" y="238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70520" y="5697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70520" y="4707000"/>
            <a:ext cx="76320" cy="759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8920" y="4697280"/>
            <a:ext cx="76320" cy="763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8640" y="569736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0560" y="4338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ff3399"/>
                </a:solidFill>
                <a:latin typeface="Times New Roman"/>
              </a:rPr>
              <a:t>-3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78200" y="5726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Times New Roman"/>
              </a:rPr>
              <a:t>-2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13520" y="5732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33"/>
                </a:solidFill>
                <a:latin typeface="Times New Roman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6120" y="4338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00"/>
                </a:solidFill>
                <a:latin typeface="Times New Roman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94360" y="4888080"/>
            <a:ext cx="1143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Times New Roman"/>
              </a:rPr>
              <a:t>Core @ 40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731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160" y="4102200"/>
          <a:ext cx="421308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4102200"/>
                    <a:ext cx="421308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881440" y="4203720"/>
            <a:ext cx="1180800" cy="2142720"/>
            <a:chOff x="2881440" y="4203720"/>
            <a:chExt cx="1180800" cy="2142720"/>
          </a:xfrm>
        </p:grpSpPr>
        <p:sp>
          <p:nvSpPr>
            <p:cNvPr id="133" name=""/>
            <p:cNvSpPr/>
            <p:nvPr/>
          </p:nvSpPr>
          <p:spPr>
            <a:xfrm>
              <a:off x="2881440" y="4203720"/>
              <a:ext cx="1180800" cy="2142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19240" y="597456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Un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216480" y="507528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alistic model for S003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396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: Space charge from capacity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88920" y="1398600"/>
          <a:ext cx="468648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1398600"/>
                    <a:ext cx="46864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495680" y="1398600"/>
          <a:ext cx="4686480" cy="347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398600"/>
                    <a:ext cx="46864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43280" y="2146320"/>
            <a:ext cx="2476440" cy="876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06760" y="2565360"/>
            <a:ext cx="29466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40" y="2806560"/>
            <a:ext cx="927000" cy="88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2082960"/>
            <a:ext cx="14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%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480600">
            <a:off x="5206680" y="241308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e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01720" y="5156280"/>
            <a:ext cx="5765760" cy="876960"/>
          </a:xfrm>
          <a:prstGeom prst="rect">
            <a:avLst/>
          </a:prstGeom>
          <a:solidFill>
            <a:srgbClr val="b2b2b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pacitance-voltage profiling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.g. Review article: Semicond. Sci. Technol. 1 (1986) 7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08:27Z</dcterms:created>
  <dc:creator>Gruppe Reiter IKP</dc:creator>
  <dc:description/>
  <dc:language>en-US</dc:language>
  <cp:lastModifiedBy>user</cp:lastModifiedBy>
  <dcterms:modified xsi:type="dcterms:W3CDTF">2008-07-08T23:00:08Z</dcterms:modified>
  <cp:revision>40</cp:revision>
  <dc:subject/>
  <dc:title>Automated optimization  of detector simulation  to fit S002 scan data</dc:title>
</cp:coreProperties>
</file>