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16.wmf" ContentType="image/x-wmf"/>
  <Override PartName="/ppt/media/image14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7640" y="651528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. Gernh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ä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logoAGATA_small" descr=""/>
          <p:cNvPicPr/>
          <p:nvPr/>
        </p:nvPicPr>
        <p:blipFill>
          <a:blip r:embed="rId2"/>
          <a:stretch/>
        </p:blipFill>
        <p:spPr>
          <a:xfrm>
            <a:off x="7581960" y="190440"/>
            <a:ext cx="87624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5524560" y="6515280"/>
            <a:ext cx="2933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GATA week,  July. 2008, Upps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6858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Test 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SA Calib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89520" y="2362320"/>
            <a:ext cx="597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ppler corrected spectra with (d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luence of t0 on PSA with time align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not ancil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not Ancilla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speidel2x2_2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665520" cy="4462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0400" y="4648320"/>
            <a:ext cx="386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set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4 channels AGATA digitiz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s t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 angles not 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27520" y="1371600"/>
            <a:ext cx="4192200" cy="2913480"/>
            <a:chOff x="227520" y="1371600"/>
            <a:chExt cx="4192200" cy="2913480"/>
          </a:xfrm>
        </p:grpSpPr>
        <p:grpSp>
          <p:nvGrpSpPr>
            <p:cNvPr id="92" name=""/>
            <p:cNvGrpSpPr/>
            <p:nvPr/>
          </p:nvGrpSpPr>
          <p:grpSpPr>
            <a:xfrm>
              <a:off x="609480" y="1523880"/>
              <a:ext cx="3810240" cy="2590920"/>
              <a:chOff x="609480" y="1523880"/>
              <a:chExt cx="3810240" cy="2590920"/>
            </a:xfrm>
          </p:grpSpPr>
          <p:sp>
            <p:nvSpPr>
              <p:cNvPr id="93" name=""/>
              <p:cNvSpPr/>
              <p:nvPr/>
            </p:nvSpPr>
            <p:spPr>
              <a:xfrm>
                <a:off x="609480" y="2666520"/>
                <a:ext cx="3810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1066680" y="1523880"/>
                <a:ext cx="914400" cy="2285280"/>
                <a:chOff x="1066680" y="1523880"/>
                <a:chExt cx="914400" cy="2285280"/>
              </a:xfrm>
            </p:grpSpPr>
            <p:sp>
              <p:nvSpPr>
                <p:cNvPr id="95" name=""/>
                <p:cNvSpPr/>
                <p:nvPr/>
              </p:nvSpPr>
              <p:spPr>
                <a:xfrm flipV="1">
                  <a:off x="1218960" y="2209320"/>
                  <a:ext cx="762120" cy="151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218960" y="2971440"/>
                  <a:ext cx="762120" cy="151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904760" y="1523880"/>
                  <a:ext cx="76320" cy="6854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066680" y="2514240"/>
                  <a:ext cx="75960" cy="3042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904760" y="3123720"/>
                  <a:ext cx="76320" cy="6854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 flipV="1">
                <a:off x="1143000" y="1828080"/>
                <a:ext cx="838080" cy="838080"/>
              </a:xfrm>
              <a:prstGeom prst="line">
                <a:avLst/>
              </a:prstGeom>
              <a:ln w="1908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218600">
                <a:off x="2133720" y="3503880"/>
                <a:ext cx="761400" cy="457200"/>
              </a:xfrm>
              <a:prstGeom prst="flowChartMerg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51720" y="3580920"/>
                <a:ext cx="1267200" cy="459720"/>
              </a:xfrm>
              <a:prstGeom prst="rect">
                <a:avLst/>
              </a:prstGeom>
              <a:noFill/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igit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981080" y="3581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0" y="3733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7520" y="3581280"/>
              <a:ext cx="121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or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mm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143000" y="320004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62080" y="1371600"/>
              <a:ext cx="511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066680" y="2971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7560" y="2895480"/>
            <a:ext cx="44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440" y="1523880"/>
            <a:ext cx="18237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5mg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1.7k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1337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5200" y="1600200"/>
            <a:ext cx="7995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5m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 d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Precision Experi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3280" y="1801800"/>
            <a:ext cx="13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es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ch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hD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76360" y="1300320"/>
            <a:ext cx="5396040" cy="4948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174840" y="2390760"/>
            <a:ext cx="4168800" cy="2295720"/>
          </a:xfrm>
          <a:custGeom>
            <a:avLst/>
            <a:gdLst/>
            <a:ahLst/>
            <a:rect l="l" t="t" r="r" b="b"/>
            <a:pathLst>
              <a:path w="2626" h="1446">
                <a:moveTo>
                  <a:pt x="0" y="1446"/>
                </a:moveTo>
                <a:cubicBezTo>
                  <a:pt x="61" y="1431"/>
                  <a:pt x="208" y="1423"/>
                  <a:pt x="368" y="1358"/>
                </a:cubicBezTo>
                <a:cubicBezTo>
                  <a:pt x="528" y="1293"/>
                  <a:pt x="584" y="1280"/>
                  <a:pt x="960" y="1054"/>
                </a:cubicBezTo>
                <a:cubicBezTo>
                  <a:pt x="1336" y="828"/>
                  <a:pt x="2279" y="220"/>
                  <a:pt x="262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3560" y="3352680"/>
            <a:ext cx="2140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ight projec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energy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=140m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, 235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ifetime  sme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5960" y="1828800"/>
            <a:ext cx="1119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790960" y="1981080"/>
            <a:ext cx="6094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1295280"/>
            <a:ext cx="0" cy="44960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6858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73680" y="1260360"/>
            <a:ext cx="6661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le functionality of D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ing an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nerg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 parameters (Tau, gain, offset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ordering in DAQ an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 detector position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ppler correction on segment leve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-&gt; P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of Crystal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and ax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D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ppler correction on PSA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ppler correction on PSA level at second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eck t0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6858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SS Strateg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 It Small and 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1460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ests using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rst try the least effort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igh precision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1523880"/>
            <a:ext cx="5334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le functionality of D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ing and re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 parameters (Tau, gain, offset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A 3D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ordering in DAQ and 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of Crys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 detector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ppler correction on segm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ppler correction on PSA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ppler correction on PSA level at second distance (z-contrib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ppler correction on PSA level particl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d t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1600200"/>
            <a:ext cx="761760" cy="515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Marlett"/>
                <a:ea typeface="Marlett"/>
              </a:rPr>
              <a:t>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Marlett"/>
                <a:ea typeface="Marlett"/>
              </a:rPr>
              <a:t>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Marlett"/>
                <a:ea typeface="Marlett"/>
              </a:rPr>
              <a:t>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Marlett"/>
                <a:ea typeface="Marlett"/>
              </a:rPr>
              <a:t>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800080"/>
                </a:solidFill>
                <a:latin typeface="Marlett"/>
                <a:ea typeface="Marlett"/>
              </a:rPr>
              <a:t>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Marlett"/>
                <a:ea typeface="Marlett"/>
              </a:rPr>
              <a:t>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800080"/>
                </a:solidFill>
                <a:latin typeface="Marlett"/>
                <a:ea typeface="Marlett"/>
              </a:rPr>
              <a:t>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Marlett"/>
                <a:ea typeface="Marlett"/>
              </a:rPr>
              <a:t>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Marlett"/>
                <a:ea typeface="Marlett"/>
              </a:rPr>
              <a:t>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Marlett"/>
                <a:ea typeface="Marlett"/>
              </a:rPr>
              <a:t></a:t>
            </a:r>
            <a:r>
              <a:rPr b="1" lang="en-US" sz="1600" spc="-1" strike="noStrike">
                <a:solidFill>
                  <a:srgbClr val="800080"/>
                </a:solidFill>
                <a:latin typeface="Arial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Marlett"/>
                <a:ea typeface="Marlett"/>
              </a:rPr>
              <a:t>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Marlett"/>
                <a:ea typeface="Marlett"/>
              </a:rPr>
              <a:t>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Marlett"/>
                <a:ea typeface="Marlett"/>
              </a:rPr>
              <a:t>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Marlett"/>
                <a:ea typeface="Marlett"/>
              </a:rPr>
              <a:t></a:t>
            </a:r>
            <a:r>
              <a:rPr b="1" lang="en-US" sz="1600" spc="-1" strike="noStrike">
                <a:solidFill>
                  <a:srgbClr val="800080"/>
                </a:solidFill>
                <a:latin typeface="Arial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Marlett"/>
                <a:ea typeface="Marlett"/>
              </a:rPr>
              <a:t>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Marlett"/>
                <a:ea typeface="Marlett"/>
              </a:rPr>
              <a:t></a:t>
            </a:r>
            <a:r>
              <a:rPr b="1" lang="en-US" sz="1600" spc="-1" strike="noStrike">
                <a:solidFill>
                  <a:srgbClr val="800080"/>
                </a:solidFill>
                <a:latin typeface="Arial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Marlett"/>
                <a:ea typeface="Marlett"/>
              </a:rPr>
              <a:t>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t Effort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447920"/>
            <a:ext cx="677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Tandem beam (better focus, less setup time, 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nly AGATA DAQ - no other readou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large cross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largest effect on interaction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ppler correction around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 Prism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8651" t="4453" r="9618" b="17442"/>
          <a:stretch/>
        </p:blipFill>
        <p:spPr>
          <a:xfrm>
            <a:off x="3733920" y="3505320"/>
            <a:ext cx="3025800" cy="299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685800" y="5105160"/>
            <a:ext cx="769608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800600"/>
            <a:ext cx="76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2720" y="3699000"/>
            <a:ext cx="14104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 (d,p)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p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gne Test Experi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rancesco Recch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44280" y="1371600"/>
            <a:ext cx="4692600" cy="3209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95680" y="1390680"/>
            <a:ext cx="4694400" cy="313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045880" y="4648320"/>
            <a:ext cx="4865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disadvant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= 9.4MeV (larger scattering, p not stopp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~ 2 MeV/A (Legnaro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1.8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icated particle CD detector (ancil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ositions vs ang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22Ne, 23Ne)p Gamma Spec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Gamm_raw" descr=""/>
          <p:cNvPicPr/>
          <p:nvPr/>
        </p:nvPicPr>
        <p:blipFill>
          <a:blip r:embed="rId1"/>
          <a:stretch/>
        </p:blipFill>
        <p:spPr>
          <a:xfrm>
            <a:off x="0" y="1066680"/>
            <a:ext cx="4419720" cy="2997360"/>
          </a:xfrm>
          <a:prstGeom prst="rect">
            <a:avLst/>
          </a:prstGeom>
          <a:ln w="0">
            <a:noFill/>
          </a:ln>
        </p:spPr>
      </p:pic>
      <p:pic>
        <p:nvPicPr>
          <p:cNvPr id="61" name="Gamm_dc" descr=""/>
          <p:cNvPicPr/>
          <p:nvPr/>
        </p:nvPicPr>
        <p:blipFill>
          <a:blip r:embed="rId2"/>
          <a:stretch/>
        </p:blipFill>
        <p:spPr>
          <a:xfrm>
            <a:off x="4724280" y="1066680"/>
            <a:ext cx="4419720" cy="2984760"/>
          </a:xfrm>
          <a:prstGeom prst="rect">
            <a:avLst/>
          </a:prstGeom>
          <a:ln w="0">
            <a:noFill/>
          </a:ln>
        </p:spPr>
      </p:pic>
      <p:pic>
        <p:nvPicPr>
          <p:cNvPr id="62" name="Gamm_raw_part" descr=""/>
          <p:cNvPicPr/>
          <p:nvPr/>
        </p:nvPicPr>
        <p:blipFill>
          <a:blip r:embed="rId3"/>
          <a:stretch/>
        </p:blipFill>
        <p:spPr>
          <a:xfrm>
            <a:off x="0" y="4038480"/>
            <a:ext cx="4130640" cy="2543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95680" y="4572000"/>
            <a:ext cx="41911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MeV/A beam, C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rget 1 m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stics of 1 hour @ 500Hz/cry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 crys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ce S/B in raw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es up to 4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in the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29040" y="3886200"/>
            <a:ext cx="1244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energy[ke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57040" y="3886200"/>
            <a:ext cx="1244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energy[ke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61720" y="6553080"/>
            <a:ext cx="1244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energy[ke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6480" y="1461960"/>
            <a:ext cx="1050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1960" y="1523880"/>
            <a:ext cx="2142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nlin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 witho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seg.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02240" y="5680080"/>
            <a:ext cx="10144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mi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Ne23_levels1" descr=""/>
          <p:cNvPicPr/>
          <p:nvPr/>
        </p:nvPicPr>
        <p:blipFill>
          <a:blip r:embed="rId1"/>
          <a:stretch/>
        </p:blipFill>
        <p:spPr>
          <a:xfrm>
            <a:off x="0" y="609480"/>
            <a:ext cx="6315120" cy="5524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658560" y="2590920"/>
            <a:ext cx="248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differ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provid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idea on P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172200" y="4267080"/>
            <a:ext cx="914400" cy="83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352680" y="2895480"/>
            <a:ext cx="3276720" cy="76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07760" y="464832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00440" y="5156280"/>
            <a:ext cx="119592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80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using a Tandem 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576520"/>
            <a:ext cx="5105520" cy="3443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495680" cy="880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154480" y="1295280"/>
            <a:ext cx="3989520" cy="2862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00200" y="4267080"/>
            <a:ext cx="27432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38880" y="2438280"/>
            <a:ext cx="762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91920" y="4343400"/>
            <a:ext cx="3608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[MeV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nge(p)[mg]       range(d)[mg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00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1.3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00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00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9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.00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3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.0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.0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64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27720" y="181440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lastic deuter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ll_part_THeta" descr=""/>
          <p:cNvPicPr/>
          <p:nvPr/>
        </p:nvPicPr>
        <p:blipFill>
          <a:blip r:embed="rId1"/>
          <a:stretch/>
        </p:blipFill>
        <p:spPr>
          <a:xfrm>
            <a:off x="212760" y="1219320"/>
            <a:ext cx="4054320" cy="2749320"/>
          </a:xfrm>
          <a:prstGeom prst="rect">
            <a:avLst/>
          </a:prstGeom>
          <a:ln w="0">
            <a:noFill/>
          </a:ln>
        </p:spPr>
      </p:pic>
      <p:pic>
        <p:nvPicPr>
          <p:cNvPr id="85" name="1018_part_THeta" descr=""/>
          <p:cNvPicPr/>
          <p:nvPr/>
        </p:nvPicPr>
        <p:blipFill>
          <a:blip r:embed="rId2"/>
          <a:stretch/>
        </p:blipFill>
        <p:spPr>
          <a:xfrm>
            <a:off x="4495680" y="1197000"/>
            <a:ext cx="4191120" cy="2841480"/>
          </a:xfrm>
          <a:prstGeom prst="rect">
            <a:avLst/>
          </a:prstGeom>
          <a:ln w="0">
            <a:noFill/>
          </a:ln>
        </p:spPr>
      </p:pic>
      <p:pic>
        <p:nvPicPr>
          <p:cNvPr id="86" name="2204_part_THeta" descr=""/>
          <p:cNvPicPr/>
          <p:nvPr/>
        </p:nvPicPr>
        <p:blipFill>
          <a:blip r:embed="rId3"/>
          <a:stretch/>
        </p:blipFill>
        <p:spPr>
          <a:xfrm>
            <a:off x="4495680" y="3952800"/>
            <a:ext cx="4191120" cy="2843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22Ne, 23Ne)p Particle Spec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36:26Z</dcterms:created>
  <dc:creator>Vinzenz Bildstein</dc:creator>
  <dc:description/>
  <dc:language>en-US</dc:language>
  <cp:lastModifiedBy> josef homolka</cp:lastModifiedBy>
  <dcterms:modified xsi:type="dcterms:W3CDTF">2008-07-09T09:23:26Z</dcterms:modified>
  <cp:revision>39</cp:revision>
  <dc:subject/>
  <dc:title>PowerPoint-Präsentation</dc:title>
</cp:coreProperties>
</file>