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64B59-38A2-4240-90E6-35856DE7A2FE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C97A5-4F90-4846-894B-3E5499281122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7E0B9-C136-4770-A67D-46AE0F88723D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2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DFD38-D526-4884-B505-B3FFF916D628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Espace réservé du numéro de diapositive 3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B9627-C600-46F1-B79E-D9376D5C412F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15E-F3DB-4382-9C42-74628FC3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F26-5B42-41AB-A874-DD89AFAF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240-739F-4B60-A9CA-BAC85D02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6AF-EA4B-4DFA-B5FF-9D714A8E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A169-2400-44D6-87B6-BDFE72E8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1E08-576B-4230-86E4-81546421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CFBB-CE14-45C5-8A61-6FD02A93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9D2C-6E6B-4C06-9923-FF35BE1B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1131-A8BA-43FA-BA63-612A5C3B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281B-DCAA-4607-A7E7-6D1DD321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1A59-0CBC-430C-BF6C-21FD4871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042-E051-47BE-A4FD-0F173578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66CB-E6CA-45F8-BC97-A17E72B5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9EF7-C758-4653-B386-A06DBE33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34F8-3879-4157-B5D8-3BAE89E6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3D62-EB35-4C87-91B8-948A07A8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3423-A250-4ADC-BF72-693A0444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94F-582A-45E5-B31E-90E1C7A2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F9C-250B-401C-B7C9-6B7357AB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22A-8E81-48DE-A1F9-8437F572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0D1-9CDD-4064-A7A5-6E9C5592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5D3-C6C9-4674-8CDE-1799E8BE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FC1-F55B-46B3-813F-7406D963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4C0-DD88-4537-A9E9-0F722061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def6f1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def6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8dc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00a8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2FA085-A628-46AD-827A-44E7D14ECE6D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def6f1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def6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8dc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00a8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59CF65-0FF0-467E-9F32-A412686EA2F0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Forte"/>
              </a:rPr>
              <a:t>Agata Construction DataBa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428840" y="54291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Agata Week, 08/07/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.Aufranc, O.Stezow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bandeau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1273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2"/>
          <a:srcRect l="0" t="0" r="92442" b="0"/>
          <a:stretch/>
        </p:blipFill>
        <p:spPr>
          <a:xfrm>
            <a:off x="7812000" y="333360"/>
            <a:ext cx="1100160" cy="15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64" name="Espace réservé du numéro de diapositive 2"/>
          <p:cNvSpPr/>
          <p:nvPr/>
        </p:nvSpPr>
        <p:spPr>
          <a:xfrm>
            <a:off x="8215200" y="6248520"/>
            <a:ext cx="85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ACA5AC-F58A-4C94-9944-AE930601C914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65" name="Image 3" descr="Capture6.png"/>
          <p:cNvPicPr/>
          <p:nvPr/>
        </p:nvPicPr>
        <p:blipFill>
          <a:blip r:embed="rId1"/>
          <a:srcRect l="0" t="3126" r="0" b="2082"/>
          <a:stretch/>
        </p:blipFill>
        <p:spPr>
          <a:xfrm>
            <a:off x="142920" y="534960"/>
            <a:ext cx="8286840" cy="62834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468360" y="0"/>
            <a:ext cx="8064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Connection between 2 object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68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D8CAE4-43C8-4D66-8C19-0732CB466028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69" name="Picture 4" descr="Capture7"/>
          <p:cNvPicPr/>
          <p:nvPr/>
        </p:nvPicPr>
        <p:blipFill>
          <a:blip r:embed="rId1"/>
          <a:srcRect l="0" t="2705" r="0" b="3691"/>
          <a:stretch/>
        </p:blipFill>
        <p:spPr>
          <a:xfrm>
            <a:off x="214200" y="609480"/>
            <a:ext cx="8248680" cy="617724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324000" y="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History of a crystal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72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FF2BA3-1FD3-4CF1-AADB-3FE72D1FA1EC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73" name="Picture 8" descr="Capture8"/>
          <p:cNvPicPr/>
          <p:nvPr/>
        </p:nvPicPr>
        <p:blipFill>
          <a:blip r:embed="rId1"/>
          <a:srcRect l="0" t="2248" r="0" b="3709"/>
          <a:stretch/>
        </p:blipFill>
        <p:spPr>
          <a:xfrm>
            <a:off x="216000" y="785880"/>
            <a:ext cx="7596000" cy="5715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7"/>
          <p:cNvSpPr/>
          <p:nvPr/>
        </p:nvSpPr>
        <p:spPr>
          <a:xfrm>
            <a:off x="539640" y="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Report for a specific center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561EAC-5048-4114-B619-6E225A4BF1F1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77" name="Picture 4" descr="Resolution1"/>
          <p:cNvPicPr/>
          <p:nvPr/>
        </p:nvPicPr>
        <p:blipFill>
          <a:blip r:embed="rId1"/>
          <a:srcRect l="0" t="2728" r="0" b="4293"/>
          <a:stretch/>
        </p:blipFill>
        <p:spPr>
          <a:xfrm>
            <a:off x="142920" y="647640"/>
            <a:ext cx="8250120" cy="61390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"/>
          <p:cNvSpPr/>
          <p:nvPr/>
        </p:nvSpPr>
        <p:spPr>
          <a:xfrm>
            <a:off x="468360" y="7128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Actions available for a crystal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-514440">
              <a:buClr>
                <a:srgbClr val="0070c0"/>
              </a:buClr>
              <a:buFont typeface="Helvetic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Adaptation of BigBr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1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11EEAB-D5ED-4F52-B585-7D3B11E9632F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214200" y="928800"/>
            <a:ext cx="8572680" cy="574884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9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BigBrother=portable applica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few modifications for Agata purpose (DataBase access, CMS specific vocabulary)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Conversion of numerical barcodes to alphanumerical one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not a difficult work but  modifications everywhere in the code.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Development is finished and tested,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but bugs can remain: report me any problem (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cecile.aufranc@ipnl.in2p3.fr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Construction DataBase Agata Web Sit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fr-FR" sz="2600" spc="-1" strike="noStrike" u="sng">
                <a:solidFill>
                  <a:srgbClr val="0063c6"/>
                </a:solidFill>
                <a:uFillTx/>
                <a:latin typeface="Arial"/>
              </a:rPr>
              <a:t>http://agata.in2p3.fr/DB/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BigBrowser download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fr-FR" sz="2600" spc="-1" strike="noStrike" u="sng">
                <a:solidFill>
                  <a:srgbClr val="0063c6"/>
                </a:solidFill>
                <a:uFillTx/>
                <a:latin typeface="Arial"/>
              </a:rPr>
              <a:t>ftp://lyoftp.in2p3.fr/AGATA/AgataDB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4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F6DD51-DAC5-4560-BE57-1A62C91A87C7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5" name="Titre 4"/>
          <p:cNvSpPr/>
          <p:nvPr/>
        </p:nvSpPr>
        <p:spPr>
          <a:xfrm>
            <a:off x="25092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Initialization of the DataBas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324000" y="674640"/>
            <a:ext cx="8820000" cy="557064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We must defin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struc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 for the objects to insert in the DB: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which objects, with which hierarchy?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Fondamental ques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What i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meaningfu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 to put in the DataBase?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=&gt;must we put the 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  <a:ea typeface="Osaka"/>
              </a:rPr>
              <a:t>beam line, the chambers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 which are specific to each laboratory and not belong to AGATA?...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With which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degree of detai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?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=&gt; must we put the 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  <a:ea typeface="Osaka"/>
              </a:rPr>
              <a:t>r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</a:rPr>
              <a:t>acks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 in the DB, the heat exchangers?...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And we must be a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homogeneou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as possible!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=&gt;the TCluster corresponds in the DB to the support, to the cryostat, to an abstract component?...must we create it?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8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FD5293-1091-4E8E-8BE5-CCBC48C1BDEC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9" name="Titre 4"/>
          <p:cNvSpPr/>
          <p:nvPr/>
        </p:nvSpPr>
        <p:spPr>
          <a:xfrm>
            <a:off x="250920" y="-270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Initialization of the DataBas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08000" y="549360"/>
            <a:ext cx="8785080" cy="63453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Definition of objects to insert in the DataBase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=&gt;</a:t>
            </a:r>
            <a:r>
              <a:rPr b="1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name, type (specie), version, isacabl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GB" sz="2800" spc="-1" strike="noStrike" u="sng">
                <a:solidFill>
                  <a:srgbClr val="0066cc"/>
                </a:solidFill>
                <a:uFillTx/>
                <a:latin typeface="Arial"/>
                <a:ea typeface="Osaka"/>
              </a:rPr>
              <a:t>ex: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 TCluster, Assymetric TC, version 1, not a cabl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efinition of the assembly ru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tween those objects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=&gt;</a:t>
            </a: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Father/son and number of max sons in the father…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0066cc"/>
                </a:solidFill>
                <a:uFillTx/>
                <a:latin typeface="Arial"/>
              </a:rPr>
              <a:t>ex:</a:t>
            </a: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father: Asym TC=&gt;son: Asym Cryostat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=&gt;1 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Asym TC</a:t>
            </a:r>
            <a:r>
              <a:rPr b="0" lang="en-GB" sz="24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is composed of only one Asym Cryostat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’ve sent a more precise documentation to each team leader and working group leader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2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4F685A-E48C-4FE6-A2F7-A7B1379D65E2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600120" y="1273320"/>
            <a:ext cx="7643880" cy="44643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Common forma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 for barcodes has been fixed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=&gt;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16 digi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xxx_xxx_xxx_xxxx: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group_type_specificity_numbering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DET_TCL_ASY_0001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If stamps can’t be put: find another identification method (serial number…)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Becarefull to the confusion and mistakes between objects 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4" name="Titre 4"/>
          <p:cNvSpPr/>
          <p:nvPr/>
        </p:nvSpPr>
        <p:spPr>
          <a:xfrm>
            <a:off x="0" y="1890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cy of barcodes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6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7B002C-8B38-48F4-B809-4DD2ADF5B2A8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7" name="Titre 4"/>
          <p:cNvSpPr/>
          <p:nvPr/>
        </p:nvSpPr>
        <p:spPr>
          <a:xfrm>
            <a:off x="179280" y="1890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Actions in the DataBas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684360" y="1125360"/>
            <a:ext cx="7529400" cy="50007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tions in the DB =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measures on object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66cc"/>
                </a:solidFill>
                <a:latin typeface="Arial"/>
              </a:rPr>
              <a:t>=&gt; the resolution at 122keV: </a:t>
            </a:r>
            <a:r>
              <a:rPr b="1" i="1" lang="fr-FR" sz="2400" spc="-1" strike="noStrike">
                <a:solidFill>
                  <a:srgbClr val="0066cc"/>
                </a:solidFill>
                <a:latin typeface="Arial"/>
              </a:rPr>
              <a:t>Resolution122keV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osite actions (on single objects or on composite objects)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2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i="1" lang="fr-FR" sz="2600" spc="-1" strike="noStrike">
                <a:solidFill>
                  <a:srgbClr val="0066cc"/>
                </a:solidFill>
                <a:latin typeface="Arial"/>
              </a:rPr>
              <a:t>=&gt; the </a:t>
            </a:r>
            <a:r>
              <a:rPr b="1" i="1" lang="fr-FR" sz="2600" spc="-1" strike="noStrike">
                <a:solidFill>
                  <a:srgbClr val="0066cc"/>
                </a:solidFill>
                <a:latin typeface="Arial"/>
              </a:rPr>
              <a:t>Resolution</a:t>
            </a:r>
            <a:r>
              <a:rPr b="0" i="1" lang="fr-FR" sz="2600" spc="-1" strike="noStrike">
                <a:solidFill>
                  <a:srgbClr val="0066cc"/>
                </a:solidFill>
                <a:latin typeface="Arial"/>
              </a:rPr>
              <a:t> which is composed of 2 base actions: the </a:t>
            </a:r>
            <a:r>
              <a:rPr b="1" i="1" lang="fr-FR" sz="2600" spc="-1" strike="noStrike">
                <a:solidFill>
                  <a:srgbClr val="0066cc"/>
                </a:solidFill>
                <a:latin typeface="Arial"/>
              </a:rPr>
              <a:t>Resolution122keV</a:t>
            </a:r>
            <a:r>
              <a:rPr b="0" i="1" lang="fr-FR" sz="2600" spc="-1" strike="noStrike">
                <a:solidFill>
                  <a:srgbClr val="0066cc"/>
                </a:solidFill>
                <a:latin typeface="Arial"/>
              </a:rPr>
              <a:t> and the </a:t>
            </a:r>
            <a:r>
              <a:rPr b="1" i="1" lang="fr-FR" sz="2600" spc="-1" strike="noStrike">
                <a:solidFill>
                  <a:srgbClr val="0066cc"/>
                </a:solidFill>
                <a:latin typeface="Arial"/>
              </a:rPr>
              <a:t>Resolution1MeV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objects have a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tatu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reference, valid, notvalid), and actions can invalidate some object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Consequenc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a «faulty» object can’t be assembled for instance/ but this object can be repaired by ordinary actions or special action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7696BC-A1B0-4DDD-8AAA-0E97E3B1220C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1" name="Titre 4"/>
          <p:cNvSpPr/>
          <p:nvPr/>
        </p:nvSpPr>
        <p:spPr>
          <a:xfrm>
            <a:off x="179280" y="1890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Actions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468360" y="1052640"/>
            <a:ext cx="8281800" cy="488052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66cc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 « Initialization » action can be necessary: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erial numb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28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ducer, purchaser… 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66cc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pecification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66cc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asures of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resolution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66cc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canning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of crystal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NB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: the </a:t>
            </a: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binary files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 can’t be inserted in the BD, but you can create </a:t>
            </a: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links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 on files stored on an </a:t>
            </a: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external media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 (</a:t>
            </a: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ex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: at the CCIN2P3, storage under HPSS of big files and automatized access via SRB)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numéro de diapositive 9"/>
          <p:cNvSpPr/>
          <p:nvPr/>
        </p:nvSpPr>
        <p:spPr>
          <a:xfrm>
            <a:off x="8429760" y="6248520"/>
            <a:ext cx="48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DFDE7B-D911-44EF-8DD6-084EF714A615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25" name="Espace réservé de la date 8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ut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642680" y="1143000"/>
            <a:ext cx="6929640" cy="50043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napsh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ptation of BigBr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itialization of the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ctions=measures in the 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4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C03DFD-9DDE-40DF-AA8B-EE423DDD206E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5" name="Titre 4"/>
          <p:cNvSpPr/>
          <p:nvPr/>
        </p:nvSpPr>
        <p:spPr>
          <a:xfrm>
            <a:off x="395280" y="5493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Conclusion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1258920" y="1916280"/>
            <a:ext cx="6929280" cy="404928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Osaka"/>
              </a:rPr>
              <a:t>The urgency: to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fix the struc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Osaka"/>
              </a:rPr>
              <a:t> of the databas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Osaka"/>
              </a:rPr>
              <a:t>After that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define ac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Osaka"/>
              </a:rPr>
              <a:t> on those objects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See you at the Detector parameter DB meeting Thursday at 16:00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18C495-C89B-47DD-A175-D6EE8F8ABE7B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9" name="Titre 4"/>
          <p:cNvSpPr/>
          <p:nvPr/>
        </p:nvSpPr>
        <p:spPr>
          <a:xfrm>
            <a:off x="395280" y="549360"/>
            <a:ext cx="864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Necessary information to define an action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684360" y="1341360"/>
            <a:ext cx="7775280" cy="46623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name, version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Objec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nam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a short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ion of the action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Results on the ac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name, type, unity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Composite Ac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? Yes/No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Input values for the test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value, unity, description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oo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tool used for a specific center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Operato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name of the operator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468360" y="1700280"/>
            <a:ext cx="8353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254426-C4EA-4B50-BFEE-B2C5D8D85C04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4" name="Titre 4"/>
          <p:cNvSpPr/>
          <p:nvPr/>
        </p:nvSpPr>
        <p:spPr>
          <a:xfrm>
            <a:off x="324000" y="260280"/>
            <a:ext cx="864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Exempl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250920" y="900000"/>
            <a:ext cx="8713800" cy="622008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RESOLUTION122kev, 1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Object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CRYSTAL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Give the resolution of a crystal and i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6 segments for 122keV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resCrystal float, resSegments Array of 36 floats 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Composite Ac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? No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Input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122, keV, Energy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Tool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test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Operator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Cecile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ex of composite ac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Resolution which contains 2 base actions: Resolution122keV and Resolution1MeV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468360" y="1700280"/>
            <a:ext cx="8353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numéro de diapositive 4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60FB0F-F22C-48CF-BD6E-92B8AFB8DB74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29" name="Espace réservé de la date 3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0010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-743040">
              <a:buClr>
                <a:srgbClr val="0070c0"/>
              </a:buClr>
              <a:buFont typeface="Helvetica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14200" y="746280"/>
            <a:ext cx="8715600" cy="552060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acle DataBase (the server) and a graphical interfac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BigBrowser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java client) conceived and developed by the CMS Team Tr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is tool has been accepted by the «Agata Management Board = </a:t>
            </a:r>
            <a:r>
              <a:rPr b="1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he official Agata constructio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he Computer Center of the IN2P3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hosts the database part: a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st DB and  a production DB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ave been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he Infrastructure grou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began to work with us to define the structure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Espace réservé du numéro de diapositive 25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FAB883-826F-4883-9304-90CACE75609B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33" name="Espace réservé de la date 24"/>
          <p:cNvSpPr/>
          <p:nvPr/>
        </p:nvSpPr>
        <p:spPr>
          <a:xfrm>
            <a:off x="571680" y="621504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grpSp>
        <p:nvGrpSpPr>
          <p:cNvPr id="234" name="Group 17"/>
          <p:cNvGrpSpPr/>
          <p:nvPr/>
        </p:nvGrpSpPr>
        <p:grpSpPr>
          <a:xfrm>
            <a:off x="500040" y="785880"/>
            <a:ext cx="8214840" cy="6030360"/>
            <a:chOff x="500040" y="785880"/>
            <a:chExt cx="8214840" cy="6030360"/>
          </a:xfrm>
        </p:grpSpPr>
        <p:pic>
          <p:nvPicPr>
            <p:cNvPr id="235" name="Picture 4" descr="Overview"/>
            <p:cNvPicPr/>
            <p:nvPr/>
          </p:nvPicPr>
          <p:blipFill>
            <a:blip r:embed="rId1"/>
            <a:stretch/>
          </p:blipFill>
          <p:spPr>
            <a:xfrm>
              <a:off x="500040" y="785880"/>
              <a:ext cx="8214840" cy="60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AutoShape 10"/>
            <p:cNvSpPr/>
            <p:nvPr/>
          </p:nvSpPr>
          <p:spPr>
            <a:xfrm>
              <a:off x="2284560" y="1367640"/>
              <a:ext cx="1339200" cy="872640"/>
            </a:xfrm>
            <a:custGeom>
              <a:avLst/>
              <a:gdLst>
                <a:gd name="textAreaLeft" fmla="*/ 0 w 1339200"/>
                <a:gd name="textAreaRight" fmla="*/ 1339560 w 1339200"/>
                <a:gd name="textAreaTop" fmla="*/ 113040 h 872640"/>
                <a:gd name="textAreaBottom" fmla="*/ 759600 h 87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37" name="AutoShape 12"/>
            <p:cNvSpPr/>
            <p:nvPr/>
          </p:nvSpPr>
          <p:spPr>
            <a:xfrm>
              <a:off x="5852880" y="1295640"/>
              <a:ext cx="1562040" cy="116424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150840 h 1164240"/>
                <a:gd name="textAreaBottom" fmla="*/ 1013400 h 11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Select and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insert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38" name="Text Box 13"/>
            <p:cNvSpPr/>
            <p:nvPr/>
          </p:nvSpPr>
          <p:spPr>
            <a:xfrm>
              <a:off x="669600" y="2314440"/>
              <a:ext cx="1008360" cy="5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def6f1"/>
                  </a:solidFill>
                  <a:latin typeface="Arial"/>
                </a:rPr>
                <a:t>JDBC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39" name="Text Box 14"/>
            <p:cNvSpPr/>
            <p:nvPr/>
          </p:nvSpPr>
          <p:spPr>
            <a:xfrm>
              <a:off x="7009200" y="2460240"/>
              <a:ext cx="1008360" cy="5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JDBC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40" name="Text Box 15"/>
            <p:cNvSpPr/>
            <p:nvPr/>
          </p:nvSpPr>
          <p:spPr>
            <a:xfrm>
              <a:off x="3331080" y="2968920"/>
              <a:ext cx="2198520" cy="5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Instant Client,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5630400" y="3987720"/>
              <a:ext cx="30484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[GUI or  Command </a:t>
              </a:r>
              <a:endParaRPr b="0" lang="en-US" sz="2000" spc="-1" strike="noStrike">
                <a:solidFill>
                  <a:srgbClr val="def6f1"/>
                </a:solidFill>
                <a:latin typeface="Arial"/>
              </a:endParaRPr>
            </a:p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Line]</a:t>
              </a:r>
              <a:endParaRPr b="0" lang="en-US" sz="2000" spc="-1" strike="noStrike">
                <a:solidFill>
                  <a:srgbClr val="def6f1"/>
                </a:solidFill>
                <a:latin typeface="Arial"/>
              </a:endParaRPr>
            </a:p>
          </p:txBody>
        </p:sp>
      </p:grpSp>
      <p:sp>
        <p:nvSpPr>
          <p:cNvPr id="242" name="Rectangle 23"/>
          <p:cNvSpPr/>
          <p:nvPr/>
        </p:nvSpPr>
        <p:spPr>
          <a:xfrm>
            <a:off x="586800" y="-71280"/>
            <a:ext cx="32554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19000"/>
              </a:lnSpc>
              <a:buClr>
                <a:srgbClr val="0070c0"/>
              </a:buClr>
              <a:buFont typeface="Arial"/>
              <a:buAutoNum type="arabicParenR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4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numéro de diapositive 13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B7409A-BFDF-485E-8F1D-B68B94B65E0E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44" name="Espace réservé de la date 12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45" name="Picture 7" descr="Capture1"/>
          <p:cNvPicPr/>
          <p:nvPr/>
        </p:nvPicPr>
        <p:blipFill>
          <a:blip r:embed="rId1"/>
          <a:srcRect l="0" t="2399" r="0" b="4592"/>
          <a:stretch/>
        </p:blipFill>
        <p:spPr>
          <a:xfrm>
            <a:off x="214200" y="633240"/>
            <a:ext cx="8286840" cy="6166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71280"/>
            <a:ext cx="763272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tructure of objects in the 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Espace réservé de la dat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48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0455A4-6C32-4DFB-A4EA-967B071E10CF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0"/>
            <a:ext cx="8229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Registration of an object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50" name="Picture 7" descr="Capture2"/>
          <p:cNvPicPr/>
          <p:nvPr/>
        </p:nvPicPr>
        <p:blipFill>
          <a:blip r:embed="rId1"/>
          <a:srcRect l="0" t="2654" r="0" b="4363"/>
          <a:stretch/>
        </p:blipFill>
        <p:spPr>
          <a:xfrm>
            <a:off x="141120" y="619200"/>
            <a:ext cx="828864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5B6E90-8653-483B-BFFA-5D07B2FA0859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53" name="Picture 5" descr="Capture3"/>
          <p:cNvPicPr/>
          <p:nvPr/>
        </p:nvPicPr>
        <p:blipFill>
          <a:blip r:embed="rId1"/>
          <a:srcRect l="0" t="2189" r="0" b="3916"/>
          <a:stretch/>
        </p:blipFill>
        <p:spPr>
          <a:xfrm>
            <a:off x="214200" y="561960"/>
            <a:ext cx="8286840" cy="62247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285840" y="0"/>
            <a:ext cx="73389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ssembly of a crystal in a capsul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56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188D10-A132-4AA8-BBD1-AA5A65E89F89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57" name="Picture 8" descr="Capture4"/>
          <p:cNvPicPr/>
          <p:nvPr/>
        </p:nvPicPr>
        <p:blipFill>
          <a:blip r:embed="rId1"/>
          <a:srcRect l="0" t="2857" r="0" b="3580"/>
          <a:stretch/>
        </p:blipFill>
        <p:spPr>
          <a:xfrm>
            <a:off x="142920" y="571680"/>
            <a:ext cx="8300880" cy="62150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6"/>
          <p:cNvSpPr/>
          <p:nvPr/>
        </p:nvSpPr>
        <p:spPr>
          <a:xfrm>
            <a:off x="571680" y="0"/>
            <a:ext cx="8229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Transfer of an object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60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EE6463-F256-49CE-AAD5-48A90B6BACAC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61" name="Picture 5" descr="Capture5"/>
          <p:cNvPicPr/>
          <p:nvPr/>
        </p:nvPicPr>
        <p:blipFill>
          <a:blip r:embed="rId1"/>
          <a:srcRect l="0" t="2174" r="0" b="4658"/>
          <a:stretch/>
        </p:blipFill>
        <p:spPr>
          <a:xfrm>
            <a:off x="82440" y="536400"/>
            <a:ext cx="8418600" cy="62755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4"/>
          <p:cNvSpPr/>
          <p:nvPr/>
        </p:nvSpPr>
        <p:spPr>
          <a:xfrm>
            <a:off x="46836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Insertion of data via an XML fil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franc</cp:lastModifiedBy>
  <dcterms:modified xsi:type="dcterms:W3CDTF">2008-07-04T16:18:40Z</dcterms:modified>
  <cp:revision>107</cp:revision>
  <dc:subject/>
  <dc:title>An AGATA Construction DataBase</dc:title>
</cp:coreProperties>
</file>