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05B50-86A2-4190-ADBD-60528DE35947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0830C-B3DE-4F89-AF16-021F569DEDA2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2EE5F-D8CF-4968-B845-9150119F76AE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D35C7-EE6B-426C-B16F-C713DCE1168C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90813-DC42-4941-BF37-3AECE9896474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D32-E43E-4633-83E5-C5EF310C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AB8-AC51-47F9-A5DB-4E02F58E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457-B8C0-4932-9E53-D1D5736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8C7-3F63-4783-B064-DE1D1B5B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1ACE-AA71-470C-9E91-EC8ECF66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F37-4FDF-4F0C-8111-AE4C754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2485-453D-4929-A4DF-571FF13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5F4B-A709-42F5-9E13-363EAEA9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56F-0F8C-4055-A78D-2FF855F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C24E-124A-40D7-986A-BBF6ED9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F25-B3ED-4EA6-91BA-E2A8491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09D-8A7D-44CC-8F7F-45758DD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72E-06E3-489A-B313-0D76C33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CD83-A403-494A-A7C9-AFDCA36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6CE6-0ED8-4470-81D4-46C946D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0DE4-AF66-49C5-AE29-D117FD20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D1E-4C3C-41B5-80EF-F6DA7F44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B5B-FCF4-4924-A86F-35830B8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605-AEBA-4B83-9A47-9007EB96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A62-2EE5-4488-820E-8F665C3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AD1-3E5B-46D0-9C22-F67AF74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78D-0B6F-48C1-A799-151E808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7C8-FCDD-46DB-9BE4-2ABDEB8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376-0A9E-4550-90EE-952C264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D81BAD-D184-4D3F-AAA8-CC1049DEE3E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67A27A-12D8-4A29-A706-7F67B01B0A02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Forte"/>
              </a:rPr>
              <a:t>Agata Construction Data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28840" y="5429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Agata Week, 08/07/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Aufranc, O.Stez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andeau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12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2"/>
          <a:srcRect l="0" t="0" r="92442" b="0"/>
          <a:stretch/>
        </p:blipFill>
        <p:spPr>
          <a:xfrm>
            <a:off x="7812000" y="333360"/>
            <a:ext cx="110016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4" name="Espace réservé du numéro de diapositive 2"/>
          <p:cNvSpPr/>
          <p:nvPr/>
        </p:nvSpPr>
        <p:spPr>
          <a:xfrm>
            <a:off x="8215200" y="6248520"/>
            <a:ext cx="8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BF0911-99D9-4BF0-8372-6C8E0EF88FA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5" name="Image 3" descr="Capture6.png"/>
          <p:cNvPicPr/>
          <p:nvPr/>
        </p:nvPicPr>
        <p:blipFill>
          <a:blip r:embed="rId1"/>
          <a:srcRect l="0" t="3126" r="0" b="2082"/>
          <a:stretch/>
        </p:blipFill>
        <p:spPr>
          <a:xfrm>
            <a:off x="142920" y="534960"/>
            <a:ext cx="8286840" cy="62834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468360" y="0"/>
            <a:ext cx="806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nection between 2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440309-66B1-4995-BA5B-67057FCA049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9" name="Picture 4" descr="Capture7"/>
          <p:cNvPicPr/>
          <p:nvPr/>
        </p:nvPicPr>
        <p:blipFill>
          <a:blip r:embed="rId1"/>
          <a:srcRect l="0" t="2705" r="0" b="3691"/>
          <a:stretch/>
        </p:blipFill>
        <p:spPr>
          <a:xfrm>
            <a:off x="214200" y="609480"/>
            <a:ext cx="8248680" cy="6177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istory of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DDA8DC-3857-4D26-B075-D577C1311A5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3" name="Picture 8" descr="Capture8"/>
          <p:cNvPicPr/>
          <p:nvPr/>
        </p:nvPicPr>
        <p:blipFill>
          <a:blip r:embed="rId1"/>
          <a:srcRect l="0" t="2248" r="0" b="3709"/>
          <a:stretch/>
        </p:blipFill>
        <p:spPr>
          <a:xfrm>
            <a:off x="216000" y="785880"/>
            <a:ext cx="7596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39640" y="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port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D90C78-2D92-4ED5-8ECE-2A3360DAED1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7" name="Picture 4" descr="Resolution1"/>
          <p:cNvPicPr/>
          <p:nvPr/>
        </p:nvPicPr>
        <p:blipFill>
          <a:blip r:embed="rId1"/>
          <a:srcRect l="0" t="2728" r="0" b="4293"/>
          <a:stretch/>
        </p:blipFill>
        <p:spPr>
          <a:xfrm>
            <a:off x="142920" y="647640"/>
            <a:ext cx="8250120" cy="613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468360" y="712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available for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70c0"/>
              </a:buClr>
              <a:buFont typeface="Helvetic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Adaptation of Big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1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A67589-8EC5-412E-A1DD-CB9681D87C9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4200" y="928800"/>
            <a:ext cx="8572680" cy="57488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ther=portable appl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few modifications for Agata purpose (DataBase access, CMS specific vocabulary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version of numerical barcodes to alphanumerical on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not a difficult work but  modifications everywhere in the code.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Development is finished and tested,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but bugs can remain: report me any problem (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cecile.aufranc@ipnl.in2p3.f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struction DataBase Agata Web Sit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http://agata.in2p3.fr/DB/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wser download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ftp://lyoftp.in2p3.fr/AGATA/AgataDB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4F62D6-B195-46C5-B36C-E2323158BA5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5" name="Titre 4"/>
          <p:cNvSpPr/>
          <p:nvPr/>
        </p:nvSpPr>
        <p:spPr>
          <a:xfrm>
            <a:off x="25092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24000" y="674640"/>
            <a:ext cx="8820000" cy="55706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e must defin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tru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the objects to insert in the DB: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which objects, with which hierarchy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ondamental 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hat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eaningfu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to put in the DataBase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beam line, the chamber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 which are specific to each laboratory and not belong to AGATA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ith whic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gree of deta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 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r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</a:rPr>
              <a:t>ack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in the DB, the heat exchangers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nd we must be 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omogeneou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s possible!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the TCluster corresponds in the DB to the support, to the cryostat, to an abstract component?...must we create it?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61B1F-5C00-4283-8B82-A2A7C737733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9" name="Titre 4"/>
          <p:cNvSpPr/>
          <p:nvPr/>
        </p:nvSpPr>
        <p:spPr>
          <a:xfrm>
            <a:off x="250920" y="-27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08000" y="549360"/>
            <a:ext cx="8785080" cy="6345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Definition of objects to insert in the DataBase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name, type (specie), version, isa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ex: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 TCluster, Assymetric TC, version 1, not a 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the assembly r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ose object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Father/son and number of max sons in the father…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</a:rPr>
              <a:t>ex: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father: Asym TC=&gt;son: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1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Asym TC</a:t>
            </a:r>
            <a:r>
              <a:rPr b="0" lang="en-GB" sz="24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is composed of only one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’ve sent a more precise documentation to each team leader and working group lead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99E521-A091-4E76-9DE3-AB5F7ECCF73B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600120" y="1273320"/>
            <a:ext cx="7643880" cy="446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mmon form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barcodes has been fixed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6 dig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xxx_xxx_xxx_xxxx: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group_type_specificity_numbering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T_TCL_ASY_0001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If stamps can’t be put: find another identification method (serial number…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Becarefull to the confusion and mistakes between objects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4" name="Titre 4"/>
          <p:cNvSpPr/>
          <p:nvPr/>
        </p:nvSpPr>
        <p:spPr>
          <a:xfrm>
            <a:off x="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cy of barcode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49D8A6-3EDB-418F-8E3E-21CEBB2BFE4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7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in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84360" y="1125360"/>
            <a:ext cx="7529400" cy="50007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in the DB =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measures on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66cc"/>
                </a:solidFill>
                <a:latin typeface="Arial"/>
              </a:rPr>
              <a:t>=&gt; the resolution at 122keV: </a:t>
            </a:r>
            <a:r>
              <a:rPr b="1" i="1" lang="fr-FR" sz="24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e actions (on single objects or on composite objects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=&gt;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which is composed of 2 base actions: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and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objects have a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reference, valid, notvalid), and actions can invalidate some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a «faulty» object can’t be assembled for instance/ but this object can be repaired by ordinary actions or special ac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838E33-5469-4629-99C4-6AC079BC492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1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68360" y="1052640"/>
            <a:ext cx="8281800" cy="48805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« Initialization » action can be necessary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erial numb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er, purchaser…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olu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canning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f crystal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NB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th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binary file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can’t be inserted in the BD, but you can creat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link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on files stored on an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ternal media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at the CCIN2P3, storage under HPSS of big files and automatized access via SRB)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9"/>
          <p:cNvSpPr/>
          <p:nvPr/>
        </p:nvSpPr>
        <p:spPr>
          <a:xfrm>
            <a:off x="8429760" y="6248520"/>
            <a:ext cx="48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F5D7AB-9A0E-469D-99F9-9219326D90D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5" name="Espace réservé de la date 8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t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42680" y="1143000"/>
            <a:ext cx="6929640" cy="500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ptation of Big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itialization of the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ctions=measures in the 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76AC79-5B1C-4AFE-8111-D9077D08262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5" name="Titre 4"/>
          <p:cNvSpPr/>
          <p:nvPr/>
        </p:nvSpPr>
        <p:spPr>
          <a:xfrm>
            <a:off x="395280" y="5493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clus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258920" y="1916280"/>
            <a:ext cx="6929280" cy="40492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The urgency: 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ix the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After that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fine ac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n those object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ee you at the Detector parameter DB meeting Thursday at 16:00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25DD1D-970F-403C-A5DF-A308E4A2D63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9" name="Titre 4"/>
          <p:cNvSpPr/>
          <p:nvPr/>
        </p:nvSpPr>
        <p:spPr>
          <a:xfrm>
            <a:off x="395280" y="54936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Necessary information to define an act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84360" y="1341360"/>
            <a:ext cx="7775280" cy="4662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vers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a short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on of the ac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ults on th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type, unity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 Yes/No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Input values for the test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alue, unity, descrip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tool used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 of the operato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767AD0-D48F-4BFE-BA15-ED3C4B26949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4" name="Titre 4"/>
          <p:cNvSpPr/>
          <p:nvPr/>
        </p:nvSpPr>
        <p:spPr>
          <a:xfrm>
            <a:off x="324000" y="26028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Exempl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50920" y="900000"/>
            <a:ext cx="8713800" cy="62200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122kev, 1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RYSTAL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Give the resolution of a crystal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6 segments for 122k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Crystal float, resSegments Array of 36 floats 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? No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122, keV, Energy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ecile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ex of 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 which contains 2 base actions: Resolution122keV and 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4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9E10CD-EEAC-48E3-BD87-F6A472192A4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9" name="Espace réservé de la date 3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001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0070c0"/>
              </a:buClr>
              <a:buFont typeface="Helvetic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746280"/>
            <a:ext cx="8715600" cy="55206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DataBase (the server) and a graphical interfac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BigBrows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java client) conceived and developed by the CMS Team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tool has been accepted by the «Agata Management Board = </a:t>
            </a: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official Agata construc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Computer Center of the IN2P3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hosts the database part: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 DB and  a production DB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Infrastructure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began to work with us to define the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2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D0A92D-2D1A-4DC1-8D18-A20CDA7BC5F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3" name="Espace réservé de la date 24"/>
          <p:cNvSpPr/>
          <p:nvPr/>
        </p:nvSpPr>
        <p:spPr>
          <a:xfrm>
            <a:off x="571680" y="621504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grpSp>
        <p:nvGrpSpPr>
          <p:cNvPr id="234" name="Group 17"/>
          <p:cNvGrpSpPr/>
          <p:nvPr/>
        </p:nvGrpSpPr>
        <p:grpSpPr>
          <a:xfrm>
            <a:off x="500040" y="785880"/>
            <a:ext cx="8214840" cy="6030360"/>
            <a:chOff x="500040" y="785880"/>
            <a:chExt cx="8214840" cy="6030360"/>
          </a:xfrm>
        </p:grpSpPr>
        <p:pic>
          <p:nvPicPr>
            <p:cNvPr id="235" name="Picture 4" descr="Overview"/>
            <p:cNvPicPr/>
            <p:nvPr/>
          </p:nvPicPr>
          <p:blipFill>
            <a:blip r:embed="rId1"/>
            <a:stretch/>
          </p:blipFill>
          <p:spPr>
            <a:xfrm>
              <a:off x="500040" y="785880"/>
              <a:ext cx="8214840" cy="60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10"/>
            <p:cNvSpPr/>
            <p:nvPr/>
          </p:nvSpPr>
          <p:spPr>
            <a:xfrm>
              <a:off x="2284560" y="1367640"/>
              <a:ext cx="1339200" cy="872640"/>
            </a:xfrm>
            <a:custGeom>
              <a:avLst/>
              <a:gdLst>
                <a:gd name="textAreaLeft" fmla="*/ 0 w 1339200"/>
                <a:gd name="textAreaRight" fmla="*/ 1339560 w 1339200"/>
                <a:gd name="textAreaTop" fmla="*/ 113040 h 872640"/>
                <a:gd name="textAreaBottom" fmla="*/ 75960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7" name="AutoShape 12"/>
            <p:cNvSpPr/>
            <p:nvPr/>
          </p:nvSpPr>
          <p:spPr>
            <a:xfrm>
              <a:off x="5852880" y="1295640"/>
              <a:ext cx="1562040" cy="116424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150840 h 1164240"/>
                <a:gd name="textAreaBottom" fmla="*/ 1013400 h 11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 and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669600" y="23144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def6f1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9200" y="24602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331080" y="2968920"/>
              <a:ext cx="21985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tant Client,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5630400" y="3987720"/>
              <a:ext cx="3048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GUI or  Command 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ine]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586800" y="-71280"/>
            <a:ext cx="3255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19000"/>
              </a:lnSpc>
              <a:buClr>
                <a:srgbClr val="0070c0"/>
              </a:buClr>
              <a:buFont typeface="Arial"/>
              <a:buAutoNum type="arabi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numéro de diapositive 13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B10FF-142B-414A-974E-5CC343EA42F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4" name="Espace réservé de la date 12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45" name="Picture 7" descr="Capture1"/>
          <p:cNvPicPr/>
          <p:nvPr/>
        </p:nvPicPr>
        <p:blipFill>
          <a:blip r:embed="rId1"/>
          <a:srcRect l="0" t="2399" r="0" b="4592"/>
          <a:stretch/>
        </p:blipFill>
        <p:spPr>
          <a:xfrm>
            <a:off x="214200" y="633240"/>
            <a:ext cx="8286840" cy="6166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71280"/>
            <a:ext cx="7632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ructure of objects in the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e la dat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E61C3C-6746-4F76-8457-8B716E0832D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229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gistration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0" name="Picture 7" descr="Capture2"/>
          <p:cNvPicPr/>
          <p:nvPr/>
        </p:nvPicPr>
        <p:blipFill>
          <a:blip r:embed="rId1"/>
          <a:srcRect l="0" t="2654" r="0" b="4363"/>
          <a:stretch/>
        </p:blipFill>
        <p:spPr>
          <a:xfrm>
            <a:off x="141120" y="619200"/>
            <a:ext cx="82886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A47D3-CCD4-486B-B267-7FDDA4ACBE2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3" name="Picture 5" descr="Capture3"/>
          <p:cNvPicPr/>
          <p:nvPr/>
        </p:nvPicPr>
        <p:blipFill>
          <a:blip r:embed="rId1"/>
          <a:srcRect l="0" t="2189" r="0" b="3916"/>
          <a:stretch/>
        </p:blipFill>
        <p:spPr>
          <a:xfrm>
            <a:off x="214200" y="561960"/>
            <a:ext cx="8286840" cy="6224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285840" y="0"/>
            <a:ext cx="7338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sembly of a crystal in a capsu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1A7EE8-BDF3-43C5-98AE-ED871BE2FAE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7" name="Picture 8" descr="Capture4"/>
          <p:cNvPicPr/>
          <p:nvPr/>
        </p:nvPicPr>
        <p:blipFill>
          <a:blip r:embed="rId1"/>
          <a:srcRect l="0" t="2857" r="0" b="3580"/>
          <a:stretch/>
        </p:blipFill>
        <p:spPr>
          <a:xfrm>
            <a:off x="142920" y="571680"/>
            <a:ext cx="8300880" cy="6215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571680" y="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Transfer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57A46E-3060-41E2-88F1-208A94D2F04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1" name="Picture 5" descr="Capture5"/>
          <p:cNvPicPr/>
          <p:nvPr/>
        </p:nvPicPr>
        <p:blipFill>
          <a:blip r:embed="rId1"/>
          <a:srcRect l="0" t="2174" r="0" b="4658"/>
          <a:stretch/>
        </p:blipFill>
        <p:spPr>
          <a:xfrm>
            <a:off x="82440" y="536400"/>
            <a:ext cx="8418600" cy="6275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sertion of data via an XML fi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franc</cp:lastModifiedBy>
  <dcterms:modified xsi:type="dcterms:W3CDTF">2008-07-04T16:18:40Z</dcterms:modified>
  <cp:revision>107</cp:revision>
  <dc:subject/>
  <dc:title>An AGATA Construction DataBase</dc:title>
</cp:coreProperties>
</file>