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7499E-98D7-488C-A8ED-C48545924F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69114-1631-47BD-80CB-E6A8DBCFB0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BECC-77A0-4F12-A443-5B333249C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A241-0159-4A39-B8CE-CAF4A8730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B7C5-97BE-4EA1-A519-9C1EA0959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5CB9-AF12-402C-9E10-1DA530D7B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E10C-2EBC-4E8A-AC6F-AB6189254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75DD-8FED-4D3E-B51F-86D98C322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DE56-6560-4799-B4FE-92C6C6EB6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B8C6-6098-4E7D-B56E-8069BB0C0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A0FD-4686-4942-BE5C-34900BB82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7915-14C3-46CC-AECE-81C7B1731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989B-D9FF-4088-9820-297C24EBD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49F5-996C-4CA8-9D29-D1723CAE1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C904E-C2CC-4D64-8208-1FBB50D6E71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haracterisation &amp; PSA</a:t>
            </a:r>
            <a:br>
              <a:rPr sz="44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am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verpool Status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y Boston/Matt Dimmock (Liverpo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osstalk properties of AGATA detectors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rt Bruyneel (IKP Colog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alysis of S003 scan data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rt Bruyneel (IKP Colog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lementation of T0 calculation with RS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bio Crespi (INFN Milan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aging with two sources and how to determine position resolution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no Bazzacco (INFN Padov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mple test experiments to adjust PSA algorithms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man Gernhauser (TUM Muni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213840"/>
            <a:ext cx="737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re Risetimes (T3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Core_T30_R1-6.png"/>
          <p:cNvPicPr/>
          <p:nvPr/>
        </p:nvPicPr>
        <p:blipFill>
          <a:blip r:embed="rId1"/>
          <a:stretch/>
        </p:blipFill>
        <p:spPr>
          <a:xfrm>
            <a:off x="285840" y="1285920"/>
            <a:ext cx="8700840" cy="4595760"/>
          </a:xfrm>
          <a:prstGeom prst="rect">
            <a:avLst/>
          </a:prstGeom>
          <a:ln w="0">
            <a:noFill/>
          </a:ln>
        </p:spPr>
      </p:pic>
      <p:sp>
        <p:nvSpPr>
          <p:cNvPr id="70" name="TextBox 3"/>
          <p:cNvSpPr/>
          <p:nvPr/>
        </p:nvSpPr>
        <p:spPr>
          <a:xfrm>
            <a:off x="2484000" y="6143760"/>
            <a:ext cx="641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details tomorrow ….  C. Unswo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GS/Experiment Comparison</a:t>
            </a:r>
            <a:br>
              <a:rPr sz="44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0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"/>
          <p:cNvPicPr/>
          <p:nvPr/>
        </p:nvPicPr>
        <p:blipFill>
          <a:blip r:embed="rId2"/>
          <a:stretch/>
        </p:blipFill>
        <p:spPr>
          <a:xfrm>
            <a:off x="453960" y="1357200"/>
            <a:ext cx="3971880" cy="4048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3"/>
          <a:stretch/>
        </p:blipFill>
        <p:spPr>
          <a:xfrm>
            <a:off x="4740120" y="1374840"/>
            <a:ext cx="3975120" cy="4054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"/>
          <p:cNvPicPr/>
          <p:nvPr/>
        </p:nvPicPr>
        <p:blipFill>
          <a:blip r:embed="rId4"/>
          <a:stretch/>
        </p:blipFill>
        <p:spPr>
          <a:xfrm>
            <a:off x="-142920" y="5072040"/>
            <a:ext cx="934416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rivative Crosstalk</a:t>
            </a:r>
            <a:br>
              <a:rPr sz="44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0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"/>
          <p:cNvPicPr/>
          <p:nvPr/>
        </p:nvPicPr>
        <p:blipFill>
          <a:blip r:embed="rId2"/>
          <a:srcRect l="0" t="0" r="0" b="7846"/>
          <a:stretch/>
        </p:blipFill>
        <p:spPr>
          <a:xfrm>
            <a:off x="1857240" y="1571760"/>
            <a:ext cx="507204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rivative Cross Tal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2"/>
          <a:stretch/>
        </p:blipFill>
        <p:spPr>
          <a:xfrm>
            <a:off x="57240" y="1071720"/>
            <a:ext cx="9158040" cy="57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rivative Crosstal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0" y="1081080"/>
            <a:ext cx="9144000" cy="57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rivative Crosstal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214200" y="1428840"/>
            <a:ext cx="8867880" cy="50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haracterisation &amp; PSA</a:t>
            </a:r>
            <a:br>
              <a:rPr sz="44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am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verpool Status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y Boston/Matt Dimmock (Liverpo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osstalk properties of AGATA detectors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rt Bruyneel (IKP Colog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alysis of S003 scan data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rt Bruyneel (IKP Colog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lementation of T0 calculation with RS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bio Crespi (INFN Milan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aging with two sources and how to determine position resolution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no Bazzacco (INFN Padov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mple test experiments to adjust PSA algorithms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man Gernhauser (TUM Muni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haracterisation &amp; PSA</a:t>
            </a:r>
            <a:br>
              <a:rPr sz="44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ssion 12 (Thursday P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sentations (Characteris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roduction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y Bos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ngles and Coincidence scan of c001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l Unsworth (Liverpo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tus of the Orsay scanning system utilising the TIGRESS cards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 Thi Mai Hoa (CSNSM Orsa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novel technique for the characterisation of a HPGe detector position resolution based on pulse shape comparison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bio Crespi  (INFN Milan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trasbourg scanning system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ancois Didierjean (IPHC Strasbour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haracterisation &amp; PSA</a:t>
            </a:r>
            <a:br>
              <a:rPr sz="44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ssion 12 (Thursday P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sentations (P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roved signal basis and tests with extensive grid search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chael Schlarb (TUM Muni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RVAL implementation of a PSA framework and a NARVAL emulation for code development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a Ljungvall (CEA Sacla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alysis of Legnaro data using the NARVAL implementation of the Grid Search algorithm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niele Mengoli (INFN Padov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iverpool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89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eb 08: Asymmetric detector c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rch 08: Test and repair c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6a6a6"/>
                </a:solidFill>
                <a:latin typeface="Arial"/>
              </a:rPr>
              <a:t>April 08: Resolution and x-talk measu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6a6a6"/>
                </a:solidFill>
                <a:latin typeface="Arial"/>
              </a:rPr>
              <a:t>May 08: Configure scann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6a6a6"/>
                </a:solidFill>
                <a:latin typeface="Arial"/>
              </a:rPr>
              <a:t>June – July 08: Scan c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6a6a6"/>
                </a:solidFill>
                <a:latin typeface="Arial"/>
              </a:rPr>
              <a:t>Late July – mid August: Scanning Lab clo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6a6a6"/>
                </a:solidFill>
                <a:latin typeface="Arial"/>
              </a:rPr>
              <a:t>Mid August – September 08: Scan c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ernal Fix on c0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Content Placeholder 3" descr="P3190029small.jpg"/>
          <p:cNvPicPr/>
          <p:nvPr/>
        </p:nvPicPr>
        <p:blipFill>
          <a:blip r:embed="rId1"/>
          <a:stretch/>
        </p:blipFill>
        <p:spPr>
          <a:xfrm>
            <a:off x="2852640" y="1428840"/>
            <a:ext cx="3965760" cy="5286240"/>
          </a:xfrm>
          <a:prstGeom prst="rect">
            <a:avLst/>
          </a:prstGeom>
          <a:ln w="0">
            <a:noFill/>
          </a:ln>
        </p:spPr>
      </p:pic>
      <p:sp>
        <p:nvSpPr>
          <p:cNvPr id="58" name="Oval 3"/>
          <p:cNvSpPr/>
          <p:nvPr/>
        </p:nvSpPr>
        <p:spPr>
          <a:xfrm>
            <a:off x="5786280" y="1643040"/>
            <a:ext cx="1571760" cy="1500120"/>
          </a:xfrm>
          <a:prstGeom prst="ellipse">
            <a:avLst/>
          </a:prstGeom>
          <a:noFill/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iverpool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89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6a6a6"/>
                </a:solidFill>
                <a:latin typeface="Arial"/>
              </a:rPr>
              <a:t>Feb 08: Asymmetric detector c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6a6a6"/>
                </a:solidFill>
                <a:latin typeface="Arial"/>
              </a:rPr>
              <a:t>March 08: Test and repair c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ril 08: Resolution and x-talk measu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y 08: Configure scann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une – July 08: Scan c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te July – mid August: Scanning Lab clo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id August – September 08: Scan c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symmetric scan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137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s Singles front face &amp; side sc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incidence scan - fr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241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m front face &amp; side sc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tector alig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cation of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ff x-t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lood measurement with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60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rief update since last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. Dimmock – PhD thesis is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isting GRT cards – last measu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missioning GRETINA digitiser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w slides to indicate fin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001 scan … in 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arison of MGS/Experiment s0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fferential Crosstalk s0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001 singles intensity@662ke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Intensity_R1-6.png"/>
          <p:cNvPicPr/>
          <p:nvPr/>
        </p:nvPicPr>
        <p:blipFill>
          <a:blip r:embed="rId2"/>
          <a:stretch/>
        </p:blipFill>
        <p:spPr>
          <a:xfrm>
            <a:off x="428760" y="1500120"/>
            <a:ext cx="815652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0T14:33:26Z</dcterms:created>
  <dc:creator>FSC</dc:creator>
  <dc:description/>
  <dc:language>en-US</dc:language>
  <cp:lastModifiedBy> Andy Boston</cp:lastModifiedBy>
  <dcterms:modified xsi:type="dcterms:W3CDTF">2008-07-09T13:54:12Z</dcterms:modified>
  <cp:revision>160</cp:revision>
  <dc:subject/>
  <dc:title>Slide 1</dc:title>
</cp:coreProperties>
</file>