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156F-249B-4CA1-84E3-9528ED5E35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7C56-4217-4223-9205-2D37B766AC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D310-DA22-40AE-9F66-C0AF6C02D8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C669-AD28-48F0-95E9-BE30F78EC6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70D9-329D-4C13-BB6A-A9B7655EDB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7A91-646C-4EBB-B05C-57388AEA92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A4D4-9132-4B26-A584-8558985EA3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CE3E-177D-4902-AC9F-3B3B33C3D2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9D8D-8E91-49C1-8467-F971536CD2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1E55-1990-4C34-B383-2EABB237DA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9030-9FB0-4DC3-9F3C-5CBE07882D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9F22-BA7D-42BD-AFBB-59A539DF36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499F-1288-46E6-8951-4F09B943E7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1CCA-3501-4298-84AD-523AC7FCEC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C32B-D21C-42F0-9C85-BBA0AD7542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99E0-06C8-43C8-954B-0D327ACFC2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64A-DD54-4304-9D99-24B775D7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A56-E6B2-4E02-81DC-9C7E8B1E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BF9-B7E0-423C-971E-476A955F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BC6-F56B-43BD-A263-C73237C9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EBAE-D0CA-4BDE-93E4-2348ED33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4CC7-7F37-4AB0-82BF-09FCE8C4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E49E-319D-475C-A49F-D2B506A7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4C82-2201-402B-85D1-42D99A28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7C8A-6ECC-4985-85E8-EA59468D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E300-52AC-4AC6-A82C-C7D4AFE6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500E-3895-4BA3-A00C-89B3BBC8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EAC-525A-4443-9908-7FAA3F7E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6AE2-0683-4C27-AE7E-4DB5656E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B300-B4EB-4EB0-8466-977BF7DE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3928-068A-4338-98B4-A64F36CA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1D69-561B-435A-9582-B13EAD57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DBFD-0E16-4B71-ABD6-148750B8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9C5-EA5D-4286-8E4B-FEF4A930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FA5-8274-460A-B946-75BEC3B8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B41-3DB4-4E41-AD2F-21B8836C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CCF-2087-40BC-83C1-A58F26CD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A656-C6D2-4B08-AD92-B0C8187E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BC70-8FBB-4E3B-AFC5-96F54933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CE2-0CA2-486A-8088-E14EBA3B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E11A-71DB-48CC-953A-53A559B5F39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olour_logo_1849"/>
          <p:cNvPicPr/>
          <p:nvPr/>
        </p:nvPicPr>
        <p:blipFill>
          <a:blip r:embed="rId2"/>
          <a:srcRect l="13369" t="30157" r="73409" b="31787"/>
          <a:stretch/>
        </p:blipFill>
        <p:spPr>
          <a:xfrm>
            <a:off x="142920" y="95400"/>
            <a:ext cx="57132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3"/>
          <p:cNvGraphicFramePr/>
          <p:nvPr/>
        </p:nvGraphicFramePr>
        <p:xfrm>
          <a:off x="8340840" y="0"/>
          <a:ext cx="803160" cy="108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40840" y="0"/>
                    <a:ext cx="80316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B1C2-2B67-46A1-8CB7-B7A5A2FA06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928960"/>
            <a:ext cx="72723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GATA week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ppsala, July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3840" y="214200"/>
            <a:ext cx="67150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Singles and Coincidenc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Scanning of C001 in Liverpoo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0" descr="uni-logo.png"/>
          <p:cNvPicPr/>
          <p:nvPr/>
        </p:nvPicPr>
        <p:blipFill>
          <a:blip r:embed="rId1"/>
          <a:srcRect l="11078" t="27908" r="9562" b="28270"/>
          <a:stretch/>
        </p:blipFill>
        <p:spPr>
          <a:xfrm>
            <a:off x="246240" y="5357880"/>
            <a:ext cx="44686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3"/>
          <p:cNvGraphicFramePr/>
          <p:nvPr/>
        </p:nvGraphicFramePr>
        <p:xfrm>
          <a:off x="7643880" y="5072040"/>
          <a:ext cx="1143000" cy="15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43880" y="5072040"/>
                    <a:ext cx="114300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8" descr="agata.png"/>
          <p:cNvPicPr/>
          <p:nvPr/>
        </p:nvPicPr>
        <p:blipFill>
          <a:blip r:embed="rId4"/>
          <a:srcRect l="15539" t="0" r="17680" b="0"/>
          <a:stretch/>
        </p:blipFill>
        <p:spPr>
          <a:xfrm>
            <a:off x="6715080" y="0"/>
            <a:ext cx="2428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re Risetimes (T9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Core_T90_R1-6.png"/>
          <p:cNvPicPr/>
          <p:nvPr/>
        </p:nvPicPr>
        <p:blipFill>
          <a:blip r:embed="rId1"/>
          <a:stretch/>
        </p:blipFill>
        <p:spPr>
          <a:xfrm>
            <a:off x="565200" y="1000080"/>
            <a:ext cx="8001000" cy="3605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57120" y="49291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90 – t10 for fold 1 photopeak e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ak field evident at corners of ring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egment Risetimes (T3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Seg_T30_R1-6.png"/>
          <p:cNvPicPr/>
          <p:nvPr/>
        </p:nvPicPr>
        <p:blipFill>
          <a:blip r:embed="rId1"/>
          <a:stretch/>
        </p:blipFill>
        <p:spPr>
          <a:xfrm>
            <a:off x="760320" y="1131840"/>
            <a:ext cx="7643880" cy="35830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857160" y="501984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30 – t10 for events when 662 keV deposited in one segment, for rings 1 to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egment Risetimes (T9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Seg_T90_R1-6.png"/>
          <p:cNvPicPr/>
          <p:nvPr/>
        </p:nvPicPr>
        <p:blipFill>
          <a:blip r:embed="rId1"/>
          <a:stretch/>
        </p:blipFill>
        <p:spPr>
          <a:xfrm>
            <a:off x="571680" y="1247760"/>
            <a:ext cx="8130960" cy="3753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571680" y="548784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ng T90 at corners of ring 1 due to weak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age Charge Asym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ICA_R1-6.png"/>
          <p:cNvPicPr/>
          <p:nvPr/>
        </p:nvPicPr>
        <p:blipFill>
          <a:blip r:embed="rId1"/>
          <a:stretch/>
        </p:blipFill>
        <p:spPr>
          <a:xfrm>
            <a:off x="565200" y="1071720"/>
            <a:ext cx="7929360" cy="37382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285840" y="5148360"/>
            <a:ext cx="8358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A =  [1000 x (A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lock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A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ant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/  (A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lock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ant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] +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duced sensitivity  in mid radius regions of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rosstalk Measu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alogue crosstalk measurements unreliable due to problems with spectroscopy amplifiers and ADC’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gital crosstalk measurements to commence shortly after return to Liverpool using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60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 source and baseline offset measurements from GRT4 c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85724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Collabo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thew Dimm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eve Barre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y Bos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len Bos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n Coo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ohn Cres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nergy Resolution Measu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C001_Res_Liv.TIF"/>
          <p:cNvPicPr/>
          <p:nvPr/>
        </p:nvPicPr>
        <p:blipFill>
          <a:blip r:embed="rId1"/>
          <a:srcRect l="3144" t="13741" r="2227" b="12350"/>
          <a:stretch/>
        </p:blipFill>
        <p:spPr>
          <a:xfrm>
            <a:off x="3643200" y="1373040"/>
            <a:ext cx="5357880" cy="2341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001_Res_Col.TIF"/>
          <p:cNvPicPr/>
          <p:nvPr/>
        </p:nvPicPr>
        <p:blipFill>
          <a:blip r:embed="rId2"/>
          <a:srcRect l="2019" t="13373" r="2019" b="11090"/>
          <a:stretch/>
        </p:blipFill>
        <p:spPr>
          <a:xfrm>
            <a:off x="3571920" y="4143240"/>
            <a:ext cx="5429160" cy="2357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214200" y="1214280"/>
            <a:ext cx="328608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WHM measured in Liverpool (top) at 60 keV (blue) and 1332 keV (r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001 coupled to ORTEC 671 spectroscopy amplifier and ORTEC AD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unt rate maintained below 2 kHz on c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se results are as good or better than those found in Cologne 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gment F4 missing from data due to broken connection between FET and pream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fficiency Measu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hart 4" descr=""/>
          <p:cNvPicPr/>
          <p:nvPr/>
        </p:nvPicPr>
        <p:blipFill>
          <a:blip r:embed="rId1"/>
          <a:stretch/>
        </p:blipFill>
        <p:spPr>
          <a:xfrm>
            <a:off x="3382920" y="1407960"/>
            <a:ext cx="5585040" cy="50961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285840" y="1357200"/>
            <a:ext cx="328608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bsolute efficiencies were measured using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alibri"/>
              </a:rPr>
              <a:t>24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m and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alibri"/>
              </a:rPr>
              <a:t>152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u sources placed 25cm from the front face of the crys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sults for C001 are consistent with those seen for S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alibri"/>
              </a:rPr>
              <a:t>AB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= 0.30% @ 120 k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alibri"/>
              </a:rPr>
              <a:t>AB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= 0.08% @ 1408 k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anning table Se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429000" y="1500120"/>
            <a:ext cx="5419800" cy="42004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214200" y="1285920"/>
            <a:ext cx="3143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001 mounted on coincidence scanning assemb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llimated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s source moved in x-y plane on Parker scanning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action position of 90˚ Compton scatter events identified through coincidence between C001 and scintillators mounted at 6 dep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system is triggered all 37 signals are recorded in 128 12.5ns samples using 14 GRT4 c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me Al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001_traces.tif"/>
          <p:cNvPicPr/>
          <p:nvPr/>
        </p:nvPicPr>
        <p:blipFill>
          <a:blip r:embed="rId1"/>
          <a:srcRect l="1633" t="9375" r="800" b="3124"/>
          <a:stretch/>
        </p:blipFill>
        <p:spPr>
          <a:xfrm>
            <a:off x="2714760" y="1428840"/>
            <a:ext cx="6429240" cy="46162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214200" y="1285920"/>
            <a:ext cx="2357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alignment has been the limiting factor in analysis of scan data from symmetric prototype dete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AGATA signals per 4 channel GRT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hannel per card fed with triangular pul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interpolation linear fit to both sides of pulse will identify peak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signals then aligned to this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egment Gated Int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Intensity_R1-6.png"/>
          <p:cNvPicPr/>
          <p:nvPr/>
        </p:nvPicPr>
        <p:blipFill>
          <a:blip r:embed="rId1"/>
          <a:stretch/>
        </p:blipFill>
        <p:spPr>
          <a:xfrm>
            <a:off x="487440" y="1071720"/>
            <a:ext cx="8156520" cy="42256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428760" y="542916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 of counts at each scanning table position when 662 keV is deposited in a single segment during singles scan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rystal Al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85840" y="1214280"/>
            <a:ext cx="2857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methods applied to intensity map data to obtain crystal ti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thod 1 finds the minimum bounding circle of points near centre which fall below threshold number of c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thod 2 uses a cross correlation between the intensity map for each ring and an image of a single cir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38 mm between centres of rings 2 –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88 mm between centres of ring 1 and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Ring_Centres.tif"/>
          <p:cNvPicPr/>
          <p:nvPr/>
        </p:nvPicPr>
        <p:blipFill>
          <a:blip r:embed="rId1"/>
          <a:srcRect l="5644" t="2103" r="6655" b="3360"/>
          <a:stretch/>
        </p:blipFill>
        <p:spPr>
          <a:xfrm>
            <a:off x="3214800" y="1298520"/>
            <a:ext cx="578628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WD Energy Spect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001_Core_Energy.tif"/>
          <p:cNvPicPr/>
          <p:nvPr/>
        </p:nvPicPr>
        <p:blipFill>
          <a:blip r:embed="rId1"/>
          <a:srcRect l="6646" t="0" r="7516" b="0"/>
          <a:stretch/>
        </p:blipFill>
        <p:spPr>
          <a:xfrm>
            <a:off x="2000160" y="1023840"/>
            <a:ext cx="707256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re Risetimes (T3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Core_T30_R1-6.png"/>
          <p:cNvPicPr/>
          <p:nvPr/>
        </p:nvPicPr>
        <p:blipFill>
          <a:blip r:embed="rId1"/>
          <a:stretch/>
        </p:blipFill>
        <p:spPr>
          <a:xfrm>
            <a:off x="519120" y="1031760"/>
            <a:ext cx="8072280" cy="36673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357120" y="49291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30 – t10 for fold 1 photopeak e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st axis (100) not aligned with any segment cen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12:42:32Z</dcterms:created>
  <dc:creator>Windows User</dc:creator>
  <dc:description/>
  <dc:language>en-US</dc:language>
  <cp:lastModifiedBy>Windows User</cp:lastModifiedBy>
  <dcterms:modified xsi:type="dcterms:W3CDTF">2008-07-10T10:06:28Z</dcterms:modified>
  <cp:revision>77</cp:revision>
  <dc:subject/>
  <dc:title>AGATA week Uppsala, July 2008</dc:title>
</cp:coreProperties>
</file>