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jpeg" ContentType="image/jpeg"/>
  <Override PartName="/ppt/media/image10.wmf" ContentType="image/x-wmf"/>
  <Override PartName="/ppt/media/image4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F94-B3AB-456C-BC29-07886EB1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F06-6B31-4320-8814-B9AA207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8BB-D6F9-46D7-BB4E-50687066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90C-B5AF-4874-B506-B1C94F25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1F1-C43A-4AD0-821F-D2A6679D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C27-7313-42CC-A118-05FF435E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68D-4836-45C6-8B34-0627844F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D82-3161-4BDB-B0E6-5DC523AC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485-9E26-400F-99A6-3A9DA233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AF7-F4AE-4293-94CA-F9C5A679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767-B268-4CBF-9580-153769E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514-5D6B-42EF-866A-792C3BD5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0DC4-1C19-4D5B-8521-9806D0B4B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4640" y="2611440"/>
            <a:ext cx="40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cept of the scanning table in Strasbo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6840" y="395280"/>
            <a:ext cx="2144520" cy="1486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4884840"/>
            <a:ext cx="374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çois DIDIERJ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jana FAUL, Fabrice STEH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1271" t="12442" r="10148" b="12904"/>
          <a:stretch/>
        </p:blipFill>
        <p:spPr>
          <a:xfrm>
            <a:off x="7667640" y="333360"/>
            <a:ext cx="100800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21440" y="5877000"/>
            <a:ext cx="36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TA week.  8 - 11 Jul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psala,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3366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ANT 4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08800" y="2668680"/>
            <a:ext cx="27860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1 cm x 5 cm x 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BGO  or  LaBr</a:t>
            </a:r>
            <a:r>
              <a:rPr b="1" lang="fr-FR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  or  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25600" y="3478320"/>
            <a:ext cx="274680" cy="260280"/>
          </a:xfrm>
          <a:prstGeom prst="star5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83000" y="3630600"/>
            <a:ext cx="14810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22720" y="3443400"/>
            <a:ext cx="941400" cy="36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22720" y="3035160"/>
            <a:ext cx="941400" cy="370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22720" y="3849840"/>
            <a:ext cx="941400" cy="369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960" y="416880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3300"/>
                </a:solidFill>
                <a:latin typeface="Arial"/>
              </a:rPr>
              <a:t>10000  </a:t>
            </a:r>
            <a:r>
              <a:rPr b="1" lang="fr-FR" sz="1800" spc="-1" strike="noStrike">
                <a:solidFill>
                  <a:srgbClr val="6633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663300"/>
                </a:solidFill>
                <a:latin typeface="Arial"/>
              </a:rPr>
              <a:t> -rays of 288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8720" y="1190520"/>
            <a:ext cx="70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to determine the best scintillator detector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30520" y="5425920"/>
            <a:ext cx="642960" cy="166680"/>
          </a:xfrm>
          <a:prstGeom prst="rightArrow">
            <a:avLst>
              <a:gd name="adj1" fmla="val 50000"/>
              <a:gd name="adj2" fmla="val 9643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71760" y="5289480"/>
            <a:ext cx="29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to see the effect of the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481120" y="1405080"/>
            <a:ext cx="4181760" cy="40543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098880" y="501480"/>
            <a:ext cx="291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B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 (1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3612960" y="23061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60640" y="367200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78440" y="15955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78440" y="36273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6160" y="1409760"/>
            <a:ext cx="4170240" cy="4044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025800" y="501480"/>
            <a:ext cx="3135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GS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 (1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3612960" y="23061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60640" y="35863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78440" y="15955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78440" y="36273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487600" y="1409760"/>
            <a:ext cx="4170240" cy="4044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025800" y="487440"/>
            <a:ext cx="3208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LaBr</a:t>
            </a:r>
            <a:r>
              <a:rPr b="1" lang="fr-FR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 (1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3612960" y="23061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60640" y="33289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78440" y="15955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78440" y="36273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481120" y="1405080"/>
            <a:ext cx="4170600" cy="404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083040" y="501480"/>
            <a:ext cx="2975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LaBr</a:t>
            </a:r>
            <a:r>
              <a:rPr b="1" lang="fr-FR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  (2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3612960" y="23061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60640" y="33289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78440" y="15955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8440" y="36273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09560" y="249120"/>
            <a:ext cx="77374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clu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Choice of the scintillator should be BGO which presents the smaller spot size composed of Compton scattering interaction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To do li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eant simulation calculations to determine the optimal dimension of the scintillator (in particular the thickne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alidation test with radioactive source (288 keV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rays) to decide the use o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* a large scintillator coupled to segmented P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* a set of thin scintillators coupled each one to a PM via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cal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X-Y scanning table of Strasbo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8640" y="1120680"/>
            <a:ext cx="4327560" cy="3246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26000" y="1819440"/>
            <a:ext cx="2874960" cy="383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8120" y="4595760"/>
            <a:ext cx="3844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xed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active source and collimator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- Y m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6000" y="6129360"/>
            <a:ext cx="61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improve the device to access to the Z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6880" y="6229440"/>
            <a:ext cx="536760" cy="210960"/>
          </a:xfrm>
          <a:prstGeom prst="rightArrow">
            <a:avLst>
              <a:gd name="adj1" fmla="val 50000"/>
              <a:gd name="adj2" fmla="val 636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8760" y="1257480"/>
            <a:ext cx="8315280" cy="493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073160" y="2509920"/>
            <a:ext cx="1401840" cy="2300040"/>
            <a:chOff x="1073160" y="2509920"/>
            <a:chExt cx="1401840" cy="2300040"/>
          </a:xfrm>
        </p:grpSpPr>
        <p:sp>
          <p:nvSpPr>
            <p:cNvPr id="54" name=""/>
            <p:cNvSpPr/>
            <p:nvPr/>
          </p:nvSpPr>
          <p:spPr>
            <a:xfrm flipH="1">
              <a:off x="1469880" y="4809960"/>
              <a:ext cx="10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386000" y="4351320"/>
              <a:ext cx="10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295640" y="3806640"/>
              <a:ext cx="11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185480" y="317160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073160" y="2509920"/>
              <a:ext cx="13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70320" y="1549440"/>
            <a:ext cx="1463040" cy="3790800"/>
            <a:chOff x="2470320" y="1549440"/>
            <a:chExt cx="1463040" cy="3790800"/>
          </a:xfrm>
        </p:grpSpPr>
        <p:sp>
          <p:nvSpPr>
            <p:cNvPr id="60" name=""/>
            <p:cNvSpPr/>
            <p:nvPr/>
          </p:nvSpPr>
          <p:spPr>
            <a:xfrm>
              <a:off x="2470320" y="1549440"/>
              <a:ext cx="0" cy="3790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70320" y="4225680"/>
              <a:ext cx="1025280" cy="857520"/>
            </a:xfrm>
            <a:custGeom>
              <a:avLst/>
              <a:gdLst/>
              <a:ahLst/>
              <a:rect l="l" t="t" r="r" b="b"/>
              <a:pathLst>
                <a:path w="646" h="540">
                  <a:moveTo>
                    <a:pt x="122" y="0"/>
                  </a:moveTo>
                  <a:lnTo>
                    <a:pt x="122" y="210"/>
                  </a:lnTo>
                  <a:lnTo>
                    <a:pt x="0" y="210"/>
                  </a:lnTo>
                  <a:lnTo>
                    <a:pt x="0" y="540"/>
                  </a:lnTo>
                  <a:lnTo>
                    <a:pt x="612" y="540"/>
                  </a:lnTo>
                  <a:lnTo>
                    <a:pt x="646" y="368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60400" y="4038480"/>
              <a:ext cx="914040" cy="771480"/>
            </a:xfrm>
            <a:custGeom>
              <a:avLst/>
              <a:gdLst/>
              <a:ahLst/>
              <a:rect l="l" t="t" r="r" b="b"/>
              <a:pathLst>
                <a:path w="576" h="486">
                  <a:moveTo>
                    <a:pt x="0" y="116"/>
                  </a:moveTo>
                  <a:lnTo>
                    <a:pt x="524" y="486"/>
                  </a:lnTo>
                  <a:lnTo>
                    <a:pt x="576" y="196"/>
                  </a:lnTo>
                  <a:lnTo>
                    <a:pt x="4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3640" y="3622680"/>
              <a:ext cx="1018800" cy="730080"/>
            </a:xfrm>
            <a:custGeom>
              <a:avLst/>
              <a:gdLst/>
              <a:ahLst/>
              <a:rect l="l" t="t" r="r" b="b"/>
              <a:pathLst>
                <a:path w="642" h="460">
                  <a:moveTo>
                    <a:pt x="0" y="264"/>
                  </a:moveTo>
                  <a:lnTo>
                    <a:pt x="0" y="0"/>
                  </a:lnTo>
                  <a:lnTo>
                    <a:pt x="642" y="112"/>
                  </a:lnTo>
                  <a:lnTo>
                    <a:pt x="574" y="46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63640" y="2965320"/>
              <a:ext cx="1130040" cy="835200"/>
            </a:xfrm>
            <a:custGeom>
              <a:avLst/>
              <a:gdLst/>
              <a:ahLst/>
              <a:rect l="l" t="t" r="r" b="b"/>
              <a:pathLst>
                <a:path w="712" h="526">
                  <a:moveTo>
                    <a:pt x="0" y="414"/>
                  </a:moveTo>
                  <a:lnTo>
                    <a:pt x="640" y="526"/>
                  </a:lnTo>
                  <a:lnTo>
                    <a:pt x="712" y="128"/>
                  </a:lnTo>
                  <a:lnTo>
                    <a:pt x="0" y="0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0400" y="2419200"/>
              <a:ext cx="1250640" cy="749520"/>
            </a:xfrm>
            <a:custGeom>
              <a:avLst/>
              <a:gdLst/>
              <a:ahLst/>
              <a:rect l="l" t="t" r="r" b="b"/>
              <a:pathLst>
                <a:path w="788" h="472">
                  <a:moveTo>
                    <a:pt x="0" y="344"/>
                  </a:moveTo>
                  <a:lnTo>
                    <a:pt x="712" y="472"/>
                  </a:lnTo>
                  <a:lnTo>
                    <a:pt x="788" y="54"/>
                  </a:lnTo>
                  <a:lnTo>
                    <a:pt x="2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0400" y="1866960"/>
              <a:ext cx="1272960" cy="637920"/>
            </a:xfrm>
            <a:custGeom>
              <a:avLst/>
              <a:gdLst/>
              <a:ahLst/>
              <a:rect l="l" t="t" r="r" b="b"/>
              <a:pathLst>
                <a:path w="802" h="402">
                  <a:moveTo>
                    <a:pt x="0" y="348"/>
                  </a:moveTo>
                  <a:lnTo>
                    <a:pt x="786" y="402"/>
                  </a:lnTo>
                  <a:lnTo>
                    <a:pt x="800" y="350"/>
                  </a:lnTo>
                  <a:lnTo>
                    <a:pt x="802" y="0"/>
                  </a:lnTo>
                  <a:lnTo>
                    <a:pt x="2" y="2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042920" y="1860480"/>
            <a:ext cx="2889000" cy="3230640"/>
            <a:chOff x="1042920" y="1860480"/>
            <a:chExt cx="2889000" cy="3230640"/>
          </a:xfrm>
        </p:grpSpPr>
        <p:sp>
          <p:nvSpPr>
            <p:cNvPr id="68" name=""/>
            <p:cNvSpPr/>
            <p:nvPr/>
          </p:nvSpPr>
          <p:spPr>
            <a:xfrm>
              <a:off x="2306520" y="1860480"/>
              <a:ext cx="36036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42920" y="1860480"/>
              <a:ext cx="2889000" cy="3230640"/>
            </a:xfrm>
            <a:custGeom>
              <a:avLst/>
              <a:gdLst/>
              <a:ahLst/>
              <a:rect l="l" t="t" r="r" b="b"/>
              <a:pathLst>
                <a:path w="1820" h="2035">
                  <a:moveTo>
                    <a:pt x="0" y="0"/>
                  </a:moveTo>
                  <a:lnTo>
                    <a:pt x="0" y="316"/>
                  </a:lnTo>
                  <a:lnTo>
                    <a:pt x="297" y="2035"/>
                  </a:lnTo>
                  <a:lnTo>
                    <a:pt x="1514" y="2035"/>
                  </a:lnTo>
                  <a:lnTo>
                    <a:pt x="1820" y="353"/>
                  </a:lnTo>
                  <a:lnTo>
                    <a:pt x="18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037040" y="1595520"/>
            <a:ext cx="2879640" cy="4014720"/>
            <a:chOff x="4037040" y="1595520"/>
            <a:chExt cx="2879640" cy="4014720"/>
          </a:xfrm>
        </p:grpSpPr>
        <p:sp>
          <p:nvSpPr>
            <p:cNvPr id="71" name=""/>
            <p:cNvSpPr/>
            <p:nvPr/>
          </p:nvSpPr>
          <p:spPr>
            <a:xfrm>
              <a:off x="4037040" y="1595520"/>
              <a:ext cx="2879640" cy="576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7040" y="2227320"/>
              <a:ext cx="2879640" cy="576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7040" y="2859120"/>
              <a:ext cx="2879640" cy="360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7040" y="3275280"/>
              <a:ext cx="2879640" cy="738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37040" y="4068720"/>
              <a:ext cx="2879640" cy="503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37040" y="4622760"/>
              <a:ext cx="2879640" cy="360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7040" y="5034240"/>
              <a:ext cx="2879640" cy="576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070760" y="4925880"/>
            <a:ext cx="1079640" cy="68436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70760" y="4257720"/>
            <a:ext cx="1079640" cy="68400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0760" y="3354480"/>
            <a:ext cx="1079640" cy="90000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70760" y="2454120"/>
            <a:ext cx="1079640" cy="90036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0120" y="1554120"/>
            <a:ext cx="1079640" cy="90000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4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Scheme of the scanning table of 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87240" y="501012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487240" y="45878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487240" y="40370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487240" y="323856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487240" y="281772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87240" y="21938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91360" y="3581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29240" y="5724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b coll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399200">
            <a:off x="4437360" y="3502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lites 1.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63560" y="1530360"/>
            <a:ext cx="14400" cy="4054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1341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7840" y="1276200"/>
            <a:ext cx="8315280" cy="4934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73160" y="2509920"/>
            <a:ext cx="1401840" cy="2300040"/>
            <a:chOff x="1073160" y="2509920"/>
            <a:chExt cx="1401840" cy="2300040"/>
          </a:xfrm>
        </p:grpSpPr>
        <p:sp>
          <p:nvSpPr>
            <p:cNvPr id="97" name=""/>
            <p:cNvSpPr/>
            <p:nvPr/>
          </p:nvSpPr>
          <p:spPr>
            <a:xfrm flipH="1">
              <a:off x="1469880" y="4809960"/>
              <a:ext cx="10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386000" y="4351320"/>
              <a:ext cx="10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295640" y="3806640"/>
              <a:ext cx="11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185480" y="317160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073160" y="2509920"/>
              <a:ext cx="13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70320" y="1549440"/>
            <a:ext cx="1463040" cy="3790800"/>
            <a:chOff x="2470320" y="1549440"/>
            <a:chExt cx="1463040" cy="3790800"/>
          </a:xfrm>
        </p:grpSpPr>
        <p:sp>
          <p:nvSpPr>
            <p:cNvPr id="103" name=""/>
            <p:cNvSpPr/>
            <p:nvPr/>
          </p:nvSpPr>
          <p:spPr>
            <a:xfrm>
              <a:off x="2470320" y="1549440"/>
              <a:ext cx="0" cy="3790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70320" y="4225680"/>
              <a:ext cx="1025280" cy="857520"/>
            </a:xfrm>
            <a:custGeom>
              <a:avLst/>
              <a:gdLst/>
              <a:ahLst/>
              <a:rect l="l" t="t" r="r" b="b"/>
              <a:pathLst>
                <a:path w="646" h="540">
                  <a:moveTo>
                    <a:pt x="122" y="0"/>
                  </a:moveTo>
                  <a:lnTo>
                    <a:pt x="122" y="210"/>
                  </a:lnTo>
                  <a:lnTo>
                    <a:pt x="0" y="210"/>
                  </a:lnTo>
                  <a:lnTo>
                    <a:pt x="0" y="540"/>
                  </a:lnTo>
                  <a:lnTo>
                    <a:pt x="612" y="540"/>
                  </a:lnTo>
                  <a:lnTo>
                    <a:pt x="646" y="368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0400" y="4038480"/>
              <a:ext cx="914040" cy="771480"/>
            </a:xfrm>
            <a:custGeom>
              <a:avLst/>
              <a:gdLst/>
              <a:ahLst/>
              <a:rect l="l" t="t" r="r" b="b"/>
              <a:pathLst>
                <a:path w="576" h="486">
                  <a:moveTo>
                    <a:pt x="0" y="116"/>
                  </a:moveTo>
                  <a:lnTo>
                    <a:pt x="524" y="486"/>
                  </a:lnTo>
                  <a:lnTo>
                    <a:pt x="576" y="196"/>
                  </a:lnTo>
                  <a:lnTo>
                    <a:pt x="4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3640" y="3622680"/>
              <a:ext cx="1018800" cy="730080"/>
            </a:xfrm>
            <a:custGeom>
              <a:avLst/>
              <a:gdLst/>
              <a:ahLst/>
              <a:rect l="l" t="t" r="r" b="b"/>
              <a:pathLst>
                <a:path w="642" h="460">
                  <a:moveTo>
                    <a:pt x="0" y="264"/>
                  </a:moveTo>
                  <a:lnTo>
                    <a:pt x="0" y="0"/>
                  </a:lnTo>
                  <a:lnTo>
                    <a:pt x="642" y="112"/>
                  </a:lnTo>
                  <a:lnTo>
                    <a:pt x="574" y="46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3640" y="2965320"/>
              <a:ext cx="1130040" cy="835200"/>
            </a:xfrm>
            <a:custGeom>
              <a:avLst/>
              <a:gdLst/>
              <a:ahLst/>
              <a:rect l="l" t="t" r="r" b="b"/>
              <a:pathLst>
                <a:path w="712" h="526">
                  <a:moveTo>
                    <a:pt x="0" y="414"/>
                  </a:moveTo>
                  <a:lnTo>
                    <a:pt x="640" y="526"/>
                  </a:lnTo>
                  <a:lnTo>
                    <a:pt x="712" y="128"/>
                  </a:lnTo>
                  <a:lnTo>
                    <a:pt x="0" y="0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0400" y="2419200"/>
              <a:ext cx="1250640" cy="749520"/>
            </a:xfrm>
            <a:custGeom>
              <a:avLst/>
              <a:gdLst/>
              <a:ahLst/>
              <a:rect l="l" t="t" r="r" b="b"/>
              <a:pathLst>
                <a:path w="788" h="472">
                  <a:moveTo>
                    <a:pt x="0" y="344"/>
                  </a:moveTo>
                  <a:lnTo>
                    <a:pt x="712" y="472"/>
                  </a:lnTo>
                  <a:lnTo>
                    <a:pt x="788" y="54"/>
                  </a:lnTo>
                  <a:lnTo>
                    <a:pt x="2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0400" y="1866960"/>
              <a:ext cx="1272960" cy="637920"/>
            </a:xfrm>
            <a:custGeom>
              <a:avLst/>
              <a:gdLst/>
              <a:ahLst/>
              <a:rect l="l" t="t" r="r" b="b"/>
              <a:pathLst>
                <a:path w="802" h="402">
                  <a:moveTo>
                    <a:pt x="0" y="348"/>
                  </a:moveTo>
                  <a:lnTo>
                    <a:pt x="786" y="402"/>
                  </a:lnTo>
                  <a:lnTo>
                    <a:pt x="800" y="350"/>
                  </a:lnTo>
                  <a:lnTo>
                    <a:pt x="802" y="0"/>
                  </a:lnTo>
                  <a:lnTo>
                    <a:pt x="2" y="2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42920" y="1860480"/>
            <a:ext cx="2889000" cy="3230640"/>
            <a:chOff x="1042920" y="1860480"/>
            <a:chExt cx="2889000" cy="3230640"/>
          </a:xfrm>
        </p:grpSpPr>
        <p:sp>
          <p:nvSpPr>
            <p:cNvPr id="111" name=""/>
            <p:cNvSpPr/>
            <p:nvPr/>
          </p:nvSpPr>
          <p:spPr>
            <a:xfrm>
              <a:off x="2306520" y="1860480"/>
              <a:ext cx="36036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42920" y="1860480"/>
              <a:ext cx="2889000" cy="3230640"/>
            </a:xfrm>
            <a:custGeom>
              <a:avLst/>
              <a:gdLst/>
              <a:ahLst/>
              <a:rect l="l" t="t" r="r" b="b"/>
              <a:pathLst>
                <a:path w="1820" h="2035">
                  <a:moveTo>
                    <a:pt x="0" y="0"/>
                  </a:moveTo>
                  <a:lnTo>
                    <a:pt x="0" y="316"/>
                  </a:lnTo>
                  <a:lnTo>
                    <a:pt x="297" y="2035"/>
                  </a:lnTo>
                  <a:lnTo>
                    <a:pt x="1514" y="2035"/>
                  </a:lnTo>
                  <a:lnTo>
                    <a:pt x="1820" y="353"/>
                  </a:lnTo>
                  <a:lnTo>
                    <a:pt x="18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037040" y="1595520"/>
            <a:ext cx="2879640" cy="4014720"/>
            <a:chOff x="4037040" y="1595520"/>
            <a:chExt cx="2879640" cy="4014720"/>
          </a:xfrm>
        </p:grpSpPr>
        <p:sp>
          <p:nvSpPr>
            <p:cNvPr id="114" name=""/>
            <p:cNvSpPr/>
            <p:nvPr/>
          </p:nvSpPr>
          <p:spPr>
            <a:xfrm>
              <a:off x="4037040" y="1595520"/>
              <a:ext cx="2879640" cy="576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7040" y="2227320"/>
              <a:ext cx="2879640" cy="576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7040" y="2859120"/>
              <a:ext cx="2879640" cy="360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7040" y="3275280"/>
              <a:ext cx="2879640" cy="738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37040" y="4068720"/>
              <a:ext cx="2879640" cy="503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37040" y="4622760"/>
              <a:ext cx="2879640" cy="360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37040" y="5034240"/>
              <a:ext cx="2879640" cy="576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070760" y="1554120"/>
            <a:ext cx="1079640" cy="411948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5382000" y="3208680"/>
            <a:ext cx="44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Position 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9200" y="228600"/>
            <a:ext cx="7753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00"/>
                </a:solidFill>
                <a:uFillTx/>
                <a:latin typeface="Arial"/>
              </a:rPr>
              <a:t>Objectives :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    1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use a unique position sensitiv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crease the number of sl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038400" y="2814480"/>
            <a:ext cx="38160" cy="308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2828880"/>
            <a:ext cx="4152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291760" y="3484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662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63600" y="24559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288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6000" y="6296040"/>
            <a:ext cx="76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find the minimal distance between 2 slites to disentangle 2 diffused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" y="6396120"/>
            <a:ext cx="536760" cy="210960"/>
          </a:xfrm>
          <a:prstGeom prst="rightArrow">
            <a:avLst>
              <a:gd name="adj1" fmla="val 50000"/>
              <a:gd name="adj2" fmla="val 636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46840" y="434880"/>
            <a:ext cx="3724200" cy="2793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91000" y="4245120"/>
            <a:ext cx="144360" cy="1263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95560" y="4245120"/>
            <a:ext cx="595440" cy="1263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0" y="4478400"/>
            <a:ext cx="2120760" cy="72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50840" y="4681440"/>
            <a:ext cx="15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760" y="4884840"/>
            <a:ext cx="159696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38760" y="3854520"/>
            <a:ext cx="159696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9840" y="3419640"/>
            <a:ext cx="2525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GSO scint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5 cm x 5 cm x 2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1680" y="3984480"/>
            <a:ext cx="376560" cy="246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00480" y="5522760"/>
            <a:ext cx="682560" cy="4255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1200" y="5641920"/>
            <a:ext cx="23940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M, Hamamat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8 x 8 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35200" y="60166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b coll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17920" y="5827320"/>
            <a:ext cx="29052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72120" y="4681440"/>
            <a:ext cx="274680" cy="260280"/>
          </a:xfrm>
          <a:prstGeom prst="star5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32680" y="4971960"/>
            <a:ext cx="10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3300"/>
                </a:solidFill>
                <a:latin typeface="Arial"/>
              </a:rPr>
              <a:t>241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328680"/>
            <a:ext cx="365760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alidation tests of the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xperimental setup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457880" y="3067200"/>
          <a:ext cx="336204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7880" y="3067200"/>
                    <a:ext cx="33620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92120" y="461880"/>
            <a:ext cx="62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alidation test of the GSO-PM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0" t="7415" r="526" b="4979"/>
          <a:stretch/>
        </p:blipFill>
        <p:spPr>
          <a:xfrm>
            <a:off x="1057320" y="2955960"/>
            <a:ext cx="3002040" cy="2568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09840" y="1258920"/>
            <a:ext cx="144720" cy="1263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14760" y="1258920"/>
            <a:ext cx="595080" cy="1263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3640" y="1492200"/>
            <a:ext cx="2121120" cy="72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62560" y="1695600"/>
            <a:ext cx="274680" cy="260280"/>
          </a:xfrm>
          <a:prstGeom prst="star5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22760" y="1986120"/>
            <a:ext cx="10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3300"/>
                </a:solidFill>
                <a:latin typeface="Arial"/>
              </a:rPr>
              <a:t>241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5600" y="18543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56440" y="1198440"/>
            <a:ext cx="318960" cy="641520"/>
          </a:xfrm>
          <a:prstGeom prst="upArrow">
            <a:avLst>
              <a:gd name="adj1" fmla="val 50000"/>
              <a:gd name="adj2" fmla="val 502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29320" y="5218200"/>
            <a:ext cx="1357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l position (m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0440" y="3389400"/>
            <a:ext cx="228600" cy="14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3854880" y="3998880"/>
            <a:ext cx="164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easured position (m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32400" y="57355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linear variation except for the last 5 mm </a:t>
            </a:r>
            <a:r>
              <a:rPr b="0" lang="fr-FR" sz="1800" spc="-1" strike="noStrike">
                <a:solidFill>
                  <a:srgbClr val="0000ff"/>
                </a:solidFill>
                <a:latin typeface="Wingdings 3"/>
                <a:ea typeface="Wingdings 3"/>
              </a:rPr>
              <a:t></a:t>
            </a: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 saturation due to the border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66960" y="1492200"/>
            <a:ext cx="144720" cy="1263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71880" y="1492200"/>
            <a:ext cx="595080" cy="1263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0760" y="1725480"/>
            <a:ext cx="2121120" cy="725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4720" y="2349360"/>
            <a:ext cx="1596960" cy="6969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14720" y="1101600"/>
            <a:ext cx="1596960" cy="812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59480" y="1998720"/>
            <a:ext cx="274680" cy="260280"/>
          </a:xfrm>
          <a:prstGeom prst="star5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20040" y="2289240"/>
            <a:ext cx="10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3300"/>
                </a:solidFill>
                <a:latin typeface="Arial"/>
              </a:rPr>
              <a:t>241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14720" y="2014560"/>
            <a:ext cx="1596960" cy="233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7786" r="1705" b="3038"/>
          <a:stretch/>
        </p:blipFill>
        <p:spPr>
          <a:xfrm>
            <a:off x="4379760" y="3397320"/>
            <a:ext cx="3384720" cy="2982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Variation of the  slite-to-slit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80080" y="2013120"/>
            <a:ext cx="5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80080" y="2244600"/>
            <a:ext cx="5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146640" y="20192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146640" y="930240"/>
            <a:ext cx="1416240" cy="10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341000">
            <a:off x="5909040" y="110124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3, 4, 5, 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495440" y="857160"/>
          <a:ext cx="4203720" cy="20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857160"/>
                    <a:ext cx="4203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495440" y="2617920"/>
          <a:ext cx="4203720" cy="201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5440" y="2617920"/>
                    <a:ext cx="42037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494000" y="4378320"/>
          <a:ext cx="4201920" cy="2001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4000" y="4378320"/>
                    <a:ext cx="42019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523880" y="885960"/>
            <a:ext cx="4124520" cy="545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Variation of the  slite-to-slit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38360" y="6330960"/>
            <a:ext cx="218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easured position (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38960" y="1542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Arial"/>
              </a:rPr>
              <a:t>3 mm    /                 21 %  over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38960" y="3305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Arial"/>
              </a:rPr>
              <a:t>4 mm    /                 12 %  over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38960" y="50767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Arial"/>
              </a:rPr>
              <a:t>5 mm    /                   4 %  over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28760" y="1781280"/>
            <a:ext cx="8315280" cy="458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71360" y="3008160"/>
            <a:ext cx="1401480" cy="2300400"/>
            <a:chOff x="1071360" y="3008160"/>
            <a:chExt cx="1401480" cy="2300400"/>
          </a:xfrm>
        </p:grpSpPr>
        <p:sp>
          <p:nvSpPr>
            <p:cNvPr id="190" name=""/>
            <p:cNvSpPr/>
            <p:nvPr/>
          </p:nvSpPr>
          <p:spPr>
            <a:xfrm flipH="1">
              <a:off x="1468440" y="5308560"/>
              <a:ext cx="10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383840" y="4849920"/>
              <a:ext cx="10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93480" y="4305240"/>
              <a:ext cx="11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184040" y="3670200"/>
              <a:ext cx="12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071360" y="3008160"/>
              <a:ext cx="13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468520" y="2048040"/>
            <a:ext cx="1463760" cy="3790800"/>
            <a:chOff x="2468520" y="2048040"/>
            <a:chExt cx="1463760" cy="3790800"/>
          </a:xfrm>
        </p:grpSpPr>
        <p:sp>
          <p:nvSpPr>
            <p:cNvPr id="196" name=""/>
            <p:cNvSpPr/>
            <p:nvPr/>
          </p:nvSpPr>
          <p:spPr>
            <a:xfrm>
              <a:off x="2468520" y="2048040"/>
              <a:ext cx="0" cy="3790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68520" y="4724280"/>
              <a:ext cx="1025640" cy="857520"/>
            </a:xfrm>
            <a:custGeom>
              <a:avLst/>
              <a:gdLst/>
              <a:ahLst/>
              <a:rect l="l" t="t" r="r" b="b"/>
              <a:pathLst>
                <a:path w="646" h="540">
                  <a:moveTo>
                    <a:pt x="122" y="0"/>
                  </a:moveTo>
                  <a:lnTo>
                    <a:pt x="122" y="210"/>
                  </a:lnTo>
                  <a:lnTo>
                    <a:pt x="0" y="210"/>
                  </a:lnTo>
                  <a:lnTo>
                    <a:pt x="0" y="540"/>
                  </a:lnTo>
                  <a:lnTo>
                    <a:pt x="612" y="540"/>
                  </a:lnTo>
                  <a:lnTo>
                    <a:pt x="646" y="368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58960" y="4537080"/>
              <a:ext cx="914400" cy="771480"/>
            </a:xfrm>
            <a:custGeom>
              <a:avLst/>
              <a:gdLst/>
              <a:ahLst/>
              <a:rect l="l" t="t" r="r" b="b"/>
              <a:pathLst>
                <a:path w="576" h="486">
                  <a:moveTo>
                    <a:pt x="0" y="116"/>
                  </a:moveTo>
                  <a:lnTo>
                    <a:pt x="524" y="486"/>
                  </a:lnTo>
                  <a:lnTo>
                    <a:pt x="576" y="196"/>
                  </a:lnTo>
                  <a:lnTo>
                    <a:pt x="4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2200" y="4121280"/>
              <a:ext cx="1019160" cy="730080"/>
            </a:xfrm>
            <a:custGeom>
              <a:avLst/>
              <a:gdLst/>
              <a:ahLst/>
              <a:rect l="l" t="t" r="r" b="b"/>
              <a:pathLst>
                <a:path w="642" h="460">
                  <a:moveTo>
                    <a:pt x="0" y="264"/>
                  </a:moveTo>
                  <a:lnTo>
                    <a:pt x="0" y="0"/>
                  </a:lnTo>
                  <a:lnTo>
                    <a:pt x="642" y="112"/>
                  </a:lnTo>
                  <a:lnTo>
                    <a:pt x="574" y="46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2200" y="3463920"/>
              <a:ext cx="1130400" cy="835200"/>
            </a:xfrm>
            <a:custGeom>
              <a:avLst/>
              <a:gdLst/>
              <a:ahLst/>
              <a:rect l="l" t="t" r="r" b="b"/>
              <a:pathLst>
                <a:path w="712" h="526">
                  <a:moveTo>
                    <a:pt x="0" y="414"/>
                  </a:moveTo>
                  <a:lnTo>
                    <a:pt x="640" y="526"/>
                  </a:lnTo>
                  <a:lnTo>
                    <a:pt x="712" y="128"/>
                  </a:lnTo>
                  <a:lnTo>
                    <a:pt x="0" y="0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58960" y="2917800"/>
              <a:ext cx="1251000" cy="749520"/>
            </a:xfrm>
            <a:custGeom>
              <a:avLst/>
              <a:gdLst/>
              <a:ahLst/>
              <a:rect l="l" t="t" r="r" b="b"/>
              <a:pathLst>
                <a:path w="788" h="472">
                  <a:moveTo>
                    <a:pt x="0" y="344"/>
                  </a:moveTo>
                  <a:lnTo>
                    <a:pt x="712" y="472"/>
                  </a:lnTo>
                  <a:lnTo>
                    <a:pt x="788" y="54"/>
                  </a:lnTo>
                  <a:lnTo>
                    <a:pt x="2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58960" y="2365560"/>
              <a:ext cx="1273320" cy="637920"/>
            </a:xfrm>
            <a:custGeom>
              <a:avLst/>
              <a:gdLst/>
              <a:ahLst/>
              <a:rect l="l" t="t" r="r" b="b"/>
              <a:pathLst>
                <a:path w="802" h="402">
                  <a:moveTo>
                    <a:pt x="0" y="348"/>
                  </a:moveTo>
                  <a:lnTo>
                    <a:pt x="786" y="402"/>
                  </a:lnTo>
                  <a:lnTo>
                    <a:pt x="800" y="350"/>
                  </a:lnTo>
                  <a:lnTo>
                    <a:pt x="802" y="0"/>
                  </a:lnTo>
                  <a:lnTo>
                    <a:pt x="2" y="2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41480" y="2359080"/>
            <a:ext cx="2889000" cy="3230640"/>
            <a:chOff x="1041480" y="2359080"/>
            <a:chExt cx="2889000" cy="3230640"/>
          </a:xfrm>
        </p:grpSpPr>
        <p:sp>
          <p:nvSpPr>
            <p:cNvPr id="204" name=""/>
            <p:cNvSpPr/>
            <p:nvPr/>
          </p:nvSpPr>
          <p:spPr>
            <a:xfrm>
              <a:off x="2305080" y="2359080"/>
              <a:ext cx="36036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41480" y="2359080"/>
              <a:ext cx="2889000" cy="3230640"/>
            </a:xfrm>
            <a:custGeom>
              <a:avLst/>
              <a:gdLst/>
              <a:ahLst/>
              <a:rect l="l" t="t" r="r" b="b"/>
              <a:pathLst>
                <a:path w="1820" h="2035">
                  <a:moveTo>
                    <a:pt x="0" y="0"/>
                  </a:moveTo>
                  <a:lnTo>
                    <a:pt x="0" y="316"/>
                  </a:lnTo>
                  <a:lnTo>
                    <a:pt x="297" y="2035"/>
                  </a:lnTo>
                  <a:lnTo>
                    <a:pt x="1514" y="2035"/>
                  </a:lnTo>
                  <a:lnTo>
                    <a:pt x="1820" y="353"/>
                  </a:lnTo>
                  <a:lnTo>
                    <a:pt x="18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 flipH="1">
            <a:off x="2485800" y="550872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485800" y="50864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485800" y="45356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485800" y="373680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85800" y="331632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485800" y="26924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040280" y="2336760"/>
            <a:ext cx="2879640" cy="3341520"/>
            <a:chOff x="4040280" y="2336760"/>
            <a:chExt cx="2879640" cy="3341520"/>
          </a:xfrm>
        </p:grpSpPr>
        <p:sp>
          <p:nvSpPr>
            <p:cNvPr id="213" name=""/>
            <p:cNvSpPr/>
            <p:nvPr/>
          </p:nvSpPr>
          <p:spPr>
            <a:xfrm>
              <a:off x="4040280" y="553392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40280" y="533412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40280" y="513396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40280" y="4933800"/>
              <a:ext cx="2879640" cy="1447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40280" y="473400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40280" y="453384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0280" y="4333680"/>
              <a:ext cx="2879640" cy="1447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40280" y="413388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40280" y="393372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40280" y="373392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40280" y="353376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40280" y="3333600"/>
              <a:ext cx="2879640" cy="1447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40280" y="313524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40280" y="293688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40280" y="2736720"/>
              <a:ext cx="2879640" cy="1447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40280" y="253692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0280" y="233676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92320" y="249120"/>
            <a:ext cx="726588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Proposed scheme of the Strasbourg scanning 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(collimator thickness 4 mm, slites 1.5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86520" y="2219400"/>
            <a:ext cx="179280" cy="18000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86520" y="4019400"/>
            <a:ext cx="179280" cy="18003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76960" y="2219400"/>
            <a:ext cx="1079640" cy="1800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76960" y="4019400"/>
            <a:ext cx="1079640" cy="18003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9399200">
            <a:off x="4437360" y="3502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6 slites 1.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2:49:07Z</dcterms:created>
  <dc:creator>didierj</dc:creator>
  <dc:description/>
  <dc:language>en-US</dc:language>
  <cp:lastModifiedBy>didierj</cp:lastModifiedBy>
  <dcterms:modified xsi:type="dcterms:W3CDTF">2008-07-10T11:51:38Z</dcterms:modified>
  <cp:revision>48</cp:revision>
  <dc:subject/>
  <dc:title>Diapositive 1</dc:title>
</cp:coreProperties>
</file>