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124-ADFA-4B58-A429-AFCB53C9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FD7-9066-481B-A40F-98723363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E95-BB8F-407E-B884-51FFB2F5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732-7479-4D92-B014-C679C4BC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C652-3B40-4D7C-B642-EE271913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55D6-51B4-4267-A2D3-36D48790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F92B-DE5A-4729-9307-07F804BC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2931-D63C-4C57-B9B6-CCF7F764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C1F8-C8BD-4B5F-8928-DBBADFF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A177-BC12-421A-A849-D7CCA31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AAC-D4E8-44F2-991F-95FC9AD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B95-8C79-44CB-AD4F-C37293CA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C41C-E90F-417C-883B-B211D4AF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E535-911A-462B-AB5C-9944B2B5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5CF8-DCD2-4071-AF7C-272C95F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22BE-EAB2-4CF9-9B3C-254296C5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CBB8-4313-4CEA-A2C1-62DC1A4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8E91-66E8-4959-856B-755CAD90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C8A-C6CF-4CE1-B106-F56911DA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DAC-726B-42F7-9D3A-3E817DB8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282-92FA-4ECB-9CA7-4268E05A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A2F-C8FD-4B62-AF74-61AA2C5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767-96A6-4595-83D6-0C533AB5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8F7-47F2-442C-9E8C-A69EF6EA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62EB-BDDA-4DDB-9F4D-21782FC0427E}" type="slidenum">
              <a:rPr b="0" lang="fr-FR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5F82-5753-49EE-9302-513D6022056C}" type="slidenum">
              <a:rPr b="0" lang="de-DE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8288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Data Analysis Team : Status  </a:t>
            </a:r>
            <a:br>
              <a:rPr sz="4400"/>
            </a:br>
            <a:r>
              <a:rPr b="0" i="1" lang="en-US" sz="3600" spc="-1" strike="noStrike">
                <a:solidFill>
                  <a:srgbClr val="004080"/>
                </a:solidFill>
                <a:latin typeface="Trebuchet MS"/>
              </a:rPr>
              <a:t>(since the last AW)</a:t>
            </a:r>
            <a:endParaRPr b="0" i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852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agata.in2p3.fr - http://svn.in2p3.fr/ag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467480" y="61920"/>
            <a:ext cx="1589040" cy="2147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08320" y="3657600"/>
            <a:ext cx="5769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achievements by Enrico Far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Prisma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pectiv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ROOT and TTre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3352680"/>
            <a:ext cx="7010280" cy="19051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legant way to store/organize ev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TreeViewer GUI interfa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eate event lists for a given cu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them instead of cuts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190512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ckage based on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OOT facilities are there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will 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905120"/>
            <a:ext cx="1600200" cy="1143000"/>
          </a:xfrm>
          <a:prstGeom prst="cloudCallout">
            <a:avLst>
              <a:gd name="adj1" fmla="val 32736"/>
              <a:gd name="adj2" fmla="val 840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74800" y="5715000"/>
            <a:ext cx="584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pecific development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Specific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52120" y="2361960"/>
            <a:ext cx="6705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raphical fit “à la gf2”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gic of the Interprete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ates on gamma-ray matri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yboard based, fully embedd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UI for analysis of spectr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assical GU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"/>
          <p:cNvSpPr/>
          <p:nvPr/>
        </p:nvSpPr>
        <p:spPr>
          <a:xfrm>
            <a:off x="5042160" y="5791320"/>
            <a:ext cx="34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8160" y="167652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ays to defined thing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GUI to analyse spectra 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39720" y="1676520"/>
            <a:ext cx="7970760" cy="5102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09680" y="2057400"/>
            <a:ext cx="1600200" cy="838080"/>
          </a:xfrm>
          <a:prstGeom prst="ellipse">
            <a:avLst/>
          </a:prstGeom>
          <a:solidFill>
            <a:srgbClr val="ffff66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029200"/>
            <a:ext cx="533520" cy="1447920"/>
          </a:xfrm>
          <a:prstGeom prst="ellipse">
            <a:avLst/>
          </a:prstGeom>
          <a:solidFill>
            <a:srgbClr val="ffff66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152424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590920" y="5943600"/>
            <a:ext cx="1600200" cy="838080"/>
          </a:xfrm>
          <a:prstGeom prst="ellipse">
            <a:avLst/>
          </a:prstGeom>
          <a:solidFill>
            <a:srgbClr val="ffff66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om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886200" y="380880"/>
            <a:ext cx="5033880" cy="3276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18981000">
            <a:off x="-33120" y="3874320"/>
            <a:ext cx="3349080" cy="459720"/>
          </a:xfrm>
          <a:prstGeom prst="rect">
            <a:avLst/>
          </a:prstGeom>
          <a:solidFill>
            <a:srgbClr val="0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ctions in ROOT file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Conclus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2655720"/>
            <a:ext cx="7086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is going 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sation with PSA/tracking/DAQ/Ancil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version of GammaWare 0.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6 (ADF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sion 1.0 in 6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eers are welco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5791320"/>
            <a:ext cx="4876920" cy="4572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257800"/>
            <a:ext cx="4876920" cy="457200"/>
          </a:xfrm>
          <a:prstGeom prst="roundRect">
            <a:avLst>
              <a:gd name="adj" fmla="val 16667"/>
            </a:avLst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m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72428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5720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03848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38862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7160" y="624852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w (svn, doxygen, bugtrack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2"/>
            <a:endCxn id="87" idx="3"/>
          </p:cNvCxnSpPr>
          <p:nvPr/>
        </p:nvCxnSpPr>
        <p:spPr>
          <a:xfrm rot="5400000">
            <a:off x="5238000" y="4362120"/>
            <a:ext cx="114372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86" idx="3"/>
          </p:cNvCxnSpPr>
          <p:nvPr/>
        </p:nvCxnSpPr>
        <p:spPr>
          <a:xfrm rot="5400000">
            <a:off x="4971240" y="4628880"/>
            <a:ext cx="167724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391520" y="327672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4495680"/>
            <a:ext cx="1447560" cy="457200"/>
          </a:xfrm>
          <a:prstGeom prst="roundRect">
            <a:avLst>
              <a:gd name="adj" fmla="val 16667"/>
            </a:avLst>
          </a:prstGeom>
          <a:solidFill>
            <a:srgbClr val="004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1" idx="0"/>
            <a:endCxn id="96" idx="1"/>
          </p:cNvCxnSpPr>
          <p:nvPr/>
        </p:nvCxnSpPr>
        <p:spPr>
          <a:xfrm flipH="1" flipV="1" rot="5400000">
            <a:off x="6686280" y="3180960"/>
            <a:ext cx="38160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7" idx="1"/>
          </p:cNvCxnSpPr>
          <p:nvPr/>
        </p:nvCxnSpPr>
        <p:spPr>
          <a:xfrm flipH="1" rot="16200000">
            <a:off x="6686640" y="4019040"/>
            <a:ext cx="381600" cy="1029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7543800" y="6248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brary (.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324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en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762120"/>
            <a:ext cx="2666880" cy="1600200"/>
          </a:xfrm>
          <a:prstGeom prst="cloudCallout">
            <a:avLst>
              <a:gd name="adj1" fmla="val 32023"/>
              <a:gd name="adj2" fmla="val 145041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905120"/>
            <a:ext cx="2057400" cy="1523880"/>
          </a:xfrm>
          <a:prstGeom prst="cloudCallout">
            <a:avLst>
              <a:gd name="adj1" fmla="val 9180"/>
              <a:gd name="adj2" fmla="val 88439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209680"/>
            <a:ext cx="1752840" cy="1219320"/>
          </a:xfrm>
          <a:prstGeom prst="cloudCallout">
            <a:avLst>
              <a:gd name="adj1" fmla="val 58875"/>
              <a:gd name="adj2" fmla="val 107291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220968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228600"/>
            <a:ext cx="2971800" cy="1371600"/>
          </a:xfrm>
          <a:prstGeom prst="cloudCallout">
            <a:avLst>
              <a:gd name="adj1" fmla="val 12287"/>
              <a:gd name="adj2" fmla="val 94560"/>
            </a:avLst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516800">
            <a:off x="6782040" y="2057040"/>
            <a:ext cx="739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516800">
            <a:off x="6172560" y="3428640"/>
            <a:ext cx="739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ADF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60020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ata flow control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276720"/>
            <a:ext cx="1295280" cy="1218960"/>
          </a:xfrm>
          <a:prstGeom prst="ellipse">
            <a:avLst/>
          </a:prstGeom>
          <a:solidFill>
            <a:srgbClr val="66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80880" y="3886200"/>
            <a:ext cx="2438280" cy="304560"/>
            <a:chOff x="380880" y="3886200"/>
            <a:chExt cx="2438280" cy="304560"/>
          </a:xfrm>
        </p:grpSpPr>
        <p:sp>
          <p:nvSpPr>
            <p:cNvPr id="114" name=""/>
            <p:cNvSpPr/>
            <p:nvPr/>
          </p:nvSpPr>
          <p:spPr>
            <a:xfrm>
              <a:off x="380880" y="3886200"/>
              <a:ext cx="2438280" cy="304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5640" y="3886200"/>
              <a:ext cx="53964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65120" y="3886200"/>
              <a:ext cx="53964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81080" y="3886200"/>
              <a:ext cx="53964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24160" y="4772160"/>
            <a:ext cx="168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able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 rot="16200000">
            <a:off x="1142640" y="3085920"/>
            <a:ext cx="342720" cy="1104840"/>
          </a:xfrm>
          <a:custGeom>
            <a:avLst/>
            <a:gdLst>
              <a:gd name="textAreaLeft" fmla="*/ 0 w 342720"/>
              <a:gd name="textAreaRight" fmla="*/ 123840 w 34272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44"/>
                </a:lnTo>
                <a:cubicBezTo>
                  <a:pt x="10800" y="8444"/>
                  <a:pt x="16200" y="9344"/>
                  <a:pt x="21600" y="9344"/>
                </a:cubicBezTo>
                <a:cubicBezTo>
                  <a:pt x="16200" y="9344"/>
                  <a:pt x="10800" y="10244"/>
                  <a:pt x="10800" y="111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2" idx="0"/>
          </p:cNvCxnSpPr>
          <p:nvPr/>
        </p:nvCxnSpPr>
        <p:spPr>
          <a:xfrm flipH="1" flipV="1" rot="5400000">
            <a:off x="2636640" y="2026800"/>
            <a:ext cx="191160" cy="2689920"/>
          </a:xfrm>
          <a:prstGeom prst="bentConnector3">
            <a:avLst>
              <a:gd name="adj1" fmla="val 2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058840" y="27115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8160" y="41590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5960" y="41590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1142640" y="4076640"/>
            <a:ext cx="342720" cy="1104840"/>
          </a:xfrm>
          <a:custGeom>
            <a:avLst/>
            <a:gdLst>
              <a:gd name="textAreaLeft" fmla="*/ 0 w 342720"/>
              <a:gd name="textAreaRight" fmla="*/ 123840 w 34272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44"/>
                </a:lnTo>
                <a:cubicBezTo>
                  <a:pt x="10800" y="8444"/>
                  <a:pt x="16200" y="9344"/>
                  <a:pt x="21600" y="9344"/>
                </a:cubicBezTo>
                <a:cubicBezTo>
                  <a:pt x="16200" y="9344"/>
                  <a:pt x="10800" y="10244"/>
                  <a:pt x="10800" y="111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52520" y="5334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40"/>
                </a:solidFill>
                <a:latin typeface="Arial"/>
              </a:rPr>
              <a:t>Ignored by 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286000" y="4190760"/>
            <a:ext cx="0" cy="1143000"/>
          </a:xfrm>
          <a:prstGeom prst="line">
            <a:avLst/>
          </a:prstGeom>
          <a:ln w="28440">
            <a:solidFill>
              <a:srgbClr val="0080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181480" y="2514600"/>
            <a:ext cx="3426840" cy="380880"/>
            <a:chOff x="5181480" y="2514600"/>
            <a:chExt cx="3426840" cy="380880"/>
          </a:xfrm>
        </p:grpSpPr>
        <p:sp>
          <p:nvSpPr>
            <p:cNvPr id="128" name=""/>
            <p:cNvSpPr/>
            <p:nvPr/>
          </p:nvSpPr>
          <p:spPr>
            <a:xfrm>
              <a:off x="5181480" y="2590560"/>
              <a:ext cx="24382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5880" y="2590560"/>
              <a:ext cx="540000" cy="304920"/>
            </a:xfrm>
            <a:prstGeom prst="rect">
              <a:avLst/>
            </a:prstGeom>
            <a:solidFill>
              <a:srgbClr val="66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5720" y="2590560"/>
              <a:ext cx="53964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7320" y="25146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34120" y="3962520"/>
            <a:ext cx="3350160" cy="368280"/>
            <a:chOff x="5334120" y="3962520"/>
            <a:chExt cx="3350160" cy="368280"/>
          </a:xfrm>
        </p:grpSpPr>
        <p:grpSp>
          <p:nvGrpSpPr>
            <p:cNvPr id="133" name=""/>
            <p:cNvGrpSpPr/>
            <p:nvPr/>
          </p:nvGrpSpPr>
          <p:grpSpPr>
            <a:xfrm>
              <a:off x="5334120" y="4024080"/>
              <a:ext cx="2438280" cy="304560"/>
              <a:chOff x="5334120" y="4024080"/>
              <a:chExt cx="243828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5334120" y="4024080"/>
                <a:ext cx="243828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08520" y="4024080"/>
                <a:ext cx="539280" cy="304560"/>
              </a:xfrm>
              <a:prstGeom prst="rect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318000" y="4024080"/>
                <a:ext cx="539640" cy="3045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933960" y="4024080"/>
                <a:ext cx="539640" cy="3045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7895520" y="396252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Sa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952880" y="5119560"/>
            <a:ext cx="3962520" cy="595440"/>
            <a:chOff x="4952880" y="5119560"/>
            <a:chExt cx="3962520" cy="595440"/>
          </a:xfrm>
        </p:grpSpPr>
        <p:sp>
          <p:nvSpPr>
            <p:cNvPr id="140" name=""/>
            <p:cNvSpPr/>
            <p:nvPr/>
          </p:nvSpPr>
          <p:spPr>
            <a:xfrm>
              <a:off x="7619760" y="5119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Grow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952880" y="5410080"/>
              <a:ext cx="3048120" cy="304920"/>
              <a:chOff x="4952880" y="5410080"/>
              <a:chExt cx="304812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4952880" y="5410080"/>
                <a:ext cx="3048120" cy="304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0800" y="5410080"/>
                <a:ext cx="540000" cy="3049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470640" y="5410080"/>
                <a:ext cx="539640" cy="3049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86600" y="5410080"/>
                <a:ext cx="539640" cy="3049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181480" y="5410080"/>
                <a:ext cx="539640" cy="304920"/>
              </a:xfrm>
              <a:prstGeom prst="rect">
                <a:avLst/>
              </a:prstGeom>
              <a:solidFill>
                <a:srgbClr val="6666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47" name=""/>
          <p:cNvCxnSpPr>
            <a:stCxn id="112" idx="7"/>
            <a:endCxn id="128" idx="1"/>
          </p:cNvCxnSpPr>
          <p:nvPr/>
        </p:nvCxnSpPr>
        <p:spPr>
          <a:xfrm flipH="1" flipV="1" rot="5400000">
            <a:off x="4502520" y="2775600"/>
            <a:ext cx="712080" cy="64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12" idx="6"/>
            <a:endCxn id="134" idx="1"/>
          </p:cNvCxnSpPr>
          <p:nvPr/>
        </p:nvCxnSpPr>
        <p:spPr>
          <a:xfrm>
            <a:off x="4724280" y="3885840"/>
            <a:ext cx="610560" cy="2912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12" idx="5"/>
            <a:endCxn id="142" idx="1"/>
          </p:cNvCxnSpPr>
          <p:nvPr/>
        </p:nvCxnSpPr>
        <p:spPr>
          <a:xfrm flipH="1" rot="16200000">
            <a:off x="4120920" y="4731480"/>
            <a:ext cx="1245600" cy="417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249960" y="3200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9960" y="4648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7311960" cy="5015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ADF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3506760" y="17524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s for 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8006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7640" y="3962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/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52480" y="3505320"/>
            <a:ext cx="9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/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53240" y="43434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6740640" cy="4622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ADF developmen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16160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library online/off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ntegration : soon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4876920"/>
            <a:ext cx="4191120" cy="1676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s of new al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n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 AD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4572000"/>
            <a:ext cx="1295640" cy="457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Offline analysi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7760" y="2498760"/>
            <a:ext cx="8902080" cy="3752280"/>
            <a:chOff x="77760" y="2498760"/>
            <a:chExt cx="8902080" cy="3752280"/>
          </a:xfrm>
        </p:grpSpPr>
        <p:sp>
          <p:nvSpPr>
            <p:cNvPr id="166" name=""/>
            <p:cNvSpPr/>
            <p:nvPr/>
          </p:nvSpPr>
          <p:spPr>
            <a:xfrm>
              <a:off x="306000" y="2498760"/>
              <a:ext cx="2513880" cy="70380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F files produ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NAR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4386240"/>
              <a:ext cx="1762200" cy="7952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-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25880" y="3809880"/>
              <a:ext cx="2741400" cy="703800"/>
            </a:xfrm>
            <a:prstGeom prst="rect">
              <a:avLst/>
            </a:prstGeom>
            <a:solidFill>
              <a:srgbClr val="00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F files produ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3360" y="5013360"/>
              <a:ext cx="2754720" cy="703800"/>
            </a:xfrm>
            <a:prstGeom prst="rect">
              <a:avLst/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OOT/Tree produ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y y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48520" y="4495680"/>
              <a:ext cx="1172880" cy="4780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33880" y="4173480"/>
              <a:ext cx="124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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Mat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ROO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6" idx="1"/>
              <a:endCxn id="167" idx="2"/>
            </p:cNvCxnSpPr>
            <p:nvPr/>
          </p:nvCxnSpPr>
          <p:spPr>
            <a:xfrm flipH="1" flipV="1" rot="10800000">
              <a:off x="306000" y="2849040"/>
              <a:ext cx="380160" cy="1936080"/>
            </a:xfrm>
            <a:prstGeom prst="bentConnector3">
              <a:avLst>
                <a:gd name="adj1" fmla="val -601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67" idx="6"/>
              <a:endCxn id="168" idx="1"/>
            </p:cNvCxnSpPr>
            <p:nvPr/>
          </p:nvCxnSpPr>
          <p:spPr>
            <a:xfrm flipV="1">
              <a:off x="2447640" y="4160160"/>
              <a:ext cx="678600" cy="624600"/>
            </a:xfrm>
            <a:prstGeom prst="bentConnector3">
              <a:avLst>
                <a:gd name="adj1" fmla="val 4984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7" idx="6"/>
              <a:endCxn id="169" idx="1"/>
            </p:cNvCxnSpPr>
            <p:nvPr/>
          </p:nvCxnSpPr>
          <p:spPr>
            <a:xfrm>
              <a:off x="2448000" y="4784400"/>
              <a:ext cx="676800" cy="579960"/>
            </a:xfrm>
            <a:prstGeom prst="bentConnector3">
              <a:avLst>
                <a:gd name="adj1" fmla="val 499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3"/>
              <a:endCxn id="170" idx="2"/>
            </p:cNvCxnSpPr>
            <p:nvPr/>
          </p:nvCxnSpPr>
          <p:spPr>
            <a:xfrm>
              <a:off x="5866920" y="4160880"/>
              <a:ext cx="381960" cy="575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69" idx="3"/>
              <a:endCxn id="170" idx="2"/>
            </p:cNvCxnSpPr>
            <p:nvPr/>
          </p:nvCxnSpPr>
          <p:spPr>
            <a:xfrm flipV="1">
              <a:off x="5877000" y="4735080"/>
              <a:ext cx="372240" cy="629280"/>
            </a:xfrm>
            <a:prstGeom prst="bentConnector3">
              <a:avLst>
                <a:gd name="adj1" fmla="val 499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4192560" y="4572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37200" y="5791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"/>
            <p:cNvCxnSpPr>
              <a:stCxn id="170" idx="6"/>
              <a:endCxn id="171" idx="1"/>
            </p:cNvCxnSpPr>
            <p:nvPr/>
          </p:nvCxnSpPr>
          <p:spPr>
            <a:xfrm flipV="1">
              <a:off x="7421040" y="4371480"/>
              <a:ext cx="351360" cy="364320"/>
            </a:xfrm>
            <a:prstGeom prst="bentConnector3">
              <a:avLst>
                <a:gd name="adj1" fmla="val 4974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4345560" y="62485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5410080"/>
            <a:ext cx="2361960" cy="1219320"/>
          </a:xfrm>
          <a:prstGeom prst="cloudCallout">
            <a:avLst>
              <a:gd name="adj1" fmla="val -66532"/>
              <a:gd name="adj2" fmla="val -5312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uts, eventlist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Tool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43200" y="2819520"/>
            <a:ext cx="3352680" cy="2200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3"/>
          <a:srcRect l="1956" t="3965" r="72665" b="5418"/>
          <a:stretch/>
        </p:blipFill>
        <p:spPr>
          <a:xfrm>
            <a:off x="457200" y="4267080"/>
            <a:ext cx="1422360" cy="22100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85" name=""/>
          <p:cNvSpPr/>
          <p:nvPr/>
        </p:nvSpPr>
        <p:spPr>
          <a:xfrm>
            <a:off x="2500920" y="1523880"/>
            <a:ext cx="62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trum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cheme Player (delayed …6 month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4" idx="0"/>
            <a:endCxn id="183" idx="1"/>
          </p:cNvCxnSpPr>
          <p:nvPr/>
        </p:nvCxnSpPr>
        <p:spPr>
          <a:xfrm flipH="1" flipV="1" rot="5400000">
            <a:off x="1788840" y="3298680"/>
            <a:ext cx="334080" cy="1575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2876400" y="2743200"/>
            <a:ext cx="32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ve/graphical g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16120" y="3505320"/>
            <a:ext cx="12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e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3" idx="3"/>
            <a:endCxn id="188" idx="1"/>
          </p:cNvCxnSpPr>
          <p:nvPr/>
        </p:nvCxnSpPr>
        <p:spPr>
          <a:xfrm flipV="1">
            <a:off x="6095880" y="3915720"/>
            <a:ext cx="991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362320" y="2590920"/>
            <a:ext cx="6324480" cy="2895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44680" y="50007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/>
          <p:nvPr/>
        </p:nvCxnSpPr>
        <p:spPr>
          <a:xfrm rot="5400000">
            <a:off x="1256400" y="2705040"/>
            <a:ext cx="1753200" cy="610200"/>
          </a:xfrm>
          <a:prstGeom prst="bentConnector3">
            <a:avLst>
              <a:gd name="adj1" fmla="val -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Conclusion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438280"/>
            <a:ext cx="701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Prisma library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F … first phase almost finished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velopments (talk DAQ s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nd others … to be continued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ta{AT}ipnl.in2p3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tracker (http://agata.in2p3.f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4080"/>
                </a:solidFill>
                <a:latin typeface="Trebuchet MS"/>
              </a:rPr>
              <a:t>Framework conten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1148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7880" y="4191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55720" y="4191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933640"/>
            <a:ext cx="1981440" cy="990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to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 from 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267080"/>
            <a:ext cx="1905120" cy="16002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rganis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ur SV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tr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2438280"/>
            <a:ext cx="205740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1981080"/>
            <a:ext cx="1676160" cy="762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F Libr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4343400"/>
            <a:ext cx="3809880" cy="1447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library / tools 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th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276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4080"/>
                </a:solidFill>
                <a:uFillTx/>
                <a:latin typeface="Arial"/>
              </a:rPr>
              <a:t>D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2819520"/>
            <a:ext cx="0" cy="457200"/>
          </a:xfrm>
          <a:prstGeom prst="line">
            <a:avLst/>
          </a:prstGeom>
          <a:ln w="28440">
            <a:solidFill>
              <a:srgbClr val="004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048120"/>
            <a:ext cx="266724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 GEANT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1752480"/>
            <a:ext cx="4076640" cy="2057400"/>
          </a:xfrm>
          <a:prstGeom prst="cloudCallout">
            <a:avLst>
              <a:gd name="adj1" fmla="val 70638"/>
              <a:gd name="adj2" fmla="val -31250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D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 Narval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AD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4:18:52Z</dcterms:created>
  <dc:creator>Olivier Stezowski</dc:creator>
  <dc:description/>
  <dc:language>en-US</dc:language>
  <cp:lastModifiedBy>Olivier Stezowski</cp:lastModifiedBy>
  <dcterms:modified xsi:type="dcterms:W3CDTF">2008-07-08T12:46:42Z</dcterms:modified>
  <cp:revision>38</cp:revision>
  <dc:subject/>
  <dc:title>Présentation PowerPoint</dc:title>
</cp:coreProperties>
</file>