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26AA-D947-43C8-B9C6-6B92892B38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F47C-8A5E-49C4-B69B-74FD612BF4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9928-2D64-4B44-8338-FEDAA1C8A4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BB79-DFDC-4577-BC7D-5B439D1A95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5E1D-DDFB-4D78-B309-3809F07D78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D373-24A8-455C-9549-02F6111805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18AD-CF55-4895-9A33-EC8F184E3E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C2F7-34F6-480B-BDE0-9B6E3C73EA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83CC-70BB-455B-8376-9D3FDC278B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48F7-D1A8-4D6F-BC5B-7F9663E678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9154-4319-4BF8-8E24-61F06435B1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3661-E096-4AD1-996A-6038376765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660-F0E7-401C-9116-760B512E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1A7-BEA7-4A81-951F-9C818C6C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3331-B2F8-4010-BFE9-24BBDC42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0BA-EDB0-4CF6-85CB-9F1B5D6C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059-60C2-4753-9BE3-E41E2EF5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5AF-36B4-47D4-BACA-CBA78A6B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049-38A7-4F9D-B58F-66B81E08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9CD-C79B-4A93-9B41-9EE5BCA8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F15-A1C9-420D-A979-5D23044B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2789-16EF-4597-B7D1-A8D89224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481-E0D8-4F90-86BE-953D6978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E8DE-C6C0-49CA-9CEF-AD1DF9E3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14D6-33E8-4DDD-A270-AE3763037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75160" y="189000"/>
            <a:ext cx="6307560" cy="1739880"/>
          </a:xfrm>
          <a:prstGeom prst="rect">
            <a:avLst/>
          </a:prstGeom>
          <a:solidFill>
            <a:srgbClr val="ffff00"/>
          </a:solidFill>
          <a:ln w="255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posal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for a commissio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xperiment with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GATA Demonst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260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548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1000" y="2133720"/>
            <a:ext cx="6485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GATA Week, Uppsala 8-11 Jul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Q.T. Doan, O. Stézowski, D. Guinet, A. Vancraeyene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N. Re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IPN Lyon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9720" y="3789360"/>
            <a:ext cx="7610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 experiment to demonstrate the performance of the tracking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- for fusion-evaporation re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- with high </a:t>
            </a:r>
            <a:r>
              <a:rPr b="0" lang="fr-FR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multipli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- medium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nergy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-ray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~</a:t>
            </a: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1 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n experiment on well known and well populated superdefor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ucleus based on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1FE-CCA8-4B96-8057-80ADCEBC55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9800" y="501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ergy (k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85640" y="139500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8183" t="0" r="0" b="8911"/>
          <a:stretch/>
        </p:blipFill>
        <p:spPr>
          <a:xfrm>
            <a:off x="1187280" y="549360"/>
            <a:ext cx="6513840" cy="456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7AD-E6A8-4764-BDB0-EF5E7C202E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39640" y="115920"/>
            <a:ext cx="4032360" cy="85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mulations predict good performances for the AGATA Demonstrator at 140mm : excellent resolution and P/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en with lower efficiency, AD gated spectra cleaner than EUROBALL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e propose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a fusion-evaporation test experim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baseline="30000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fr-FR" sz="2400" spc="-1" strike="noStrike" baseline="30000">
                <a:solidFill>
                  <a:srgbClr val="0000ff"/>
                </a:solidFill>
                <a:latin typeface="Arial"/>
              </a:rPr>
              <a:t>74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Ge +</a:t>
            </a:r>
            <a:r>
              <a:rPr b="0" lang="fr-FR" sz="2400" spc="-1" strike="noStrike" baseline="30000">
                <a:solidFill>
                  <a:srgbClr val="0000ff"/>
                </a:solidFill>
                <a:latin typeface="Arial"/>
              </a:rPr>
              <a:t>82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Se @ 328 MeV  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v/c ≈ 4.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 observe the Superdeformed Band in </a:t>
            </a:r>
            <a:r>
              <a:rPr b="0" lang="fr-FR" sz="2400" spc="-1" strike="noStrike" baseline="30000">
                <a:solidFill>
                  <a:srgbClr val="ff0000"/>
                </a:solidFill>
                <a:latin typeface="Arial"/>
              </a:rPr>
              <a:t>152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Dy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d check the performances of the AGATA  Demonstrator at high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ulti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e will need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5 Triple Clusters at 140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E1E-3CFA-4423-AF51-8BAF086216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F55-5240-4220-BA4B-6B8316CEFC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17000" y="279360"/>
            <a:ext cx="71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pulation of the SD band in 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15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y via a near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ss-symmetric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400" spc="-1" strike="noStrike" baseline="30000">
                <a:solidFill>
                  <a:srgbClr val="0000ff"/>
                </a:solidFill>
                <a:latin typeface="Arial"/>
              </a:rPr>
              <a:t>82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Se + </a:t>
            </a:r>
            <a:r>
              <a:rPr b="0" lang="fr-FR" sz="2400" spc="-1" strike="noStrike" baseline="30000">
                <a:solidFill>
                  <a:srgbClr val="0000ff"/>
                </a:solidFill>
                <a:latin typeface="Arial"/>
              </a:rPr>
              <a:t>74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Ge  </a:t>
            </a:r>
            <a:r>
              <a:rPr b="0" lang="fr-F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fr-FR" sz="2400" spc="-1" strike="noStrike" baseline="30000">
                <a:solidFill>
                  <a:srgbClr val="0000ff"/>
                </a:solidFill>
                <a:latin typeface="Arial"/>
              </a:rPr>
              <a:t>156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Dy*  </a:t>
            </a:r>
            <a:r>
              <a:rPr b="0" lang="fr-F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 baseline="30000">
                <a:solidFill>
                  <a:srgbClr val="ff0000"/>
                </a:solidFill>
                <a:latin typeface="Arial"/>
              </a:rPr>
              <a:t>152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Dy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+ 4n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/c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≈ 4.9%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7669080" cy="46814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2916360" y="1413000"/>
            <a:ext cx="1008000" cy="2972880"/>
            <a:chOff x="2916360" y="1413000"/>
            <a:chExt cx="1008000" cy="2972880"/>
          </a:xfrm>
        </p:grpSpPr>
        <p:sp>
          <p:nvSpPr>
            <p:cNvPr id="60" name=""/>
            <p:cNvSpPr/>
            <p:nvPr/>
          </p:nvSpPr>
          <p:spPr>
            <a:xfrm>
              <a:off x="2988000" y="4078800"/>
              <a:ext cx="86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D(2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16360" y="1413000"/>
              <a:ext cx="1008000" cy="2605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156360" y="32846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Arial"/>
              </a:rPr>
              <a:t>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925-3B16-4521-9393-E2157F0F62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3598920" cy="3587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932360" y="1989000"/>
            <a:ext cx="3598920" cy="3270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4120" y="189000"/>
            <a:ext cx="856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mulations have been realized to compare the performa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EUROBALL (EB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AGATA Demonstrator (AD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Q.T. Doan presentation, 6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AGATA Week, November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5800" y="5445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45440" y="5443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D57-84A5-484B-AA88-E97C499C04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6629400" cy="4496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4680" y="404640"/>
            <a:ext cx="8310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otopeak efficiency goes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9.5% (EB)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4-5% (AD at 140mm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 E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 1 MeV and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= 15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reduction of the Doppler broad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38F-50B4-4A83-BC6B-D011939068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7381800" cy="4600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310760" y="279360"/>
            <a:ext cx="60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tistics with fold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≥ 2 with AD at 140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3160" y="5445000"/>
            <a:ext cx="24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coincid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4560" y="5551560"/>
            <a:ext cx="976320" cy="306360"/>
          </a:xfrm>
          <a:prstGeom prst="rightArrow">
            <a:avLst>
              <a:gd name="adj1" fmla="val 50000"/>
              <a:gd name="adj2" fmla="val 796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F8C-69E9-438D-8044-B733881B96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0" t="0" r="2280" b="0"/>
          <a:stretch/>
        </p:blipFill>
        <p:spPr>
          <a:xfrm>
            <a:off x="395280" y="189000"/>
            <a:ext cx="7716960" cy="5067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708360" y="2924280"/>
            <a:ext cx="4794120" cy="3268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76360" y="1700280"/>
            <a:ext cx="1152720" cy="2665440"/>
          </a:xfrm>
          <a:prstGeom prst="ellipse">
            <a:avLst/>
          </a:prstGeom>
          <a:noFill/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1700280"/>
            <a:ext cx="6120000" cy="136836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4365720"/>
            <a:ext cx="2303640" cy="129528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F8C-F2DC-45E1-9FC2-8F1B01DA24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6629400" cy="50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AFA-93C8-4D0A-A9FE-21EB873CFD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71640" y="692280"/>
            <a:ext cx="6629400" cy="535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EB2-9C14-41F2-A418-E45B1773B7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6295" t="0" r="0" b="8911"/>
          <a:stretch/>
        </p:blipFill>
        <p:spPr>
          <a:xfrm>
            <a:off x="1332000" y="620640"/>
            <a:ext cx="6431040" cy="4415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8000" y="6308640"/>
            <a:ext cx="730080" cy="398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6215040"/>
            <a:ext cx="8153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38000" y="50324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ergy (k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917280" y="1431720"/>
            <a:ext cx="90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. Redon   AW Uppsala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FE7F-F769-4A8A-B307-911050EB39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09:59:56Z</dcterms:created>
  <dc:creator>nadine</dc:creator>
  <dc:description/>
  <dc:language>en-US</dc:language>
  <cp:lastModifiedBy>nadine</cp:lastModifiedBy>
  <dcterms:modified xsi:type="dcterms:W3CDTF">2008-07-06T14:48:05Z</dcterms:modified>
  <cp:revision>12</cp:revision>
  <dc:subject/>
  <dc:title>Proposal for a commissioning experiment </dc:title>
</cp:coreProperties>
</file>