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4BD-1D4F-4324-A8C5-CDF0252A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452-3C11-458B-BCA8-798EF70E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8D9-DC98-444F-B2FD-BB9FDB08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84ED-426F-44F6-92AA-EFCF221A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3D8-E011-49CF-9903-47938FC0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99E-BB97-4DCB-B680-7791483D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2E3-A46D-4489-B5F1-2EAEDF07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9E8-1FF8-4D04-83EB-F2E16F6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00F-C332-42AD-9698-ABD062B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C43-1220-4EA9-9D36-2933673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06-F5B2-4359-970D-4B2D8B63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ADF-BED3-4AD7-A01A-2918A29F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7965-8102-4C0F-9C4C-51538B67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106720"/>
            <a:ext cx="910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amma Trac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ustering : deterministic annealing filter (DA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a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21440" y="587700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 week.  8 - 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sala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5013360"/>
            <a:ext cx="37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çois DIDIER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144880" cy="1486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1271" t="12442" r="10148" b="12904"/>
          <a:stretch/>
        </p:blipFill>
        <p:spPr>
          <a:xfrm>
            <a:off x="7667640" y="33336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92160" y="476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ustering metho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terministic annealing filter (DA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564000" y="1989000"/>
                <a:ext cx="3384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 rot="18900000">
            <a:off x="469080" y="764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distor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9800" y="3141720"/>
            <a:ext cx="842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oal :  to minimize the global distortion with the smaller number of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y analogy with the statistical physics : introduce a Lagrange multiplier.  Then, the free energy :  F = D -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508640"/>
            <a:ext cx="8097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he DAF method corresponds to minimize the Lagrangien F while lowering the syste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As the temperature is lowered, the system undergoes a sequence of phase transitions which consists of a natural split of the cluster in two parts (conducting to an increase of the cluster numb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00" y="1557360"/>
            <a:ext cx="8928000" cy="4960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3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cess stops when the system temperature, T, is smaller than Tmin. This stopping  temperature is empirically determined and   depends on the number of the data interactio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3743280" cy="36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08720" y="364500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 = 1 M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Multiplicity : M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2708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3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200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min = 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55640" y="333360"/>
            <a:ext cx="6048360" cy="633564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5816" b="0"/>
          <a:stretch/>
        </p:blipFill>
        <p:spPr>
          <a:xfrm>
            <a:off x="1908000" y="1384200"/>
            <a:ext cx="3795840" cy="38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8077400">
            <a:off x="-255600" y="984240"/>
            <a:ext cx="246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Search of the empirical stopping temperatur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5360" y="5213520"/>
            <a:ext cx="327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riation of the efficiency (b) and the peak-to-total ratio (c) as a function of the stopping temperature for different 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-ray multiplic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636480"/>
            <a:ext cx="2793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) Distribution of the number of interactions as a function of  1MeV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ray multiplic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04640"/>
            <a:ext cx="28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Tmin is chosen in respect of the phys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4370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ep inel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sion-evaporation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high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1197000"/>
            <a:ext cx="23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fe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ulomb 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 low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333360"/>
            <a:ext cx="8928000" cy="6184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52760" y="836640"/>
            <a:ext cx="3701880" cy="5214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924280"/>
            <a:ext cx="2273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pectra of 1MeV </a:t>
            </a:r>
            <a:r>
              <a:rPr b="1" lang="en-US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y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Original spectrum obtained from the GEANT4 simulation (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349360"/>
            <a:ext cx="248148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Reconstructed spectra using the deterministic annealing filter and the forward tracking algorithm for different </a:t>
            </a:r>
            <a:r>
              <a:rPr b="1" lang="en-US" sz="1400" spc="-1" strike="noStrike">
                <a:solidFill>
                  <a:srgbClr val="ff00ff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-ray multipliciti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b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c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(d)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M =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549360"/>
            <a:ext cx="6010200" cy="5221080"/>
            <a:chOff x="0" y="549360"/>
            <a:chExt cx="6010200" cy="5221080"/>
          </a:xfrm>
        </p:grpSpPr>
        <p:sp>
          <p:nvSpPr>
            <p:cNvPr id="72" name=""/>
            <p:cNvSpPr/>
            <p:nvPr/>
          </p:nvSpPr>
          <p:spPr>
            <a:xfrm>
              <a:off x="947880" y="735120"/>
              <a:ext cx="3935520" cy="480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0" y="549360"/>
            <a:ext cx="5848560" cy="522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49360"/>
                      <a:ext cx="5848560" cy="522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1144800" y="730080"/>
              <a:ext cx="486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156200"/>
                  <a:tab algn="l" pos="8312040"/>
                </a:tabLst>
              </a:pP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E</a:t>
              </a:r>
              <a:r>
                <a:rPr b="0" lang="fr-FR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multiplicity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    </a:t>
              </a:r>
              <a:r>
                <a:rPr b="0" lang="fr-FR" sz="18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</a:t>
              </a:r>
              <a:r>
                <a:rPr b="0" lang="fr-FR" sz="1800" spc="-1" strike="noStrike">
                  <a:solidFill>
                    <a:srgbClr val="009900"/>
                  </a:solidFill>
                  <a:latin typeface="Arial"/>
                </a:rPr>
                <a:t> (%)    P/T (%)</a:t>
              </a:r>
              <a:r>
                <a:rPr b="0" lang="fr-FR" sz="1800" spc="-1" strike="noStrike">
                  <a:solidFill>
                    <a:srgbClr val="00ff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334120" y="2382840"/>
            <a:ext cx="32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ficiency and peak-to-total ratio values calculated using the deterministic annealing filter clustering and the forward tracking algorithm for different 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ray energies and different multipli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33480" y="5907240"/>
            <a:ext cx="59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he values in brackets are obtained using the "cones" clustering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8000" y="333360"/>
            <a:ext cx="8928000" cy="6184800"/>
          </a:xfrm>
          <a:prstGeom prst="ellipse">
            <a:avLst/>
          </a:prstGeom>
          <a:solidFill>
            <a:srgbClr val="0000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781360"/>
            <a:ext cx="180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imulated spectra of a rotational band of 30 </a:t>
            </a:r>
            <a:r>
              <a:rPr b="1" lang="en-GB" sz="1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rays in the 80 keV to 2690 keV energy region in steps of 90 ke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438800" cy="4303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75640" y="2779560"/>
            <a:ext cx="201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Original spectrum obtained from the GEANT4 simulation (a) and reconstructed spectra (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22840" y="3586320"/>
            <a:ext cx="2844720" cy="2885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42920" y="40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ture prospect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105264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arison between the DAF and the "cone" methods for a set of energies and  gamma multiplic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00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lication of the DAF method to the probabilistic trac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1636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st of the method with real data taken from the AGATA demonst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30132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tion of the probabilistic tracking method to the spherical geometry of AG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14760" y="1523880"/>
            <a:ext cx="37144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4:03:27Z</dcterms:created>
  <dc:creator>didierj</dc:creator>
  <dc:description/>
  <dc:language>en-US</dc:language>
  <cp:lastModifiedBy>didierj</cp:lastModifiedBy>
  <dcterms:modified xsi:type="dcterms:W3CDTF">2008-07-08T12:34:04Z</dcterms:modified>
  <cp:revision>28</cp:revision>
  <dc:subject/>
  <dc:title>Diapositive 1</dc:title>
</cp:coreProperties>
</file>