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A60-D25E-4888-A19E-C2FBCC57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096-A636-44ED-A76B-DAB1250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4B7C-6A6D-4E93-95E4-A78B97DE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9BD-F981-4E90-9ACB-1FE2A48E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27F-A149-45DF-A5E9-3219B023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0F3-E394-424A-B547-BEBC5FF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B73-DACD-4BAA-86E6-43E590F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0F8-C1E4-4CD8-BF35-A1A3901B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A05-BBD4-4E58-84F2-CE80A3FB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FC0-1B58-4747-A0A0-091CD11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4709-ECAF-4E85-86B7-5DD1060E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0296-C364-4664-B84F-CBDF0AD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2C2923-FA43-4048-848D-4E0C5066C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cc"/>
                </a:solidFill>
                <a:latin typeface="Monotype Corsiva"/>
              </a:rPr>
              <a:t>Neutron Gamma Discrimination in Ag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87560" y="8002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cript MT Bold"/>
              </a:rPr>
              <a:t>Ay</a:t>
            </a:r>
            <a:r>
              <a:rPr b="1" lang="en-GB" sz="20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ş</a:t>
            </a:r>
            <a:r>
              <a:rPr b="1" lang="en-GB" sz="2000" spc="-1" strike="noStrike">
                <a:solidFill>
                  <a:srgbClr val="000000"/>
                </a:solidFill>
                <a:latin typeface="Script MT Bold"/>
              </a:rPr>
              <a:t>e Ata</a:t>
            </a:r>
            <a:r>
              <a:rPr b="1" lang="en-GB" sz="20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708280"/>
            <a:ext cx="4038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2205000"/>
            <a:ext cx="7343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ssibility of discriminating neutrons and gammas by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dentify the neutron interaction points in Agata det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d a ‘pattern’ for neutron inter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5040" y="5670720"/>
            <a:ext cx="770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i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Reducing the background in th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– ray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gata as a neuton detect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525456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2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g – θ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443640" y="3114720"/>
            <a:ext cx="2376360" cy="146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6121440" cy="45352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771640" y="3716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426240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596 keV g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63700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</a:rPr>
              <a:t>1 MeV 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450864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&g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34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&g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35002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380880"/>
            <a:ext cx="24382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position of the interac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Compton 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00400" y="39621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g - θ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184644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619280" y="5157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&g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62200" y="4508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35280" y="3933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63640" y="3429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198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uction in %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MeV Neutrons on 74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Eth = 5ke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no ph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700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580920" y="3809880"/>
            <a:ext cx="1830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902960" y="4419720"/>
            <a:ext cx="358452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903320" y="4419720"/>
            <a:ext cx="3432240" cy="160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657240" y="4495680"/>
            <a:ext cx="167796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25680" y="4745160"/>
            <a:ext cx="86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b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06600" y="651996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-504720" y="1717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410080" y="2133720"/>
            <a:ext cx="3730320" cy="2630160"/>
            <a:chOff x="5410080" y="2133720"/>
            <a:chExt cx="3730320" cy="2630160"/>
          </a:xfrm>
        </p:grpSpPr>
        <p:sp>
          <p:nvSpPr>
            <p:cNvPr id="230" name=""/>
            <p:cNvSpPr/>
            <p:nvPr/>
          </p:nvSpPr>
          <p:spPr>
            <a:xfrm>
              <a:off x="8406000" y="4025160"/>
              <a:ext cx="73296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70160" y="4025160"/>
              <a:ext cx="73584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39000" y="4025160"/>
              <a:ext cx="73116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03160" y="4025160"/>
              <a:ext cx="73584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080" y="4025160"/>
              <a:ext cx="793080" cy="73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 or ese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06000" y="3509640"/>
              <a:ext cx="7329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70160" y="3509640"/>
              <a:ext cx="7358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9000" y="3509640"/>
              <a:ext cx="731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03160" y="3509640"/>
              <a:ext cx="7358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0080" y="3509640"/>
              <a:ext cx="793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06000" y="3206880"/>
              <a:ext cx="732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70160" y="320688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9000" y="3206880"/>
              <a:ext cx="73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03160" y="320688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10080" y="3206880"/>
              <a:ext cx="793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06000" y="2904120"/>
              <a:ext cx="732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0160" y="290412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39000" y="2904120"/>
              <a:ext cx="7311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03160" y="2904120"/>
              <a:ext cx="735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2904120"/>
              <a:ext cx="793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- θ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06000" y="2133720"/>
              <a:ext cx="73296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96 keV gam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70160" y="2133720"/>
              <a:ext cx="73584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39000" y="2133720"/>
              <a:ext cx="73116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ea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596 k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03160" y="2133720"/>
              <a:ext cx="73584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2133720"/>
              <a:ext cx="793080" cy="7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2133720"/>
              <a:ext cx="3729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080" y="2904120"/>
              <a:ext cx="3729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0080" y="3206880"/>
              <a:ext cx="3729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0080" y="3509640"/>
              <a:ext cx="372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10080" y="4025160"/>
              <a:ext cx="3729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0080" y="4762800"/>
              <a:ext cx="3729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10080" y="2133720"/>
              <a:ext cx="1440" cy="26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0316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3900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7016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406000" y="2133720"/>
              <a:ext cx="1440" cy="262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139320" y="2133720"/>
              <a:ext cx="1080" cy="26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00360" y="1700280"/>
            <a:ext cx="194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0720" y="1512720"/>
            <a:ext cx="1297080" cy="58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No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With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81480" y="1676520"/>
            <a:ext cx="58104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9051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429000" y="2057040"/>
            <a:ext cx="533520" cy="32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596 keV line with and without PHDE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 MeV Neutrons on 74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Eth = 5ke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1125360"/>
            <a:ext cx="8820000" cy="5256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195640" y="3141720"/>
            <a:ext cx="93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596 k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653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bu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92360" y="501336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554200" y="5013360"/>
            <a:ext cx="8668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3494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h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08720" y="2781360"/>
            <a:ext cx="1439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06920" y="6045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8128080" y="3627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5157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24360" y="2133720"/>
            <a:ext cx="1727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56360" y="3716280"/>
            <a:ext cx="43164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12000" y="40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             </a:t>
            </a: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nophd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149720"/>
            <a:ext cx="431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4292640"/>
            <a:ext cx="43164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50472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duction in % 1 MeV Neutrons on 74G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HDEF,  Eth = 5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15415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96k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00360" y="6381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890120" y="205344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24360" y="1916280"/>
            <a:ext cx="165600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924360" y="1700280"/>
            <a:ext cx="4032000" cy="2950560"/>
            <a:chOff x="3924360" y="1700280"/>
            <a:chExt cx="4032000" cy="2950560"/>
          </a:xfrm>
        </p:grpSpPr>
        <p:sp>
          <p:nvSpPr>
            <p:cNvPr id="295" name=""/>
            <p:cNvSpPr/>
            <p:nvPr/>
          </p:nvSpPr>
          <p:spPr>
            <a:xfrm>
              <a:off x="7309440" y="4059360"/>
              <a:ext cx="64548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00720" y="4059360"/>
              <a:ext cx="100836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12360" y="4059360"/>
              <a:ext cx="118800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24360" y="4059360"/>
              <a:ext cx="1188000" cy="5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 or ese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09440" y="3469680"/>
              <a:ext cx="6454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00720" y="3469680"/>
              <a:ext cx="10083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12360" y="3469680"/>
              <a:ext cx="11880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24360" y="3469680"/>
              <a:ext cx="118800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09440" y="3116160"/>
              <a:ext cx="6454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00720" y="3116160"/>
              <a:ext cx="1008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2360" y="3116160"/>
              <a:ext cx="1188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24360" y="3116160"/>
              <a:ext cx="1188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fir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09440" y="2762280"/>
              <a:ext cx="64548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00720" y="2762280"/>
              <a:ext cx="100836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12360" y="2762280"/>
              <a:ext cx="1188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24360" y="2762280"/>
              <a:ext cx="118800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- θ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09440" y="1700280"/>
              <a:ext cx="64548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596 keV </a:t>
              </a:r>
              <a:r>
                <a:rPr b="1" lang="en-GB" sz="1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00720" y="1700280"/>
              <a:ext cx="10083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ak + bum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596 ke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12360" y="1700280"/>
              <a:ext cx="1188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700280"/>
              <a:ext cx="1188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4360" y="1700280"/>
              <a:ext cx="4030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24360" y="2762280"/>
              <a:ext cx="403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24360" y="3116160"/>
              <a:ext cx="4030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24360" y="3469680"/>
              <a:ext cx="40309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24360" y="4059360"/>
              <a:ext cx="4030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24360" y="4649760"/>
              <a:ext cx="40309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24360" y="1700280"/>
              <a:ext cx="1080" cy="29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12360" y="1700280"/>
              <a:ext cx="1080" cy="29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00720" y="1700280"/>
              <a:ext cx="1080" cy="29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09440" y="1700280"/>
              <a:ext cx="1440" cy="29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55280" y="1700280"/>
              <a:ext cx="1080" cy="294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84360" y="2349360"/>
            <a:ext cx="502920" cy="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2708280"/>
            <a:ext cx="5029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03280" y="2205000"/>
            <a:ext cx="1297080" cy="58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No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With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912000" cy="48574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-ray energy spectra after tracking (mgt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 on 74Ge,  ph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95680" y="160020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291312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95680" y="39625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95680" y="5105520"/>
            <a:ext cx="1447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2941560" y="16380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-463320" y="3605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962520"/>
            <a:ext cx="76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38862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3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724280" y="396252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2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2970000" y="297000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3011400" y="3962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2973240" y="502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3549600" y="2037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3659040" y="3016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3549600" y="4092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18288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0120" y="14479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228600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01000" y="144792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01000" y="1828800"/>
            <a:ext cx="144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01000" y="190512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1880" y="1295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5820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58200" y="21337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0120" y="2362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74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24720" y="1197000"/>
            <a:ext cx="1440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85080" y="196056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5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56720" y="148428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6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24000" y="1906560"/>
            <a:ext cx="8424720" cy="4546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-ray energy spectrum after tracking (mgt)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t distribution on 1 –5 MeV neutrons 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19920" y="24382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58080" y="1066680"/>
            <a:ext cx="1892160" cy="1123920"/>
          </a:xfrm>
          <a:custGeom>
            <a:avLst/>
            <a:gdLst/>
            <a:ahLst/>
            <a:rect l="l" t="t" r="r" b="b"/>
            <a:pathLst>
              <a:path w="1192" h="708">
                <a:moveTo>
                  <a:pt x="0" y="696"/>
                </a:moveTo>
                <a:cubicBezTo>
                  <a:pt x="11" y="637"/>
                  <a:pt x="36" y="455"/>
                  <a:pt x="72" y="341"/>
                </a:cubicBezTo>
                <a:cubicBezTo>
                  <a:pt x="108" y="227"/>
                  <a:pt x="160" y="22"/>
                  <a:pt x="216" y="11"/>
                </a:cubicBezTo>
                <a:cubicBezTo>
                  <a:pt x="272" y="0"/>
                  <a:pt x="360" y="198"/>
                  <a:pt x="408" y="275"/>
                </a:cubicBezTo>
                <a:cubicBezTo>
                  <a:pt x="456" y="352"/>
                  <a:pt x="473" y="424"/>
                  <a:pt x="504" y="473"/>
                </a:cubicBezTo>
                <a:cubicBezTo>
                  <a:pt x="535" y="522"/>
                  <a:pt x="549" y="534"/>
                  <a:pt x="592" y="568"/>
                </a:cubicBezTo>
                <a:cubicBezTo>
                  <a:pt x="635" y="602"/>
                  <a:pt x="687" y="657"/>
                  <a:pt x="760" y="680"/>
                </a:cubicBezTo>
                <a:cubicBezTo>
                  <a:pt x="833" y="703"/>
                  <a:pt x="960" y="700"/>
                  <a:pt x="1032" y="704"/>
                </a:cubicBezTo>
                <a:cubicBezTo>
                  <a:pt x="1104" y="708"/>
                  <a:pt x="1159" y="704"/>
                  <a:pt x="1192" y="704"/>
                </a:cubicBezTo>
                <a:cubicBezTo>
                  <a:pt x="1192" y="704"/>
                  <a:pt x="0" y="696"/>
                  <a:pt x="0" y="6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7" idx="1"/>
          </p:cNvCxnSpPr>
          <p:nvPr/>
        </p:nvCxnSpPr>
        <p:spPr>
          <a:xfrm rot="10800000">
            <a:off x="6171480" y="1515240"/>
            <a:ext cx="1829520" cy="123120"/>
          </a:xfrm>
          <a:prstGeom prst="curvedConnector5">
            <a:avLst>
              <a:gd name="adj1" fmla="val 49990"/>
              <a:gd name="adj2" fmla="val 49853"/>
              <a:gd name="adj3" fmla="val 49990"/>
            </a:avLst>
          </a:prstGeom>
          <a:ln w="0">
            <a:noFill/>
          </a:ln>
        </p:spPr>
      </p:cxnSp>
      <p:sp>
        <p:nvSpPr>
          <p:cNvPr id="368" name=""/>
          <p:cNvSpPr/>
          <p:nvPr/>
        </p:nvSpPr>
        <p:spPr>
          <a:xfrm>
            <a:off x="6477120" y="1905120"/>
            <a:ext cx="22860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192"/>
                </a:moveTo>
                <a:cubicBezTo>
                  <a:pt x="144" y="192"/>
                  <a:pt x="0" y="0"/>
                  <a:pt x="0" y="0"/>
                </a:cubicBezTo>
                <a:cubicBezTo>
                  <a:pt x="0" y="0"/>
                  <a:pt x="144" y="192"/>
                  <a:pt x="144" y="19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4120" y="990720"/>
            <a:ext cx="3276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19920" y="1066680"/>
            <a:ext cx="198108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1066680"/>
            <a:ext cx="198108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2971800"/>
            <a:ext cx="2133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43600" y="2057400"/>
            <a:ext cx="2133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943600" y="988920"/>
            <a:ext cx="144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943600" y="1446120"/>
            <a:ext cx="15228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95880" y="1141200"/>
            <a:ext cx="152640" cy="30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1143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1600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1981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19920" y="1293480"/>
            <a:ext cx="1440" cy="765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19920" y="1295280"/>
            <a:ext cx="457200" cy="1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77120" y="1295280"/>
            <a:ext cx="1440" cy="7621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2057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2057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10280" y="2057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utron energy (M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1143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6200000">
            <a:off x="5182560" y="1446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2908440"/>
            <a:ext cx="1905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9240" y="29764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596 keV, 74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81080" y="4581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608 keV, 74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357336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834 keV, 72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40000" y="6165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(k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7485840" y="3955320"/>
            <a:ext cx="15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86560" y="4076640"/>
            <a:ext cx="1081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Times New Roman"/>
              </a:rPr>
              <a:t>1039 keV, 70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340000" y="4866840"/>
            <a:ext cx="712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-ray energy spectrum after tracking (mgt)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t distribution on 1 –5 MeV neutrons 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932360" cy="518328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4932360" y="2133720"/>
            <a:ext cx="3814560" cy="2754000"/>
            <a:chOff x="4932360" y="2133720"/>
            <a:chExt cx="3814560" cy="2754000"/>
          </a:xfrm>
        </p:grpSpPr>
        <p:sp>
          <p:nvSpPr>
            <p:cNvPr id="399" name=""/>
            <p:cNvSpPr/>
            <p:nvPr/>
          </p:nvSpPr>
          <p:spPr>
            <a:xfrm>
              <a:off x="8049240" y="4052160"/>
              <a:ext cx="6962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59120" y="4052160"/>
              <a:ext cx="68976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4320" y="4052160"/>
              <a:ext cx="69480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74200" y="4052160"/>
              <a:ext cx="68976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32360" y="4052160"/>
              <a:ext cx="10418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 or es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49240" y="3516120"/>
              <a:ext cx="6962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59120" y="3516120"/>
              <a:ext cx="689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64320" y="3516120"/>
              <a:ext cx="6948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74200" y="3516120"/>
              <a:ext cx="68976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32360" y="3516120"/>
              <a:ext cx="10418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– θc or efir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49240" y="3162960"/>
              <a:ext cx="696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59120" y="3162960"/>
              <a:ext cx="68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64320" y="3162960"/>
              <a:ext cx="6948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74200" y="3162960"/>
              <a:ext cx="689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2360" y="3162960"/>
              <a:ext cx="10418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efir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49240" y="2807640"/>
              <a:ext cx="69624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59120" y="2807640"/>
              <a:ext cx="68976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64320" y="2807640"/>
              <a:ext cx="69480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74200" y="2807640"/>
              <a:ext cx="68976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32360" y="2807640"/>
              <a:ext cx="1041840" cy="3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θg - θ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049240" y="2133720"/>
              <a:ext cx="6962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1 MeV gam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59120" y="2133720"/>
              <a:ext cx="6897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u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64320" y="2133720"/>
              <a:ext cx="6948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ea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834 ke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74200" y="2133720"/>
              <a:ext cx="6897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32360" y="2133720"/>
              <a:ext cx="10418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32360" y="2133720"/>
              <a:ext cx="3813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32360" y="2807640"/>
              <a:ext cx="381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32360" y="3162960"/>
              <a:ext cx="381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32360" y="3516120"/>
              <a:ext cx="3813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32360" y="4052160"/>
              <a:ext cx="3813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32360" y="4886640"/>
              <a:ext cx="38134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32360" y="2133720"/>
              <a:ext cx="1080" cy="27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74200" y="2133720"/>
              <a:ext cx="144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64320" y="2133720"/>
              <a:ext cx="144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59120" y="2133720"/>
              <a:ext cx="108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49240" y="2133720"/>
              <a:ext cx="144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745840" y="2133720"/>
              <a:ext cx="1080" cy="27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419640" y="2421000"/>
            <a:ext cx="1081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1440" y="2349360"/>
            <a:ext cx="9349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Times New Roman"/>
              </a:rPr>
              <a:t>834 k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545840" y="4365720"/>
            <a:ext cx="51879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762200" y="4437000"/>
            <a:ext cx="59068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7640" y="5877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 (k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5400000">
            <a:off x="4203000" y="24760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59280" y="2421000"/>
            <a:ext cx="57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708280"/>
            <a:ext cx="57636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340000" y="2997360"/>
            <a:ext cx="5763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59280" y="257796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No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59280" y="285264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With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identified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-rays produced by neuton inelastic scattering on Ge isotopes by checking its direction and by the small energy it deposits in the det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n = 1-5 MeV, 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the recoil energy is included in a cluster during tracking, we can eliminate 69% of the backgro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ss of 14 % in good γ-rays from the targ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ay improve the results by  doing the selection during the trackin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 &gt; 1 should be stud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with AGATA detectors  by using a 252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a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lastic detectors for TOF of the neutr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cc0000"/>
                </a:solidFill>
                <a:uFillTx/>
                <a:latin typeface="Times New Roman"/>
              </a:rPr>
              <a:t>Conclusion and Future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3886200"/>
            <a:ext cx="806472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920" y="1112760"/>
            <a:ext cx="47527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Hittites 1650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cc"/>
                </a:solidFill>
                <a:latin typeface="Times New Roman"/>
              </a:rPr>
              <a:t>1200 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617400" y="1981080"/>
          <a:ext cx="3810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981080"/>
                    <a:ext cx="3810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456000" cy="18003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527280" cy="33116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5"/>
          <a:stretch/>
        </p:blipFill>
        <p:spPr>
          <a:xfrm>
            <a:off x="6300720" y="2133720"/>
            <a:ext cx="1079640" cy="1871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900000" y="1844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remonial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0920" y="4724280"/>
            <a:ext cx="863640" cy="6494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32360" y="752400"/>
            <a:ext cx="36003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akara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U: A.Ataç, A. Kaşkaş, S. Akkoyun, M. Şenyiğit, T. Hüyük, O.Ka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psala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U: J. Nyber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ross-sections for the n +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a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e reaction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astic scattering natGe (n,n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elastic scattering natGe (n,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85960" y="2424240"/>
            <a:ext cx="3408120" cy="322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16872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92720" y="623736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. Ljungvall, J. Nyberg, NIM A550 (2005)3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5661000"/>
            <a:ext cx="3097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. Ljungvall, J. Nyberg, NIM A546 (2005)5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15280" y="213372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Inelastic scat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88000" y="2565360"/>
            <a:ext cx="3363840" cy="9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990360"/>
            <a:ext cx="79884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Simulation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ant4 with AGATA geomet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. Allison et al. NIM A506(2003)25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. Farnea, D. Bazzacco LNL Anual Report 2003, p.15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J. Ljungvall, J. Nyberg, NIM A546 (2005)55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ant4 correction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se-height defect (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HDE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ck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GT code,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. Bazza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399096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59424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432320"/>
            <a:ext cx="761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359424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3975120"/>
            <a:ext cx="144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5240" y="4051440"/>
            <a:ext cx="144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6120" y="34416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440" y="38228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440" y="428004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5086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74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70720" y="5102280"/>
            <a:ext cx="1892160" cy="1123920"/>
          </a:xfrm>
          <a:custGeom>
            <a:avLst/>
            <a:gdLst/>
            <a:ahLst/>
            <a:rect l="l" t="t" r="r" b="b"/>
            <a:pathLst>
              <a:path w="1192" h="708">
                <a:moveTo>
                  <a:pt x="0" y="696"/>
                </a:moveTo>
                <a:cubicBezTo>
                  <a:pt x="11" y="637"/>
                  <a:pt x="36" y="455"/>
                  <a:pt x="72" y="341"/>
                </a:cubicBezTo>
                <a:cubicBezTo>
                  <a:pt x="108" y="227"/>
                  <a:pt x="160" y="22"/>
                  <a:pt x="216" y="11"/>
                </a:cubicBezTo>
                <a:cubicBezTo>
                  <a:pt x="272" y="0"/>
                  <a:pt x="360" y="198"/>
                  <a:pt x="408" y="275"/>
                </a:cubicBezTo>
                <a:cubicBezTo>
                  <a:pt x="456" y="352"/>
                  <a:pt x="473" y="424"/>
                  <a:pt x="504" y="473"/>
                </a:cubicBezTo>
                <a:cubicBezTo>
                  <a:pt x="535" y="522"/>
                  <a:pt x="549" y="534"/>
                  <a:pt x="592" y="568"/>
                </a:cubicBezTo>
                <a:cubicBezTo>
                  <a:pt x="635" y="602"/>
                  <a:pt x="687" y="657"/>
                  <a:pt x="760" y="680"/>
                </a:cubicBezTo>
                <a:cubicBezTo>
                  <a:pt x="833" y="703"/>
                  <a:pt x="960" y="700"/>
                  <a:pt x="1032" y="704"/>
                </a:cubicBezTo>
                <a:cubicBezTo>
                  <a:pt x="1104" y="708"/>
                  <a:pt x="1159" y="704"/>
                  <a:pt x="1192" y="704"/>
                </a:cubicBezTo>
                <a:cubicBezTo>
                  <a:pt x="1192" y="704"/>
                  <a:pt x="0" y="696"/>
                  <a:pt x="0" y="69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67" idx="1"/>
          </p:cNvCxnSpPr>
          <p:nvPr/>
        </p:nvCxnSpPr>
        <p:spPr>
          <a:xfrm rot="10800000">
            <a:off x="6684120" y="5569920"/>
            <a:ext cx="1829520" cy="13068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0">
            <a:noFill/>
          </a:ln>
        </p:spPr>
      </p:cxnSp>
      <p:sp>
        <p:nvSpPr>
          <p:cNvPr id="68" name=""/>
          <p:cNvSpPr/>
          <p:nvPr/>
        </p:nvSpPr>
        <p:spPr>
          <a:xfrm>
            <a:off x="6989760" y="594036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192"/>
                </a:moveTo>
                <a:cubicBezTo>
                  <a:pt x="144" y="192"/>
                  <a:pt x="0" y="0"/>
                  <a:pt x="0" y="0"/>
                </a:cubicBezTo>
                <a:cubicBezTo>
                  <a:pt x="0" y="0"/>
                  <a:pt x="144" y="192"/>
                  <a:pt x="144" y="19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32560" y="5102280"/>
            <a:ext cx="1981080" cy="11430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32560" y="5157720"/>
            <a:ext cx="1981080" cy="108756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0" y="720"/>
                </a:moveTo>
                <a:lnTo>
                  <a:pt x="144" y="288"/>
                </a:lnTo>
                <a:lnTo>
                  <a:pt x="288" y="0"/>
                </a:lnTo>
                <a:lnTo>
                  <a:pt x="384" y="192"/>
                </a:lnTo>
                <a:lnTo>
                  <a:pt x="480" y="480"/>
                </a:lnTo>
                <a:lnTo>
                  <a:pt x="576" y="624"/>
                </a:lnTo>
                <a:lnTo>
                  <a:pt x="768" y="672"/>
                </a:lnTo>
                <a:lnTo>
                  <a:pt x="1056" y="720"/>
                </a:lnTo>
                <a:lnTo>
                  <a:pt x="1152" y="720"/>
                </a:lnTo>
                <a:lnTo>
                  <a:pt x="1248" y="7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56240" y="6093000"/>
            <a:ext cx="2133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456240" y="5024520"/>
            <a:ext cx="1800" cy="10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56240" y="5481720"/>
            <a:ext cx="1526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608880" y="5176800"/>
            <a:ext cx="15228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1160" y="5178600"/>
            <a:ext cx="249120" cy="46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5638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42040" y="5864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46960" y="6016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532560" y="5329080"/>
            <a:ext cx="1440" cy="765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32560" y="5330880"/>
            <a:ext cx="45720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5334120"/>
            <a:ext cx="1800" cy="7617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27640" y="6093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94680" y="6093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5695200" y="54820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3500280"/>
            <a:ext cx="6480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First step: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 MeV neutrons on 74Ge (with and without PHDE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96 keV from the center of Ag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iteri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small energy deposition produced by neu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the gam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638172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eutron Energy (Me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410080"/>
            <a:ext cx="49532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ond step: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 – 5 MeV neutrons on nat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5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n, 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915400" cy="4238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umber of interaction points in 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ter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1738440"/>
            <a:ext cx="803160" cy="2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276720"/>
            <a:ext cx="1989360" cy="234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96 keV g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809880"/>
            <a:ext cx="1951200" cy="3081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 MeV neu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676160" y="4114800"/>
            <a:ext cx="990360" cy="4572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523880" y="3581280"/>
            <a:ext cx="317520" cy="424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197000"/>
            <a:ext cx="1152720" cy="1079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271600"/>
            <a:ext cx="419400" cy="565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1773360"/>
            <a:ext cx="6984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23640" y="1413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08000" y="1482480"/>
            <a:ext cx="199080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95640" y="1195560"/>
            <a:ext cx="138240" cy="21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1484280"/>
            <a:ext cx="314280" cy="189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828800"/>
            <a:ext cx="2438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91628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34136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284640"/>
            <a:ext cx="158436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9079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18840" y="1295280"/>
            <a:ext cx="136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1752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-211320" y="28782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6400800"/>
            <a:ext cx="38098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interac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91120" y="1981080"/>
            <a:ext cx="38088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267080" y="1600200"/>
            <a:ext cx="3049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1280" y="1447920"/>
            <a:ext cx="4500720" cy="4303440"/>
          </a:xfrm>
          <a:prstGeom prst="rect">
            <a:avLst/>
          </a:prstGeom>
          <a:ln w="9360">
            <a:solidFill>
              <a:srgbClr val="008000"/>
            </a:solidFill>
            <a:round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480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il Energ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astic scattering of 1- 5 MeV neutrons on Ge isoto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46560" y="1700280"/>
            <a:ext cx="3457800" cy="3527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53080" y="141300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N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573408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Ge recoil energy Erec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979440" y="3721320"/>
            <a:ext cx="106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828800"/>
            <a:ext cx="838080" cy="138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6666ff"/>
                </a:solidFill>
                <a:latin typeface="Times New Roman"/>
              </a:rPr>
              <a:t>2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66cc"/>
                </a:solidFill>
                <a:latin typeface="Times New Roman"/>
              </a:rPr>
              <a:t>3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4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Times New Roman"/>
              </a:rPr>
              <a:t>5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2860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2514600"/>
            <a:ext cx="2286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2819520"/>
            <a:ext cx="2286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048120"/>
            <a:ext cx="2286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248360" cy="4178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il Energy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elastic scattering of 1- 5 MeV neutrons on nat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09588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61722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274320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1 M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895480"/>
            <a:ext cx="1067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60199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31240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6095880"/>
            <a:ext cx="228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8375400" y="419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3048120"/>
            <a:ext cx="380880" cy="14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3276720"/>
            <a:ext cx="380880" cy="144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81280"/>
            <a:ext cx="380880" cy="1800"/>
          </a:xfrm>
          <a:prstGeom prst="line">
            <a:avLst/>
          </a:prstGeom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3809880"/>
            <a:ext cx="38088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038480"/>
            <a:ext cx="38124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12408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20040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60880" y="3876840"/>
            <a:ext cx="16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886200"/>
            <a:ext cx="16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124080"/>
            <a:ext cx="838080" cy="11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6666ff"/>
                </a:solidFill>
                <a:latin typeface="Times New Roman"/>
              </a:rPr>
              <a:t>2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ff66cc"/>
                </a:solidFill>
                <a:latin typeface="Times New Roman"/>
              </a:rPr>
              <a:t>3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4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8000"/>
                </a:solidFill>
                <a:latin typeface="Times New Roman"/>
              </a:rPr>
              <a:t>5 M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81240" y="2492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2971800"/>
            <a:ext cx="228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4500720" cy="4174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23880" y="2209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2096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684072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mma-ray spectra after tracking (mg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e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trons on 74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ph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1484280"/>
            <a:ext cx="15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67640" y="242100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1989000"/>
            <a:ext cx="577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67640" y="155736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44000" y="2276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172360" y="1773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66160" y="141300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56720" y="1989000"/>
            <a:ext cx="144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2565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74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5157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9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157720"/>
            <a:ext cx="4316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16416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6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2852640"/>
            <a:ext cx="86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4336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31543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380196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45943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517032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630864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 = number of interaction poi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91280" y="1628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12682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09680" y="518148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96 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1066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533412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343400"/>
            <a:ext cx="7621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42900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514600"/>
            <a:ext cx="914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523880"/>
            <a:ext cx="685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609480"/>
            <a:ext cx="8384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880920"/>
            <a:ext cx="914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 k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304920"/>
            <a:ext cx="1981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eV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utrons on 74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ph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1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of the first and second interaction points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utrons and gammas  on 74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136000" cy="4896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403280" y="2349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1 MeV neu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2480" y="306864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546200" y="2781360"/>
            <a:ext cx="434880" cy="216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66920" y="3357720"/>
            <a:ext cx="434880" cy="28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6376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Times New Roman"/>
              </a:rPr>
              <a:t>1 MeV neut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229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596 keV gam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401840" y="5013360"/>
            <a:ext cx="434880" cy="287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409840" y="5516640"/>
            <a:ext cx="147600" cy="217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654840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nergy (ke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01880" y="493488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2492280"/>
            <a:ext cx="194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 = 2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35640" y="4653000"/>
            <a:ext cx="1368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 = 3 -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3733920"/>
            <a:ext cx="20520" cy="25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yse</dc:creator>
  <dc:description/>
  <dc:language>en-US</dc:language>
  <cp:lastModifiedBy>ayse</cp:lastModifiedBy>
  <dcterms:modified xsi:type="dcterms:W3CDTF">2008-07-07T13:27:54Z</dcterms:modified>
  <cp:revision>32</cp:revision>
  <dc:subject/>
  <dc:title>1 MeV Neutrons on 74Ge Eth = 5keV</dc:title>
</cp:coreProperties>
</file>