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13E-622B-40D6-9386-7D4DC7A2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A0F-C893-4476-AB33-739E5197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0A0-78FD-4C25-ABBC-F986E0B0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F1F-2509-45DA-B83F-22DDC9D9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66AD-DC96-40A7-AC10-C9B70495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68D0-D796-45D0-BC4C-562D6795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95A1-BD06-4F17-8B51-6940BE64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0385-47EA-4C04-B3AD-FC814039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749E-8D4B-4057-B3D2-6DD3A1D3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0E55-4768-4E28-A431-23EF199D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284A-C0A1-4BAF-BE63-122781E8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910-534C-42F1-BE14-907A90D2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5A23-144E-4232-B6EE-116CC374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8C79-3506-456E-9CBA-744E7F4D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6ED0-D4B0-47D1-8781-80658A51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9954-3603-4F84-98DF-55F5DEC5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44F5-5103-4C29-B0EB-5E5B6F889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E8D-00FA-4EA4-A38C-49A994C6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EF6-82F8-4ED2-9F8C-396C8590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CF09-326C-4C98-9A36-5904ACFB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A514-517A-477F-842B-718EC7F5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2EE-4170-437F-98CB-2B0350F4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6537-E128-4F6E-9456-4B458AAE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78A5-0486-4328-85A9-D3D594CD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360" y="0"/>
            <a:ext cx="9144360" cy="6615000"/>
            <a:chOff x="-360" y="0"/>
            <a:chExt cx="9144360" cy="661500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658280" y="6324480"/>
              <a:ext cx="914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flipH="1">
              <a:off x="-360" y="65530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10480" y="6553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1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215640" y="6582960"/>
            <a:ext cx="1904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176200" y="6582960"/>
            <a:ext cx="5305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218080" y="6581520"/>
            <a:ext cx="925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3116-4898-496D-90C2-8C255BB83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>
            <a:lum bright="6000"/>
          </a:blip>
          <a:srcRect l="0" t="2447" r="0" b="1224"/>
          <a:stretch/>
        </p:blipFill>
        <p:spPr>
          <a:xfrm>
            <a:off x="684360" y="1239840"/>
            <a:ext cx="7853040" cy="4995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215640" y="6582960"/>
            <a:ext cx="1904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5"/>
          </p:nvPr>
        </p:nvSpPr>
        <p:spPr>
          <a:xfrm>
            <a:off x="2176200" y="6582960"/>
            <a:ext cx="5305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6"/>
          </p:nvPr>
        </p:nvSpPr>
        <p:spPr>
          <a:xfrm>
            <a:off x="8218080" y="6581520"/>
            <a:ext cx="92556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8485-2963-421F-B65E-CA8175915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360" y="0"/>
            <a:ext cx="9144360" cy="6615000"/>
            <a:chOff x="-360" y="0"/>
            <a:chExt cx="9144360" cy="661500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7658280" y="6324480"/>
              <a:ext cx="9144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 flipH="1">
              <a:off x="-360" y="6553080"/>
              <a:ext cx="754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610480" y="6553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118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380520" y="75960"/>
            <a:ext cx="8396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660680" y="2847960"/>
            <a:ext cx="55512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S-G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8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Habe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4558" r="92160" b="0"/>
          <a:stretch/>
        </p:blipFill>
        <p:spPr>
          <a:xfrm>
            <a:off x="7816680" y="0"/>
            <a:ext cx="12099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87520" y="1951200"/>
            <a:ext cx="581652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8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Habe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170200" y="232560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7324560" y="2491920"/>
            <a:ext cx="78912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55720" y="4500720"/>
            <a:ext cx="579240" cy="10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00" y="42670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nk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0" y="2766960"/>
            <a:ext cx="109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9640" y="3392640"/>
            <a:ext cx="593640" cy="46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60720" y="2519280"/>
            <a:ext cx="2052720" cy="4748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4560480" y="2965320"/>
            <a:ext cx="2940120" cy="226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310360" y="2906280"/>
            <a:ext cx="2039760" cy="126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160680" y="2833200"/>
            <a:ext cx="1328760" cy="22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3520" y="282240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eferen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24920" y="391788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 s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25800" y="5006880"/>
            <a:ext cx="14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s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onitor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60" y="5710320"/>
            <a:ext cx="10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ic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ttons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092240" y="5895720"/>
            <a:ext cx="395280" cy="122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37120" y="2625840"/>
            <a:ext cx="468360" cy="25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29160" y="2637000"/>
            <a:ext cx="728640" cy="25704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66840" y="4321080"/>
            <a:ext cx="4038480" cy="1922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88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Habe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7600" y="1417680"/>
            <a:ext cx="2981520" cy="261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146040" y="1474920"/>
            <a:ext cx="18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rend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6h his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f all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657680" y="2494080"/>
            <a:ext cx="4361040" cy="28130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657600" y="277164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lling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2440" y="3995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etector ic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421080" y="2600280"/>
            <a:ext cx="923760" cy="2114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96920" y="4317840"/>
            <a:ext cx="495360" cy="1495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88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Habe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24680" y="1851120"/>
            <a:ext cx="67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ing sta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tector is select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: elapsed filling time is displa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766680" y="2263680"/>
            <a:ext cx="11160" cy="2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41680" y="303840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9040" y="2787480"/>
            <a:ext cx="23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tector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position in the arra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357440" y="3117960"/>
            <a:ext cx="9874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16480" y="288288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N2 filling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7180200" y="2660760"/>
            <a:ext cx="1019160" cy="1209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15240" y="3772080"/>
            <a:ext cx="253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rystal tempera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creasing (&gt; X °C/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 temperature al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30480" y="3820680"/>
            <a:ext cx="36828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43920" y="3962520"/>
            <a:ext cx="344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atus le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ack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power supplies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range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t least high voltage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reen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 power supplies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d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a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4299120" y="3944520"/>
            <a:ext cx="27288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8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Habe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135160" y="1982880"/>
            <a:ext cx="4872240" cy="4525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57360" y="357840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7960" y="3160800"/>
            <a:ext cx="130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tail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97240" y="2112840"/>
            <a:ext cx="495360" cy="927360"/>
          </a:xfrm>
          <a:prstGeom prst="ellipse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78040" y="1614600"/>
            <a:ext cx="26028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04560" y="132408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gh voltage / Low voltage / Auto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71760" y="1693800"/>
            <a:ext cx="463680" cy="6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4320" y="13460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lect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749640" y="2913120"/>
            <a:ext cx="74628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03200" y="274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a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80" y="6491160"/>
            <a:ext cx="157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.Haberm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8600" y="2530440"/>
            <a:ext cx="7251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urrent version (0.8) needs some bugfixes for tests in LNL (week 2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o d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arm notifications (sms/ma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abase conn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07:11:28Z</dcterms:created>
  <dc:creator>Kerstin Schiebel</dc:creator>
  <dc:description/>
  <dc:language>en-US</dc:language>
  <cp:lastModifiedBy>Engert</cp:lastModifiedBy>
  <cp:lastPrinted>2002-09-19T14:00:30Z</cp:lastPrinted>
  <dcterms:modified xsi:type="dcterms:W3CDTF">2008-07-09T15:17:18Z</dcterms:modified>
  <cp:revision>19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06057314</vt:r8>
  </property>
  <property fmtid="{D5CDD505-2E9C-101B-9397-08002B2CF9AE}" pid="3" name="_AuthorEmail">
    <vt:lpwstr>T.Habermann@gsi.de</vt:lpwstr>
  </property>
  <property fmtid="{D5CDD505-2E9C-101B-9397-08002B2CF9AE}" pid="4" name="_AuthorEmailDisplayName">
    <vt:lpwstr>Habermann, Tobias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