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2154-DF76-468E-B12D-7E4133C6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4360" y="403596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9237-CB27-44AE-9258-9A54F407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436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704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A6A-890B-48A0-9CD2-535F2662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2360" y="162864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0000" y="162864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4360" y="403596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2360" y="403596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0000" y="4035960"/>
            <a:ext cx="25023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394-510E-440D-B52C-71C35497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566-C864-414B-80B8-8292F7B6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DB2-9335-43DA-9EC6-609F1AF7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A15A-FA17-4669-80A7-7201F046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E7E-0D7D-4415-BD08-633B798C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16000" y="-360"/>
            <a:ext cx="70200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024-7266-4980-8D83-6FC8F1D0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6D7-F875-4F20-86B8-9BF3D9CA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7040" y="403596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445A-6C40-4BCD-8DA6-37BBCC7C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7040" y="1628640"/>
            <a:ext cx="37926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4360" y="4035960"/>
            <a:ext cx="77724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BA2A-FF16-45D9-89E5-45E30159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ifj.edu.pl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2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628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2627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4108-453F-45A4-B78A-713264EBC627}" type="datetime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A. Czerm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3640" y="6552720"/>
            <a:ext cx="4897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D170-D31B-4158-A386-31B9D72C21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89000"/>
            <a:ext cx="9143640" cy="1008000"/>
            <a:chOff x="0" y="189000"/>
            <a:chExt cx="9143640" cy="1008000"/>
          </a:xfrm>
        </p:grpSpPr>
        <p:grpSp>
          <p:nvGrpSpPr>
            <p:cNvPr id="6" name=""/>
            <p:cNvGrpSpPr/>
            <p:nvPr/>
          </p:nvGrpSpPr>
          <p:grpSpPr>
            <a:xfrm>
              <a:off x="294840" y="292320"/>
              <a:ext cx="721440" cy="454680"/>
              <a:chOff x="294840" y="292320"/>
              <a:chExt cx="721440" cy="454680"/>
            </a:xfrm>
          </p:grpSpPr>
          <p:sp>
            <p:nvSpPr>
              <p:cNvPr id="7" name=""/>
              <p:cNvSpPr/>
              <p:nvPr/>
            </p:nvSpPr>
            <p:spPr>
              <a:xfrm>
                <a:off x="294840" y="292320"/>
                <a:ext cx="443880" cy="4546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83280" y="292320"/>
                <a:ext cx="333000" cy="454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420480" y="696600"/>
              <a:ext cx="748440" cy="454680"/>
              <a:chOff x="420480" y="696600"/>
              <a:chExt cx="748440" cy="454680"/>
            </a:xfrm>
          </p:grpSpPr>
          <p:sp>
            <p:nvSpPr>
              <p:cNvPr id="10" name=""/>
              <p:cNvSpPr/>
              <p:nvPr/>
            </p:nvSpPr>
            <p:spPr>
              <a:xfrm>
                <a:off x="420480" y="696600"/>
                <a:ext cx="427680" cy="4546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94520" y="696600"/>
                <a:ext cx="374400" cy="4546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26760"/>
              <a:ext cx="568800" cy="404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44400" y="189000"/>
              <a:ext cx="32040" cy="10080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>
              <a:off x="320760" y="975600"/>
              <a:ext cx="8822880" cy="5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" name="" descr="IFJ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85080" y="0"/>
            <a:ext cx="1258920" cy="98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71640" y="3933720"/>
            <a:ext cx="727236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dam Czerm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itute of Nuclear Physics</a:t>
            </a:r>
            <a:r>
              <a:rPr b="0" lang="pl-PL" sz="2400" spc="-1" strike="noStrike">
                <a:solidFill>
                  <a:srgbClr val="000000"/>
                </a:solidFill>
                <a:latin typeface="Comic Sans MS"/>
              </a:rPr>
              <a:t>  PAN</a:t>
            </a: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mic Sans MS"/>
              </a:rPr>
              <a:t>Krakow, 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628640"/>
            <a:ext cx="91440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tus of the Design &amp; Development of the AGAVA interface module.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_week_Uppsala 8-11 July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C72-237B-4983-95A4-5BE2BCD6AF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EFC03-9143-4F7F-BC33-9DC254DDDD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6696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GAVA – main feature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991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ME Standard</a:t>
            </a: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 module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compatible with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VXI Eurogam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AGAVA is t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he card is the carrier for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the GTS mezzanine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ard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eliver path for 151 signals from/to the GTS mezzanine to/from P1, P2 connectors and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AGAV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Front Panel</a:t>
            </a: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 – I/O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onnectors</a:t>
            </a: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 &amp; leds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Deliver 10W power @ 3.3 V to the GTS module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Also</a:t>
            </a:r>
            <a:r>
              <a:rPr b="0" lang="pl-PL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nterface to the Metronome unit and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Shark-Link module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_week_Uppsala 8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D610-1A25-4F88-BEE1-7CA47EDE19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FE1F2-6A15-4017-BF95-53C341333A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020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GB" sz="3600" spc="-1" strike="noStrike">
                <a:solidFill>
                  <a:srgbClr val="3333cc"/>
                </a:solidFill>
                <a:latin typeface="Comic Sans MS"/>
              </a:rPr>
              <a:t>AGAVA –STATUS&amp; PLANS</a:t>
            </a:r>
            <a:endParaRPr b="1" lang="en-US" sz="36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post-prototype AGAVA modules have been produced and tested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(presentations of B.</a:t>
            </a:r>
            <a:r>
              <a:rPr b="0" lang="pl-PL" sz="28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Comic Sans MS"/>
              </a:rPr>
              <a:t>Dulnu, S. Brambilla)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complete tests of the Ethernet link we nee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components and the GTS mezzanine card with the running system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acow group is ready to go to the partner’s lab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erform specific tests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plan to perform all necessary tests till the end</a:t>
            </a:r>
            <a:r>
              <a:rPr b="0" lang="pl-P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f September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_week_Uppsala 8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4B1A-540B-4C6C-85A6-981C5AC60F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1C63F-0C47-400D-BC23-ABBD89F288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67690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33cc"/>
                </a:solidFill>
                <a:latin typeface="Comic Sans MS"/>
              </a:rPr>
              <a:t>AGAVA –STATUS&amp; PLANS</a:t>
            </a:r>
            <a:endParaRPr b="1" lang="en-US" sz="39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3534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ests are planed in GANIL and LNL during this summer.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ring the second half of the yea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 plan</a:t>
            </a: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produce </a:t>
            </a: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8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 AGAVA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ule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Having the new GTS module in Crac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would significantly increase our efficiency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GATA_week_Uppsala 8-11 July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417-8F9D-40A2-A08B-F0C7BB6496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3A60F-75BC-43A7-ACF5-84E0F5DCEE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21:38:38Z</dcterms:created>
  <dc:creator>Jacek Marczewski</dc:creator>
  <dc:description/>
  <dc:language>en-US</dc:language>
  <cp:lastModifiedBy>Adam</cp:lastModifiedBy>
  <dcterms:modified xsi:type="dcterms:W3CDTF">2008-07-09T07:24:42Z</dcterms:modified>
  <cp:revision>580</cp:revision>
  <dc:subject/>
  <dc:title>Monolithic Silicon Pixel Detectors in SOI Technology</dc:title>
</cp:coreProperties>
</file>