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628B-EC9D-401B-84D8-A5770EFEE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last part of my talk, I would like to draw the attention to a problem common to any segmented detector : namely cross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reates strong energy shifts in the segment sum energy, and this proportional to the hit multiplic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s are shifted compared to singles. Three folds even more, and so on. 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analyzes the doubles, one observes that it does not simply consists of a single peak, 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sorting the two folds into all possible twofold combinations, one observes that the centroids of these peaks are individually shifting according to a regular pa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happens in the core,however there is no such offset observed as is in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thus real physics behind this phenomen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his presentation I will talk about the status and tests of the mars prototype detector following this sche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description of the detec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sts carried out on the two prototy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edicated data acquisition system based on digital scop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easurements that we have done with the detector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conclusion a preliminary result on the in beam meas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t me start with the description of the detector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24B-5B84-42F0-8612-47257D48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AFE-5376-4000-ADE7-17B103A3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C25-680D-4E7E-B780-05C4A3B8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C7FA-D9AD-4336-97CA-343F924EA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FA8-BA69-45AA-9BFD-FABC1072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205-B438-4D42-9830-3B3E7DA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C54-5EBA-4012-9AB0-7A42E0AD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C7B-27BD-4EF9-B0F2-5D826DE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577-22E9-4085-85AD-77A861CA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957E-986C-4A61-B251-3549BB9B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5AC3-5975-4117-9FF7-013CA18D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12A-21EC-40A3-A48C-25015F16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9B1B-54B5-4F94-9F46-605DFC658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8360" y="285264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racking uses segmented detectors which are characterized by x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ces are modified in shape and ampl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effects: peak shifts and resol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on and time identific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tracking need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ergi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ut als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tion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im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formation corrected by any type of xTal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574640"/>
            <a:ext cx="99072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33720" y="1409760"/>
            <a:ext cx="51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Roberto Venturelli</a:t>
            </a:r>
            <a:r>
              <a:rPr b="1" lang="en-US" sz="20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INFN Pado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Times New Roman"/>
              </a:rPr>
              <a:t>ITIS “G.Marconi”-Ve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6248520"/>
            <a:ext cx="746748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GATA week, Uppsala, July 8-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-13073" r="70705" b="0"/>
          <a:stretch/>
        </p:blipFill>
        <p:spPr>
          <a:xfrm>
            <a:off x="2362320" y="1600200"/>
            <a:ext cx="761760" cy="65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265800" y="914400"/>
            <a:ext cx="1506600" cy="203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Does xTalk influence PSA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Some experimental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9159" t="22907" r="9499" b="4804"/>
          <a:stretch/>
        </p:blipFill>
        <p:spPr>
          <a:xfrm>
            <a:off x="228600" y="1066680"/>
            <a:ext cx="4038480" cy="5410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22086" t="23650" r="6206" b="5419"/>
          <a:stretch/>
        </p:blipFill>
        <p:spPr>
          <a:xfrm>
            <a:off x="4572000" y="1066680"/>
            <a:ext cx="1981080" cy="54864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360" y="7365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5 segments of the pencil beam in order to reduce th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6491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onential distribution in the z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2971800"/>
            <a:ext cx="1752840" cy="733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AT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on first 5 segments crossed by gamma b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4603680"/>
            <a:ext cx="1752840" cy="946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ints at boundaries of segments excluded from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1174680"/>
            <a:ext cx="1752840" cy="733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eg 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 color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-100080"/>
            <a:ext cx="90676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662 keV of </a:t>
            </a:r>
            <a:r>
              <a:rPr b="1" lang="it-IT" sz="1800" spc="-1" strike="noStrike" baseline="30000">
                <a:solidFill>
                  <a:srgbClr val="333399"/>
                </a:solidFill>
                <a:latin typeface="Arial"/>
              </a:rPr>
              <a:t>137</a:t>
            </a: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10320" y="648504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70920" y="6491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9840" y="1096920"/>
            <a:ext cx="22579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me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charg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s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rcRect l="3316" t="8049" r="1272" b="22263"/>
          <a:stretch/>
        </p:blipFill>
        <p:spPr>
          <a:xfrm>
            <a:off x="2484360" y="1052640"/>
            <a:ext cx="55436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840" y="1096920"/>
            <a:ext cx="22579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grid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me adju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egments and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3316" t="8333" r="1272" b="21960"/>
          <a:stretch/>
        </p:blipFill>
        <p:spPr>
          <a:xfrm>
            <a:off x="2484360" y="1052640"/>
            <a:ext cx="5543640" cy="3174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300" t="7867" r="1299" b="21676"/>
          <a:stretch/>
        </p:blipFill>
        <p:spPr>
          <a:xfrm>
            <a:off x="2482920" y="1052640"/>
            <a:ext cx="5545080" cy="3168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9840" y="1096920"/>
            <a:ext cx="2360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djustment a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charg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ighbors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981000"/>
            <a:ext cx="8785440" cy="576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rcRect l="4258" t="9685" r="1595" b="24073"/>
          <a:stretch/>
        </p:blipFill>
        <p:spPr>
          <a:xfrm>
            <a:off x="2482920" y="1052640"/>
            <a:ext cx="5545080" cy="3168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1016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34240" y="620640"/>
            <a:ext cx="2570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82920" y="4292640"/>
          <a:ext cx="5545080" cy="2259000"/>
        </p:xfrm>
        <a:graphic>
          <a:graphicData uri="http://schemas.openxmlformats.org/drawingml/2006/table">
            <a:tbl>
              <a:tblPr/>
              <a:tblGrid>
                <a:gridCol w="2160720"/>
                <a:gridCol w="1692360"/>
                <a:gridCol w="1692000"/>
              </a:tblGrid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37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2 k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r>
                        <a:rPr b="0" lang="en-GB" sz="16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FWHM</a:t>
                      </a: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mm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Without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66ff33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4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th xTalk corr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2338560" y="6486480"/>
            <a:ext cx="59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*The FWHM are </a:t>
            </a:r>
            <a:r>
              <a:rPr b="0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not corrected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for the finite width of the collimated bea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9840" y="1096920"/>
            <a:ext cx="2360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SA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1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electronic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adjustment allo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segments and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: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mparison between PSA analysis without     and with     xTalk corr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07920"/>
            <a:ext cx="9144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effects were observed and corrected for the first time with the MARS det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. Venturelli et al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NL Annual Report 200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deeply investiga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rt Bruyn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last yea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419640" y="1743120"/>
            <a:ext cx="6008400" cy="3990960"/>
            <a:chOff x="3419640" y="1743120"/>
            <a:chExt cx="6008400" cy="39909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3419640" y="1743120"/>
              <a:ext cx="6008400" cy="399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81520" y="1994040"/>
              <a:ext cx="3227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Sum of segment Energies vs fol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4920" y="2511360"/>
            <a:ext cx="5761080" cy="4347360"/>
            <a:chOff x="34920" y="2511360"/>
            <a:chExt cx="5761080" cy="4347360"/>
          </a:xfrm>
        </p:grpSpPr>
        <p:sp>
          <p:nvSpPr>
            <p:cNvPr id="60" name=""/>
            <p:cNvSpPr/>
            <p:nvPr/>
          </p:nvSpPr>
          <p:spPr>
            <a:xfrm>
              <a:off x="295200" y="3149640"/>
              <a:ext cx="414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ffff"/>
                  </a:solidFill>
                  <a:latin typeface="Times New Roman"/>
                </a:rPr>
                <a:t>Segment sum energies projected on fo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225360" y="2776680"/>
              <a:ext cx="5391360" cy="38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58880" y="3403440"/>
              <a:ext cx="4714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2folds : </a:t>
              </a:r>
              <a:r>
                <a:rPr b="1" lang="en-US" sz="1400" spc="-1" strike="noStrike">
                  <a:solidFill>
                    <a:srgbClr val="ff0000"/>
                  </a:solidFill>
                  <a:latin typeface="Book Antiqua"/>
                </a:rPr>
                <a:t>Core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and </a:t>
              </a:r>
              <a:r>
                <a:rPr b="1" lang="en-US" sz="1400" spc="-1" strike="noStrike">
                  <a:solidFill>
                    <a:srgbClr val="00cc00"/>
                  </a:solidFill>
                  <a:latin typeface="Book Antiqua"/>
                </a:rPr>
                <a:t>Segment sum</a:t>
              </a: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 centroids vs hitpatter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8480" y="6521400"/>
              <a:ext cx="35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…</a:t>
              </a: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</a:rPr>
                <a:t>All possible 2fold combin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6200000">
              <a:off x="-555120" y="3101400"/>
              <a:ext cx="148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ook Antiqua"/>
                </a:rPr>
                <a:t>Energy [keV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76320" y="-2556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Energy effects due to x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2743" t="7602" r="1961" b="3254"/>
          <a:stretch/>
        </p:blipFill>
        <p:spPr>
          <a:xfrm>
            <a:off x="0" y="-271440"/>
            <a:ext cx="9144000" cy="748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882" t="17718" r="1458" b="26559"/>
          <a:stretch/>
        </p:blipFill>
        <p:spPr>
          <a:xfrm>
            <a:off x="1835280" y="1557360"/>
            <a:ext cx="4752720" cy="2303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052720" y="4437000"/>
            <a:ext cx="2663640" cy="289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716360" y="3860280"/>
            <a:ext cx="187164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834920" y="3860640"/>
            <a:ext cx="215640" cy="648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2728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5164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16720" y="3141720"/>
            <a:ext cx="0" cy="4316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8532720" y="692280"/>
            <a:ext cx="611280" cy="792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1964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5164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16720" y="2062080"/>
            <a:ext cx="0" cy="21600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08720" y="1484280"/>
            <a:ext cx="792360" cy="16556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935480" y="115920"/>
            <a:ext cx="84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C (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8160" y="981000"/>
            <a:ext cx="98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ff33"/>
                </a:solidFill>
                <a:latin typeface="Arial"/>
              </a:rPr>
              <a:t>NET 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66ff33"/>
                </a:solidFill>
                <a:latin typeface="Arial"/>
              </a:rPr>
              <a:t>over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240" y="0"/>
            <a:ext cx="6386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vident xTalk on traces in the detection of a cosmic ray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443560"/>
            <a:ext cx="79930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GENERAL A SIMPLE 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gative signals PULL DOWN trace amplitudes (i.e.CC influ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itive signals PULL UP trace ampl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y factors proportional to the capacitive coupling between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76500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C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ull d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mplit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t charge signal </a:t>
            </a:r>
            <a:r>
              <a:rPr b="0" lang="it-IT" sz="1800" spc="-1" strike="noStrike">
                <a:solidFill>
                  <a:srgbClr val="66ff33"/>
                </a:solidFill>
                <a:latin typeface="Arial"/>
              </a:rPr>
              <a:t>pull up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amplitudes (2</a:t>
            </a:r>
            <a:r>
              <a:rPr b="0" lang="it-IT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320" y="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 amplitudes due to xT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0" y="5311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549360"/>
            <a:ext cx="88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ue to the RAMO theorem without xTalk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egments traces) = - CC tr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GS calculation signals are produced under this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300" t="8333" r="1285" b="20457"/>
          <a:stretch/>
        </p:blipFill>
        <p:spPr>
          <a:xfrm>
            <a:off x="826920" y="1855800"/>
            <a:ext cx="7704360" cy="5029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118520" y="2421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- CC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70160" y="3354480"/>
            <a:ext cx="25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2708280"/>
            <a:ext cx="13460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3640" y="2852640"/>
            <a:ext cx="863640" cy="576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4653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mplitude differences of the order of 6-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76360" y="2011320"/>
            <a:ext cx="532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76360" y="2227320"/>
            <a:ext cx="532764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011640" y="2133720"/>
            <a:ext cx="2305080" cy="23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7000" y="60930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xperiment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320" y="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wo reci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65280"/>
            <a:ext cx="9144000" cy="3168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771" t="29525" r="48035" b="43900"/>
          <a:stretch/>
        </p:blipFill>
        <p:spPr>
          <a:xfrm>
            <a:off x="395280" y="1646280"/>
            <a:ext cx="3529080" cy="1495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rcRect l="3300" t="8049" r="1299" b="20741"/>
          <a:stretch/>
        </p:blipFill>
        <p:spPr>
          <a:xfrm>
            <a:off x="5219640" y="1008000"/>
            <a:ext cx="3816360" cy="2492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89920" y="1168560"/>
            <a:ext cx="119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alcul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4160" y="1774800"/>
            <a:ext cx="2235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Calculat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976560"/>
            <a:ext cx="9144000" cy="324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620640"/>
            <a:ext cx="74170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lculate the basis of signals for PSA with a theoretical model that include x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(Bart Bruyneel id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SA (measured,calculated &amp; corr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rrect the measured signals by the xTalk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SA (measured &amp; corrected,calcul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3316" t="8333" r="1272" b="20158"/>
          <a:stretch/>
        </p:blipFill>
        <p:spPr>
          <a:xfrm>
            <a:off x="5580000" y="4325760"/>
            <a:ext cx="3313080" cy="217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rcRect l="3300" t="8049" r="1299" b="20741"/>
          <a:stretch/>
        </p:blipFill>
        <p:spPr>
          <a:xfrm>
            <a:off x="468360" y="4329000"/>
            <a:ext cx="3311640" cy="2162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14240" y="5084640"/>
            <a:ext cx="19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63240" y="5013360"/>
            <a:ext cx="217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2160" y="4437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62080" y="4437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157720"/>
            <a:ext cx="1152360" cy="432000"/>
          </a:xfrm>
          <a:prstGeom prst="rightArrow">
            <a:avLst>
              <a:gd name="adj1" fmla="val 50000"/>
              <a:gd name="adj2" fmla="val 66688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4324" t="22941" r="1962" b="10351"/>
          <a:stretch/>
        </p:blipFill>
        <p:spPr>
          <a:xfrm>
            <a:off x="0" y="3132000"/>
            <a:ext cx="9144000" cy="2457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320" y="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 amplitudes co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60840" y="4844880"/>
            <a:ext cx="73080" cy="71640"/>
          </a:xfrm>
          <a:prstGeom prst="ellipse">
            <a:avLst/>
          </a:prstGeom>
          <a:solidFill>
            <a:srgbClr val="66ff33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6160" y="4944960"/>
            <a:ext cx="72720" cy="7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16120" y="5072040"/>
            <a:ext cx="73080" cy="7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51640" y="4068720"/>
            <a:ext cx="72720" cy="7164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0280" y="5005440"/>
            <a:ext cx="72720" cy="712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08000" y="3643200"/>
            <a:ext cx="290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ampleC i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of the segment iSe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we are corre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5280" y="3780000"/>
            <a:ext cx="72720" cy="71280"/>
          </a:xfrm>
          <a:prstGeom prst="ellipse">
            <a:avLst/>
          </a:prstGeom>
          <a:solidFill>
            <a:srgbClr val="66ff33"/>
          </a:soli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83664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very sample of the traces needs to be corrected by x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This can be done using a matrix of xTalk coefficients that represents the capacitive coupling between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atrix of xTalk coefficients is obtained </a:t>
            </a:r>
            <a:r>
              <a:rPr b="0" lang="en-GB" sz="2400" spc="-1" strike="noStrike" u="sng">
                <a:solidFill>
                  <a:srgbClr val="333399"/>
                </a:solidFill>
                <a:uFillTx/>
                <a:latin typeface="Arial"/>
              </a:rPr>
              <a:t>doing an energy analysis</a:t>
            </a: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 of photopeak events at fol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6119640"/>
            <a:ext cx="9144000" cy="76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734080"/>
            <a:ext cx="9132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orrection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sampleC[iSegm][iTime] =  </a:t>
            </a:r>
            <a:r>
              <a:rPr b="0" lang="it-IT" sz="32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xTalkCoeff[iSegm][kSegm]*sample[kSegm][iTim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640" y="64371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kSeg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320" y="0"/>
            <a:ext cx="90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s: two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fast-short component 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PSA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X,t: position and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slow-long component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MWD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E: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5908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xTalk coefficients are extracted doing an energy analysis on the slow-long component 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but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used to correct the entire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5320" y="184140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781360"/>
            <a:ext cx="172872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2781360"/>
            <a:ext cx="165708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00" y="5311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316" t="8333" r="1272" b="20457"/>
          <a:stretch/>
        </p:blipFill>
        <p:spPr>
          <a:xfrm>
            <a:off x="0" y="3429000"/>
            <a:ext cx="4572000" cy="29844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3316" t="8333" r="1272" b="20457"/>
          <a:stretch/>
        </p:blipFill>
        <p:spPr>
          <a:xfrm>
            <a:off x="4572000" y="3430440"/>
            <a:ext cx="4572000" cy="298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398240" y="4292640"/>
            <a:ext cx="19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07320" y="4221000"/>
            <a:ext cx="217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652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0616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06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|   fast-short     |        slow-long           |         |   fast-short    |        slow-long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easured event at sma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3440" y="2846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81800" y="2852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32360" y="141300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ood xTalk correction for the slow-long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 always good for the fast-short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320" y="0"/>
            <a:ext cx="90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Traces: two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fast-short component 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PSA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X,t: position and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slow-long component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MWD </a:t>
            </a:r>
            <a:r>
              <a:rPr b="1" lang="en-GB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333399"/>
                </a:solidFill>
                <a:latin typeface="ITC Bookman"/>
              </a:rPr>
              <a:t> E: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5908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xTalk coefficients is extracted doing an energy analysis on the slow-long component </a:t>
            </a:r>
            <a:r>
              <a:rPr b="0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but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used to correct the entire 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15320" y="1841400"/>
            <a:ext cx="51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5720" y="2781360"/>
            <a:ext cx="117792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22800" y="2781360"/>
            <a:ext cx="1104840" cy="374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01800" y="2846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5800" y="28526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" y="5311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0621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|fast-short|           slow-long               |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|fast-short|           slow-long              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64468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Measured event at high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316" t="8333" r="1272" b="20476"/>
          <a:stretch/>
        </p:blipFill>
        <p:spPr>
          <a:xfrm>
            <a:off x="0" y="3429000"/>
            <a:ext cx="4572000" cy="29844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rcRect l="3316" t="8333" r="1285" b="20457"/>
          <a:stretch/>
        </p:blipFill>
        <p:spPr>
          <a:xfrm>
            <a:off x="4572000" y="3429000"/>
            <a:ext cx="4572000" cy="2986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98240" y="4292640"/>
            <a:ext cx="1921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07320" y="4221000"/>
            <a:ext cx="217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measured &amp; corr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Symbol"/>
                <a:ea typeface="Symbol"/>
              </a:rPr>
              <a:t>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ff33"/>
                </a:solidFill>
                <a:latin typeface="Arial"/>
              </a:rPr>
              <a:t>(Segments trace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652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06160" y="3645000"/>
            <a:ext cx="113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measu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1413000"/>
            <a:ext cx="42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good xTalk correction for the slow-long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not always good for the fast-short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6320" y="0"/>
            <a:ext cx="9067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xTalk on P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 partial test with bidimensional collimated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measured with the “scanning table” setup at LN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00" y="9979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7926" t="13585" r="7926" b="3125"/>
          <a:stretch/>
        </p:blipFill>
        <p:spPr>
          <a:xfrm>
            <a:off x="900000" y="1341360"/>
            <a:ext cx="734544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33:44Z</dcterms:created>
  <dc:creator>ventu</dc:creator>
  <dc:description/>
  <dc:language>en-US</dc:language>
  <cp:lastModifiedBy>Roberto</cp:lastModifiedBy>
  <dcterms:modified xsi:type="dcterms:W3CDTF">2008-07-07T21:39:58Z</dcterms:modified>
  <cp:revision>37</cp:revision>
  <dc:subject/>
  <dc:title>Slide 1</dc:title>
</cp:coreProperties>
</file>