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74C0-3FD1-4965-BC43-E8E9D67F26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C245-F5FD-448D-9E83-1285250AC1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8E4A-7B0E-438D-9C8E-959C49CA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2C2B-3B4E-4DBE-97E7-D0668ACA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8C8D-E973-4977-BFA0-2F7733A0D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A0F6-1BCB-40C3-8ECE-25CCEB423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87B6-74CE-46CD-9E7E-D9B6F6E2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DED3-5F37-4480-A956-3808DC07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1FFB-53DE-471E-807E-51025276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2611-E3F8-4D5D-99C3-5104181C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497D-77E2-4C03-89EB-57F30EEA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2478-0A61-4D7D-AF36-532782B5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D8D8-26E3-45A2-BB88-10F766E7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523C-94B1-4EFD-823C-8B096443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2B5C-B503-48B9-9A62-0DF23960C6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aracterisation &amp; PSA</a:t>
            </a:r>
            <a:br>
              <a:rPr sz="44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am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verpool Status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y Boston/Matt Dimmock (Liverpo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osstalk properties of AGATA detectors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rt Bruyneel (IKP Colog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 of S003 scan data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rt Bruyneel (IKP Colog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ation of T0 calculation with RS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bio Crespi (INFN Mil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aging with two sources and how to determine position resolution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no Bazzacco (INFN Pado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ple test experiments to adjust PSA algorithms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man Gernhauser (TUM Muni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21384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re Risetimes (T3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Core_T30_R1-6.png"/>
          <p:cNvPicPr/>
          <p:nvPr/>
        </p:nvPicPr>
        <p:blipFill>
          <a:blip r:embed="rId1"/>
          <a:stretch/>
        </p:blipFill>
        <p:spPr>
          <a:xfrm>
            <a:off x="285840" y="1285920"/>
            <a:ext cx="8700840" cy="459576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2484000" y="6143760"/>
            <a:ext cx="64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details tomorrow ….  C. Unsw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GS/Experiment Comparison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0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453960" y="1357200"/>
            <a:ext cx="3971880" cy="4048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3"/>
          <a:stretch/>
        </p:blipFill>
        <p:spPr>
          <a:xfrm>
            <a:off x="4740120" y="1374840"/>
            <a:ext cx="3975120" cy="4054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"/>
          <p:cNvPicPr/>
          <p:nvPr/>
        </p:nvPicPr>
        <p:blipFill>
          <a:blip r:embed="rId4"/>
          <a:stretch/>
        </p:blipFill>
        <p:spPr>
          <a:xfrm>
            <a:off x="-142920" y="5072040"/>
            <a:ext cx="934416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rivative Crosstalk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0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rcRect l="0" t="0" r="0" b="7846"/>
          <a:stretch/>
        </p:blipFill>
        <p:spPr>
          <a:xfrm>
            <a:off x="1857240" y="1571760"/>
            <a:ext cx="50720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rivative Cross 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57240" y="1071720"/>
            <a:ext cx="915804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rivative Cross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1081080"/>
            <a:ext cx="91440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rivative Cross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8867880" cy="50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aracterisation &amp; PSA</a:t>
            </a:r>
            <a:br>
              <a:rPr sz="44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am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verpool Status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y Boston/Matt Dimmock (Liverpo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osstalk properties of AGATA detectors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rt Bruyneel (IKP Colog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 of S003 scan data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rt Bruyneel (IKP Colog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ation of T0 calculation with RS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bio Crespi (INFN Mil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aging with two sources and how to determine position resolution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no Bazzacco (INFN Pado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ple test experiments to adjust PSA algorithms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man Gernhauser (TUM Muni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aracterisation &amp; PSA</a:t>
            </a:r>
            <a:br>
              <a:rPr sz="44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ssion 12 (Thursday P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ations (Characteris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tion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y Bos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gles and Coincidence scan of c001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 Unsworth (Liverpo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us of the Orsay scanning system utilising the TIGRESS cards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 Thi Mai Hoa (CSNSM Ors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novel technique for the characterisation of a HPGe detector position resolution based on pulse shape comparison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bio Crespi  (INFN Mil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rasbourg scanning system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ancois Didierjean (IPHC Strasbour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aracterisation &amp; PSA</a:t>
            </a:r>
            <a:br>
              <a:rPr sz="44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ssion 12 (Thursday P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ations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d signal basis and tests with extensive grid search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hael Schlarb (TUM Muni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RVAL implementation of a PSA framework and a NARVAL emulation for code development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a Ljungvall (CEA Sacl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 of Legnaro data using the NARVAL implementation of the Grid Search algorithm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niele Mengoli (INFN Pado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verpool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b 08: Asymmetric detector 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ch 08: Test and repair 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6a6a6"/>
                </a:solidFill>
                <a:latin typeface="Arial"/>
              </a:rPr>
              <a:t>April 08: Resolution and x-talk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6a6a6"/>
                </a:solidFill>
                <a:latin typeface="Arial"/>
              </a:rPr>
              <a:t>May 08: Configure scann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6a6a6"/>
                </a:solidFill>
                <a:latin typeface="Arial"/>
              </a:rPr>
              <a:t>June – July 08: Scan 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6a6a6"/>
                </a:solidFill>
                <a:latin typeface="Arial"/>
              </a:rPr>
              <a:t>Late July – mid August: Scanning Lab cl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6a6a6"/>
                </a:solidFill>
                <a:latin typeface="Arial"/>
              </a:rPr>
              <a:t>Mid August – September 08: Scan 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nal Fix on c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Content Placeholder 3" descr="P3190029small.jpg"/>
          <p:cNvPicPr/>
          <p:nvPr/>
        </p:nvPicPr>
        <p:blipFill>
          <a:blip r:embed="rId1"/>
          <a:stretch/>
        </p:blipFill>
        <p:spPr>
          <a:xfrm>
            <a:off x="2852640" y="1428840"/>
            <a:ext cx="3965760" cy="5286240"/>
          </a:xfrm>
          <a:prstGeom prst="rect">
            <a:avLst/>
          </a:prstGeom>
          <a:ln w="0">
            <a:noFill/>
          </a:ln>
        </p:spPr>
      </p:pic>
      <p:sp>
        <p:nvSpPr>
          <p:cNvPr id="58" name="Oval 3"/>
          <p:cNvSpPr/>
          <p:nvPr/>
        </p:nvSpPr>
        <p:spPr>
          <a:xfrm>
            <a:off x="5786280" y="1643040"/>
            <a:ext cx="1571760" cy="1500120"/>
          </a:xfrm>
          <a:prstGeom prst="ellipse">
            <a:avLst/>
          </a:prstGeom>
          <a:noFill/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verpool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6a6a6"/>
                </a:solidFill>
                <a:latin typeface="Arial"/>
              </a:rPr>
              <a:t>Feb 08: Asymmetric detector 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6a6a6"/>
                </a:solidFill>
                <a:latin typeface="Arial"/>
              </a:rPr>
              <a:t>March 08: Test and repair 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ril 08: Resolution and x-talk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08: Configure scann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ne – July 08: Scan 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te July – mid August: Scanning Lab cl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d August – September 08: Scan 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ymmetric sca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13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s Singles front face &amp; side s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incidence scan - fr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4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 front face &amp; side s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ector al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tion of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 x-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ood measurement with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6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rief update since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. Dimmock – PhD thesis i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isting GRT cards – last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issioning GRETINA digitise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w slides to indicate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001 scan … i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ison of MGS/Experiment s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fferential Crosstalk s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001 singles intensity@662k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Intensity_R1-6.png"/>
          <p:cNvPicPr/>
          <p:nvPr/>
        </p:nvPicPr>
        <p:blipFill>
          <a:blip r:embed="rId2"/>
          <a:stretch/>
        </p:blipFill>
        <p:spPr>
          <a:xfrm>
            <a:off x="428760" y="1500120"/>
            <a:ext cx="81565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4:33:26Z</dcterms:created>
  <dc:creator>FSC</dc:creator>
  <dc:description/>
  <dc:language>en-US</dc:language>
  <cp:lastModifiedBy> Andy Boston</cp:lastModifiedBy>
  <dcterms:modified xsi:type="dcterms:W3CDTF">2008-07-09T13:54:12Z</dcterms:modified>
  <cp:revision>160</cp:revision>
  <dc:subject/>
  <dc:title>Slide 1</dc:title>
</cp:coreProperties>
</file>