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700-EE0A-4BC9-8E8A-264FC6245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277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F0DD-E820-4497-9991-9A9B3C18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2133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277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277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78F-B3E0-411E-AF72-478F41ABA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2133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213336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277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277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277880"/>
            <a:ext cx="25023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577-0630-4175-A03E-6B8E9D84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21333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326-3CFB-47EB-968F-C2213D46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CF59-308D-4D86-96DC-AA16AC58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21333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36E-C538-4569-B184-E5FBE89C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76E-637C-4A7B-9190-D99D0909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284720" y="475920"/>
            <a:ext cx="468000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05D-FA4F-4D80-A9E8-EABF3541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21333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277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0A5-79E6-442B-8C25-6D8237C1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92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2133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27788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E373-B79F-4D6F-80CD-5D766013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2133360"/>
            <a:ext cx="3792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277880"/>
            <a:ext cx="77724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DE4-B0D5-4F3C-A4D6-F5E9FC9F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21333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7DF8-4ADA-4DFB-AEF3-7D996D27B2A0}" type="slidenum">
              <a:rPr b="0" lang="en-US" sz="14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162920" cy="151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Sans"/>
              </a:rPr>
              <a:t>AGATA Pre-processing team report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AGATA Week, July 2008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igitized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ptically-transmit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d pre-processed AGATA trac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8520" r="0" b="7376"/>
          <a:stretch/>
        </p:blipFill>
        <p:spPr>
          <a:xfrm>
            <a:off x="179280" y="1208160"/>
            <a:ext cx="8859960" cy="558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02920" y="160488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y 28, 2008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esting pre-production card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136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M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rrier and 2 segment mezzanines available for test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igitiser set up in Padova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Last week of M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first traces with pulser through digitiser and pre-processing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June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Investigate the 2 “unusual” trac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nd June-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Taking spectra with 1 segment card (6 ch) on 1 carrier using AGATA detector and digitiser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arly July (now)-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onnect 2 carrier cards and exchange trigger data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End July 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build up to full configuration (2 carrier cards, 6 segment cards, 1 core card, 1 GTS) for tests with 1 crystal and full digitiser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gress since last AGATA week- fixing problem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5840" y="1844280"/>
            <a:ext cx="396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Fast serial- parallel readout mezzanine to carrier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ynchronisation problems fixed- now working at full speed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Intermittent connection to carrier DPRAM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Used to test JTAG (blind test- found faulty pin)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Discussions held with assembly company to prevent recurrence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Trace corruption seen in first result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Tracked down to a VHDL error- now fixed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Resulted in stringent jitter testing and improvements to mezzanines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24360" y="1785960"/>
            <a:ext cx="4970520" cy="4829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89920" y="6453360"/>
            <a:ext cx="350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Lucida Sans"/>
              </a:rPr>
              <a:t>Plot from INFN Padova and CSNSM Orsay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adiness for Tests with Triple cluster in Octobe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6040" y="2782800"/>
          <a:ext cx="8869680" cy="35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2782800"/>
                    <a:ext cx="886968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st Saving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Investigated using slower (cheaper) FPGAs on the mezzanines. Decided against this due to risk and also revised FPGA pricing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FPGA- Xilinx assisted pricing obtained. About 30% savings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Cut out segment offset fibres for LNL phase (€10k saving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unding for production ru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209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rrier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2 pre-production + 5 cards funded from Italy, built in Italy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Remaining 34 cards (including 3 spares) will be built in France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Cost €178k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ome funds available in France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Missing funds coming from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Germany  (FPGA order) (</a:t>
            </a:r>
            <a:r>
              <a:rPr b="0" lang="en-GB" sz="1400" spc="-1" strike="noStrike">
                <a:solidFill>
                  <a:srgbClr val="00ff00"/>
                </a:solidFill>
                <a:latin typeface="Lucida Sans"/>
              </a:rPr>
              <a:t>complete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Sweden funds transfer plus orders for PCBs and other FPGAs (</a:t>
            </a:r>
            <a:r>
              <a:rPr b="0" lang="en-GB" sz="1400" spc="-1" strike="noStrike">
                <a:solidFill>
                  <a:srgbClr val="ff9900"/>
                </a:solidFill>
                <a:latin typeface="Lucida Sans"/>
              </a:rPr>
              <a:t>not complete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ore and segment mezzanine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All 140 (108 segment + 18 core + spares) will be built in France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Cost €310k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ome funds available in France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Missing funds coming from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Germany (FPGA Order) </a:t>
            </a:r>
            <a:r>
              <a:rPr b="0" lang="en-GB" sz="1400" spc="-1" strike="noStrike">
                <a:solidFill>
                  <a:srgbClr val="00ff00"/>
                </a:solidFill>
                <a:latin typeface="Lucida Sans"/>
              </a:rPr>
              <a:t>(complete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Loan from GANIL (EXOGAM) against future funds transfer, </a:t>
            </a:r>
            <a:r>
              <a:rPr b="0" lang="en-GB" sz="1400" spc="-1" strike="noStrike">
                <a:solidFill>
                  <a:srgbClr val="00ff00"/>
                </a:solidFill>
                <a:latin typeface="Lucida Sans"/>
              </a:rPr>
              <a:t>(loan complete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64000" y="-36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pare to planned timescal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71640" y="1236600"/>
          <a:ext cx="8137440" cy="5276880"/>
        </p:xfrm>
        <a:graphic>
          <a:graphicData uri="http://schemas.openxmlformats.org/drawingml/2006/table">
            <a:tbl>
              <a:tblPr/>
              <a:tblGrid>
                <a:gridCol w="2814480"/>
                <a:gridCol w="1541520"/>
                <a:gridCol w="1873440"/>
                <a:gridCol w="1908000"/>
              </a:tblGrid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Jan 2007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Nov 2007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July 2008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Carrier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Layout Ph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one Q1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Segment &amp; core mezzanine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Start of layout ph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one Q1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Expect to get prototypes of both by July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eliver prototypes July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elivered July 2007 (Carrier and segment mezzanine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Test prototyp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Autumn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Expected  to complete Nov.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Completed Nov- Dec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esigns final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ec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Expected  to complete Nov - Dec.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Dec 2007-Jan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Production  beginning 2008 (phased deliver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Phased, starting beginning of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Pre-production cards early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Pre-production cards delivered April/May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Pre-production tests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March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May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Build up system- test 1 clu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July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1</a:t>
                      </a:r>
                      <a:r>
                        <a:rPr b="1" lang="en-US" sz="1200" spc="-1" strike="noStrike" baseline="30000">
                          <a:solidFill>
                            <a:srgbClr val="000066"/>
                          </a:solidFill>
                          <a:latin typeface="Lucida Sans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 Phase production (triple clust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Commissioning Apr 2008 onw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Manufacture now. Commissioning July-Sept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2</a:t>
                      </a:r>
                      <a:r>
                        <a:rPr b="1" lang="en-US" sz="1200" spc="-1" strike="noStrike" baseline="30000">
                          <a:solidFill>
                            <a:srgbClr val="000066"/>
                          </a:solidFill>
                          <a:latin typeface="Lucida Sans"/>
                        </a:rPr>
                        <a:t>nd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 Phase production (5 triple cluste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Ready now- depends on funds. End 2008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VHDL and softw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66"/>
                          </a:solidFill>
                          <a:latin typeface="Lucida Sans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 Release Autumn 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66"/>
                          </a:solidFill>
                          <a:latin typeface="Lucida Sans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Lucida Sans"/>
                        </a:rPr>
                        <a:t> Release Autumn 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Lucida Grand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1187280" y="6461280"/>
            <a:ext cx="6769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* Core mezzanine prototype assembly was delayed until tests were complete on segment mezzanine. </a:t>
            </a: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"/>
              </a:rPr>
              <a:t>Designs were ready for delivery in July 2007 if required. </a:t>
            </a:r>
            <a:endParaRPr b="0" lang="en-US" sz="1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Timescales are tight but with continued hard work the triple cluster test date Oct 2008 is achievable (but there is no schedule contingency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Funding has been a big problem- its in the wrong place and significant effort has been diverted into moving it to where it can be used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Bigger spend on travel than expected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uge amount of work by the whole pre-processing team: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Long periods spent away from home by some people working in Padua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Long hours were worked over the last 18 months by some members of the pre-processing team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Significant progress has been made with end to end tests, but we’ve still got more to do so we need to keep up or even increase the effort.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24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"/>
              </a:rPr>
              <a:t>Thank you</a:t>
            </a: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 to the pre-processing team for their very hard work!</a:t>
            </a:r>
            <a:endParaRPr b="0" lang="en-US" sz="32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Overview of tal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8064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The team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Progress on carrier 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Progress on mezzanin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Some problems fixed since AGATA week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Readiness for triple cluster tests (October)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Financ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Timescales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Conclusion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4720" y="475920"/>
            <a:ext cx="4680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minder of team and responsibiliti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IPN Orsay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arrier VHDL design (FPGA2- trigger distribution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arrier VHDL production code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arrier commissioning (production run of 34 cards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Original carrier design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INFN Padua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arrier rework (prototype and pre-production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arrier VHDL (release 0 for initial tests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arrier VHDL (FPGA 0- data readout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Delivery of 6 tested carriers for October tests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GTS Mezzanine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CSNSM Orsay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Segment mezzanine (hardware and VHDL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Core mezzanine (hardware and VHDL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Production run of core and segment mezzanines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IPHC Strasbourg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Supply of MWD code for use in core and segment mezzanines in “black box” format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STFC RAL and LPC CAEN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VHDL code for carrier readout (PCIe and proprietry “FASTER” protocols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Lucida Sans"/>
              </a:rPr>
              <a:t>Team size 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Lucida Sans"/>
              </a:rPr>
              <a:t>On average between 10 and 15 people are working on this project at the moment.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11640" y="188640"/>
            <a:ext cx="4751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gress since last AGATA week- Carrier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95640" y="1557000"/>
            <a:ext cx="44611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Lucida Sans"/>
              </a:rPr>
              <a:t>Carrier rework</a:t>
            </a:r>
            <a:endParaRPr b="0" lang="en-US" sz="2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ommissioning of prototype finished November 2007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small revisions made to PCB layout Dec07/Jan08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-production version manufactured. Delivered early April 2008 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pre-production version commissioned April; ready to use May 2008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786120" cy="3960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18320" y="616572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Lucida Sans"/>
              </a:rPr>
              <a:t>Photo- INFN Padova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11640" y="188640"/>
            <a:ext cx="4751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gress since last AGATA week- Carrie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5640" y="1557000"/>
            <a:ext cx="44611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JTAG test code written (R.Matson, RAL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VHDL code development (Orsay and Padua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Lucida Sans"/>
              </a:rPr>
              <a:t>Test system set-up (Orsay)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Lucida Sans"/>
              </a:rPr>
              <a:t>Carrier production run.</a:t>
            </a:r>
            <a:endParaRPr b="0" lang="en-US" sz="24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5 cards from Padua- PCB received, assembly started (due end July)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Remaining cards (Orsay)- purchasing started. Problems with location of funding being resolved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441600" cy="3600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8320" y="616572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Lucida Sans"/>
              </a:rPr>
              <a:t>Photo- INFN Padova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gress since last AGATA week- Mezzan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2324160"/>
            <a:ext cx="2309760" cy="1693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920" y="4124160"/>
            <a:ext cx="2320920" cy="182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338560" y="2252520"/>
            <a:ext cx="2601720" cy="1749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338560" y="4200480"/>
            <a:ext cx="2592360" cy="1722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2131560"/>
            <a:ext cx="446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Segment and Core Mezzanine rework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Commissioning of prototype v2.0 finished December 2007.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small revisions made to PCB layout Dec07/Jan08 (v2.0 to v2.1)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Final v2.0 prototype tests on carrier using BERT to validate high speed links Feb 2008 Padua.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Pre-production version (v2.1) manufacturing started Feb 2008, Delivered April 2008 (3x core), May 2008 (10x segment) 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Commissioning for 1</a:t>
            </a:r>
            <a:r>
              <a:rPr b="0" lang="en-US" sz="1400" spc="-1" strike="noStrike" baseline="30000">
                <a:solidFill>
                  <a:srgbClr val="000066"/>
                </a:solidFill>
                <a:latin typeface="Lucida Sans"/>
              </a:rPr>
              <a:t>st</a:t>
            </a: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 pre-production version (v2.1) segment cards completed mid-May 2008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Lucida Sans"/>
              </a:rPr>
              <a:t>pre-production version (v2.1) commissioning for core and 4 more segment cards due for completion end July 2008.</a:t>
            </a:r>
            <a:endParaRPr b="0" lang="en-US" sz="14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2" name=""/>
          <p:cNvSpPr/>
          <p:nvPr/>
        </p:nvSpPr>
        <p:spPr>
          <a:xfrm>
            <a:off x="450360" y="616572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Lucida Sans"/>
              </a:rPr>
              <a:t>Photos- CSNSM Orsay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rogress since last AGATA week- Mezzanin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8000" y="2179800"/>
            <a:ext cx="2309760" cy="16938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3979800"/>
            <a:ext cx="2320920" cy="1825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2411280" y="2108160"/>
            <a:ext cx="2602080" cy="1749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411280" y="4056120"/>
            <a:ext cx="2592360" cy="1722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0" y="2204640"/>
            <a:ext cx="446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Core and segment mezzanine production run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Despite successful February BERT tests, some improvements to MGT clock jitter have been found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Power supplies and clock routing are being modified before the full production run.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Lucida Sans"/>
              </a:rPr>
              <a:t>Modifications tested on pre-production cards</a:t>
            </a:r>
            <a:endParaRPr b="0" lang="en-US" sz="16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10 more of the existing segment card design are being made now for October tests (€16k) They will be modified to include the same changes as will be made to the other cards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  <p:sp>
        <p:nvSpPr>
          <p:cNvPr id="69" name=""/>
          <p:cNvSpPr/>
          <p:nvPr/>
        </p:nvSpPr>
        <p:spPr>
          <a:xfrm>
            <a:off x="450360" y="616572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Lucida Sans"/>
              </a:rPr>
              <a:t>Photos- CSNSM Orsay </a:t>
            </a:r>
            <a:endParaRPr b="0" lang="en-US" sz="1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46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Testing pre-production card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136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M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Carrier and 2 segment mezzanines available for test.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Digitiser set up in Padova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Lucida Sans"/>
              </a:rPr>
              <a:t>Last week of May</a:t>
            </a:r>
            <a:endParaRPr b="0" lang="en-US" sz="2000" spc="-1" strike="noStrike">
              <a:solidFill>
                <a:srgbClr val="000066"/>
              </a:solidFill>
              <a:latin typeface="Lucida Sans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Lucida Sans"/>
              </a:rPr>
              <a:t>first traces with pulser through digitiser and pre-processing</a:t>
            </a:r>
            <a:endParaRPr b="0" lang="en-US" sz="1800" spc="-1" strike="noStrike">
              <a:solidFill>
                <a:srgbClr val="000066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910908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Carefully attended by the LLP team, on </a:t>
            </a: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May 22, 2008,</a:t>
            </a:r>
            <a:br>
              <a:rPr sz="1800"/>
            </a:br>
            <a:r>
              <a:rPr b="0" lang="en-US" sz="2800" spc="-1" strike="noStrike">
                <a:solidFill>
                  <a:srgbClr val="333399"/>
                </a:solidFill>
                <a:latin typeface="Lucida Sans"/>
              </a:rPr>
              <a:t>THE FIRST AGATA TRACE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ade its way from the digitiser to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TCA-carrier, via segment mezzanine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-71" t="7792" r="0" b="14655"/>
          <a:stretch/>
        </p:blipFill>
        <p:spPr>
          <a:xfrm>
            <a:off x="250920" y="2050920"/>
            <a:ext cx="86691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1:13:04Z</dcterms:created>
  <dc:creator>Ian Lazarus</dc:creator>
  <dc:description/>
  <dc:language>en-US</dc:language>
  <cp:lastModifiedBy> </cp:lastModifiedBy>
  <dcterms:modified xsi:type="dcterms:W3CDTF">2008-07-09T08:44:24Z</dcterms:modified>
  <cp:revision>41</cp:revision>
  <dc:subject/>
  <dc:title>AGATA Pre-processing team report</dc:title>
</cp:coreProperties>
</file>