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0548-2C7B-4CDC-B100-B02937A93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6347-34E2-4806-9395-A7A6ED49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4BC0-A50E-44A0-AFD0-989C05053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27BE-A200-40C8-855F-93AABACE1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C2A2-DAEB-4F61-ABC1-B15BFC5F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4575-E782-4180-852E-08D66BF9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6CAE-F7AE-4314-840D-D7174105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FE1C-9E27-49FC-8102-2A7D4EAB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A76C-4902-4B3B-857A-01A1FBE8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6C42-8D19-452D-B741-C036C654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A77E-7032-428E-B8A9-DE754D50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5599-2E3D-4EB0-AD97-BEB65894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EF14-DF5A-4EE5-AD4C-2C9CB2414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png"/><Relationship Id="rId8" Type="http://schemas.openxmlformats.org/officeDocument/2006/relationships/package" Target="../embeddings/oleObject4.xlsx"/><Relationship Id="rId9" Type="http://schemas.openxmlformats.org/officeDocument/2006/relationships/image" Target="../media/image10.wmf"/><Relationship Id="rId10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20" y="221760"/>
            <a:ext cx="899136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Broadway"/>
              </a:rPr>
              <a:t>Analysis of S002 scan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911920"/>
            <a:ext cx="9144000" cy="8380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Broadway"/>
              </a:rPr>
              <a:t>Bart Bruyneel </a:t>
            </a:r>
            <a:r>
              <a:rPr b="0" lang="de-DE" sz="2000" spc="-1" strike="noStrike">
                <a:solidFill>
                  <a:srgbClr val="292929"/>
                </a:solidFill>
                <a:latin typeface="Broadway"/>
              </a:rPr>
              <a:t>and Benedikt Birkenbach</a:t>
            </a:r>
            <a:r>
              <a:rPr b="0" lang="en-US" sz="2000" spc="-1" strike="noStrike">
                <a:solidFill>
                  <a:srgbClr val="292929"/>
                </a:solidFill>
                <a:latin typeface="Broadway"/>
              </a:rPr>
              <a:t> – IKP Colog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Broadway"/>
              </a:rPr>
              <a:t>At </a:t>
            </a:r>
            <a:r>
              <a:rPr b="0" lang="de-DE" sz="2000" spc="-1" strike="noStrike">
                <a:solidFill>
                  <a:srgbClr val="292929"/>
                </a:solidFill>
                <a:latin typeface="Broadway"/>
              </a:rPr>
              <a:t> the </a:t>
            </a:r>
            <a:r>
              <a:rPr b="0" lang="en-US" sz="2000" spc="-1" strike="noStrike">
                <a:solidFill>
                  <a:srgbClr val="292929"/>
                </a:solidFill>
                <a:latin typeface="Broadway"/>
              </a:rPr>
              <a:t>7</a:t>
            </a:r>
            <a:r>
              <a:rPr b="0" lang="en-US" sz="2000" spc="-1" strike="noStrike" baseline="30000">
                <a:solidFill>
                  <a:srgbClr val="292929"/>
                </a:solidFill>
                <a:latin typeface="Broadway"/>
              </a:rPr>
              <a:t>th</a:t>
            </a:r>
            <a:r>
              <a:rPr b="0" lang="en-US" sz="2000" spc="-1" strike="noStrike">
                <a:solidFill>
                  <a:srgbClr val="292929"/>
                </a:solidFill>
                <a:latin typeface="Broadway"/>
              </a:rPr>
              <a:t> AGATA </a:t>
            </a:r>
            <a:r>
              <a:rPr b="0" lang="de-DE" sz="2000" spc="-1" strike="noStrike">
                <a:solidFill>
                  <a:srgbClr val="292929"/>
                </a:solidFill>
                <a:latin typeface="Broadway"/>
              </a:rPr>
              <a:t>week</a:t>
            </a:r>
            <a:r>
              <a:rPr b="0" lang="en-US" sz="2000" spc="-1" strike="noStrike">
                <a:solidFill>
                  <a:srgbClr val="292929"/>
                </a:solidFill>
                <a:latin typeface="Broadway"/>
              </a:rPr>
              <a:t>, Uppsala July.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19480" y="817560"/>
            <a:ext cx="1098720" cy="484200"/>
          </a:xfrm>
          <a:custGeom>
            <a:avLst/>
            <a:gdLst/>
            <a:ahLst/>
            <a:rect l="l" t="t" r="r" b="b"/>
            <a:pathLst>
              <a:path w="692" h="305">
                <a:moveTo>
                  <a:pt x="0" y="305"/>
                </a:moveTo>
                <a:cubicBezTo>
                  <a:pt x="23" y="291"/>
                  <a:pt x="38" y="256"/>
                  <a:pt x="48" y="251"/>
                </a:cubicBezTo>
                <a:cubicBezTo>
                  <a:pt x="60" y="245"/>
                  <a:pt x="75" y="246"/>
                  <a:pt x="88" y="244"/>
                </a:cubicBezTo>
                <a:cubicBezTo>
                  <a:pt x="128" y="219"/>
                  <a:pt x="166" y="217"/>
                  <a:pt x="210" y="204"/>
                </a:cubicBezTo>
                <a:cubicBezTo>
                  <a:pt x="232" y="189"/>
                  <a:pt x="255" y="183"/>
                  <a:pt x="278" y="170"/>
                </a:cubicBezTo>
                <a:cubicBezTo>
                  <a:pt x="323" y="145"/>
                  <a:pt x="364" y="123"/>
                  <a:pt x="414" y="109"/>
                </a:cubicBezTo>
                <a:cubicBezTo>
                  <a:pt x="459" y="78"/>
                  <a:pt x="407" y="111"/>
                  <a:pt x="461" y="88"/>
                </a:cubicBezTo>
                <a:cubicBezTo>
                  <a:pt x="482" y="79"/>
                  <a:pt x="501" y="62"/>
                  <a:pt x="522" y="54"/>
                </a:cubicBezTo>
                <a:cubicBezTo>
                  <a:pt x="551" y="43"/>
                  <a:pt x="581" y="37"/>
                  <a:pt x="610" y="27"/>
                </a:cubicBezTo>
                <a:cubicBezTo>
                  <a:pt x="665" y="8"/>
                  <a:pt x="599" y="19"/>
                  <a:pt x="651" y="7"/>
                </a:cubicBezTo>
                <a:cubicBezTo>
                  <a:pt x="665" y="4"/>
                  <a:pt x="692" y="0"/>
                  <a:pt x="692" y="0"/>
                </a:cubicBezTo>
              </a:path>
            </a:pathLst>
          </a:custGeom>
          <a:solidFill>
            <a:srgbClr val="ff0000"/>
          </a:solidFill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56120" y="12556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S00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066680"/>
            <a:ext cx="2590920" cy="107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Scan dat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003 scan @ liverp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veraged by J. Ljungv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76600" y="1371600"/>
            <a:ext cx="5848200" cy="4800600"/>
          </a:xfrm>
          <a:custGeom>
            <a:avLst/>
            <a:gdLst>
              <a:gd name="textAreaLeft" fmla="*/ 0 w 5848200"/>
              <a:gd name="textAreaRight" fmla="*/ 5848560 w 5848200"/>
              <a:gd name="textAreaTop" fmla="*/ 0 h 4800600"/>
              <a:gd name="textAreaBottom" fmla="*/ 4800960 h 4800600"/>
            </a:gdLst>
            <a:ahLst/>
            <a:rect l="textAreaLeft" t="textAreaTop" r="textAreaRight" b="textAreaBottom"/>
            <a:pathLst>
              <a:path w="21600" h="21600">
                <a:moveTo>
                  <a:pt x="2452" y="4893"/>
                </a:moveTo>
                <a:arcTo wR="-10226" hR="-10226" stAng="-8683020" swAng="-20240004"/>
                <a:lnTo>
                  <a:pt x="16531" y="19954"/>
                </a:lnTo>
                <a:arcTo wR="10800" hR="10800" stAng="3476976" swAng="20240004"/>
                <a:lnTo>
                  <a:pt x="21820" y="18598"/>
                </a:lnTo>
                <a:lnTo>
                  <a:pt x="17657" y="19311"/>
                </a:lnTo>
                <a:lnTo>
                  <a:pt x="16944" y="15147"/>
                </a:lnTo>
                <a:close/>
              </a:path>
            </a:pathLst>
          </a:cu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1981080"/>
            <a:ext cx="2743200" cy="1819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Simulation (~20 parameters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sitions (offse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sponses (Preamp + Xtal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bility (e</a:t>
            </a:r>
            <a:r>
              <a:rPr b="0" lang="de-DE" sz="16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de-DE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and latti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ields (Space charg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4724280"/>
            <a:ext cx="274320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mpari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OM (Chi Squa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828800"/>
            <a:ext cx="137160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3809880"/>
            <a:ext cx="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905120"/>
            <a:ext cx="1523880" cy="2819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6308640"/>
            <a:ext cx="3962520" cy="3988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peat till parameters 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103320" y="1257480"/>
            <a:ext cx="5337360" cy="40795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Chi Square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238720" y="1162080"/>
          <a:ext cx="3333960" cy="4549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38720" y="1162080"/>
                    <a:ext cx="3333960" cy="45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2165400" y="5889600"/>
            <a:ext cx="5237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gt; Almost 2x worse in Chi Square 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???  Noise, derivative crosstalk, ... 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25640" y="218880"/>
            <a:ext cx="5572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Parameters in detail : a) Offse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33800" y="1424160"/>
            <a:ext cx="3848400" cy="10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ition of cryst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X,Y position known from singles sca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Z position to be determined relative to collima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12920" y="922320"/>
          <a:ext cx="4038480" cy="262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922320"/>
                    <a:ext cx="4038480" cy="26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165320" y="1173240"/>
            <a:ext cx="278676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Optimum   </a:t>
            </a:r>
            <a:r>
              <a:rPr b="1" lang="de-DE" sz="1400" spc="-1" strike="noStrike">
                <a:solidFill>
                  <a:srgbClr val="0033cc"/>
                </a:solidFill>
                <a:latin typeface="Times New Roman"/>
              </a:rPr>
              <a:t>S002: Z</a:t>
            </a:r>
            <a:r>
              <a:rPr b="1" lang="de-DE" sz="1400" spc="-1" strike="noStrike" baseline="-25000">
                <a:solidFill>
                  <a:srgbClr val="0033cc"/>
                </a:solidFill>
                <a:latin typeface="Times New Roman"/>
              </a:rPr>
              <a:t>offset</a:t>
            </a:r>
            <a:r>
              <a:rPr b="1" lang="de-DE" sz="1400" spc="-1" strike="noStrike">
                <a:solidFill>
                  <a:srgbClr val="0033cc"/>
                </a:solidFill>
                <a:latin typeface="Times New Roman"/>
              </a:rPr>
              <a:t> =  3,86 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de-DE" sz="1400" spc="-1" strike="noStrike">
                <a:solidFill>
                  <a:srgbClr val="ff0000"/>
                </a:solidFill>
                <a:latin typeface="Times New Roman"/>
              </a:rPr>
              <a:t>S003: Z</a:t>
            </a:r>
            <a:r>
              <a:rPr b="1" lang="de-DE" sz="1400" spc="-1" strike="noStrike" baseline="-25000">
                <a:solidFill>
                  <a:srgbClr val="ff0000"/>
                </a:solidFill>
                <a:latin typeface="Times New Roman"/>
              </a:rPr>
              <a:t>offset</a:t>
            </a:r>
            <a:r>
              <a:rPr b="1" lang="de-DE" sz="1400" spc="-1" strike="noStrike">
                <a:solidFill>
                  <a:srgbClr val="ff0000"/>
                </a:solidFill>
                <a:latin typeface="Times New Roman"/>
              </a:rPr>
              <a:t> =  5,24 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31920" y="3798720"/>
            <a:ext cx="4494240" cy="2973600"/>
            <a:chOff x="331920" y="3798720"/>
            <a:chExt cx="4494240" cy="2973600"/>
          </a:xfrm>
        </p:grpSpPr>
        <p:sp>
          <p:nvSpPr>
            <p:cNvPr id="65" name=""/>
            <p:cNvSpPr/>
            <p:nvPr/>
          </p:nvSpPr>
          <p:spPr>
            <a:xfrm>
              <a:off x="1224000" y="3798720"/>
              <a:ext cx="286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Variation of lattice orientation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6" name=""/>
            <p:cNvGraphicFramePr/>
            <p:nvPr/>
          </p:nvGraphicFramePr>
          <p:xfrm>
            <a:off x="331920" y="4022640"/>
            <a:ext cx="4494240" cy="2749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31920" y="4022640"/>
                      <a:ext cx="4494240" cy="274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" name=""/>
            <p:cNvSpPr/>
            <p:nvPr/>
          </p:nvSpPr>
          <p:spPr>
            <a:xfrm>
              <a:off x="1384200" y="4067280"/>
              <a:ext cx="25812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3333cc"/>
                  </a:solidFill>
                  <a:latin typeface="Times New Roman"/>
                </a:rPr>
                <a:t>S002 : &lt;100&gt; = -14,9</a:t>
              </a:r>
              <a:r>
                <a:rPr b="0" lang="de-DE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0000"/>
                  </a:solidFill>
                  <a:latin typeface="Times New Roman"/>
                </a:rPr>
                <a:t>S003 : &lt;100&gt; = 43.7</a:t>
              </a:r>
              <a:r>
                <a:rPr b="0" lang="de-DE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902120" y="3843360"/>
            <a:ext cx="3816360" cy="2822040"/>
            <a:chOff x="4902120" y="3843360"/>
            <a:chExt cx="3816360" cy="2822040"/>
          </a:xfrm>
        </p:grpSpPr>
        <p:sp>
          <p:nvSpPr>
            <p:cNvPr id="70" name=""/>
            <p:cNvSpPr/>
            <p:nvPr/>
          </p:nvSpPr>
          <p:spPr>
            <a:xfrm>
              <a:off x="5848200" y="4346280"/>
              <a:ext cx="1932120" cy="2319120"/>
            </a:xfrm>
            <a:custGeom>
              <a:avLst/>
              <a:gdLst/>
              <a:ahLst/>
              <a:rect l="l" t="t" r="r" b="b"/>
              <a:pathLst>
                <a:path w="1752" h="2076">
                  <a:moveTo>
                    <a:pt x="6" y="522"/>
                  </a:moveTo>
                  <a:lnTo>
                    <a:pt x="870" y="0"/>
                  </a:lnTo>
                  <a:lnTo>
                    <a:pt x="1752" y="522"/>
                  </a:lnTo>
                  <a:lnTo>
                    <a:pt x="1752" y="1566"/>
                  </a:lnTo>
                  <a:lnTo>
                    <a:pt x="870" y="2076"/>
                  </a:lnTo>
                  <a:lnTo>
                    <a:pt x="0" y="1560"/>
                  </a:lnTo>
                  <a:lnTo>
                    <a:pt x="6" y="522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5857920" y="4582440"/>
              <a:ext cx="930240" cy="891720"/>
            </a:xfrm>
            <a:prstGeom prst="line">
              <a:avLst/>
            </a:prstGeom>
            <a:ln w="2844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02120" y="4046400"/>
              <a:ext cx="249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3333cc"/>
                  </a:solidFill>
                  <a:latin typeface="Times New Roman"/>
                </a:rPr>
                <a:t>S002 : &lt;100&gt; = -14,9</a:t>
              </a:r>
              <a:r>
                <a:rPr b="0" lang="de-DE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180120" y="3843360"/>
              <a:ext cx="25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ff0000"/>
                  </a:solidFill>
                  <a:latin typeface="Times New Roman"/>
                </a:rPr>
                <a:t>S003 : &lt;100&gt; = 43.7</a:t>
              </a:r>
              <a:r>
                <a:rPr b="0" lang="de-DE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6799320" y="4398480"/>
              <a:ext cx="279360" cy="11077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324480" y="4627080"/>
              <a:ext cx="959040" cy="174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861160" y="5506920"/>
              <a:ext cx="190656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18360" y="4654440"/>
              <a:ext cx="958680" cy="172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59600" y="4949640"/>
              <a:ext cx="23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15080" y="4627440"/>
              <a:ext cx="2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59600" y="5613120"/>
              <a:ext cx="23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304040" y="4976640"/>
              <a:ext cx="2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10520" y="5694120"/>
              <a:ext cx="23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08600" y="6109920"/>
              <a:ext cx="23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36468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Parameters in detail : b) Mobilit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2280" y="717480"/>
          <a:ext cx="4256280" cy="59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17480"/>
                    <a:ext cx="4256280" cy="59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527720" y="1054080"/>
          <a:ext cx="4466880" cy="2728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27720" y="1054080"/>
                    <a:ext cx="446688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" descr=""/>
          <p:cNvPicPr/>
          <p:nvPr/>
        </p:nvPicPr>
        <p:blipFill>
          <a:blip r:embed="rId5"/>
          <a:srcRect l="0" t="0" r="898" b="0"/>
          <a:stretch/>
        </p:blipFill>
        <p:spPr>
          <a:xfrm>
            <a:off x="263520" y="3436920"/>
            <a:ext cx="2065320" cy="33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1515960" y="914400"/>
          <a:ext cx="2481480" cy="55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15960" y="914400"/>
                    <a:ext cx="24814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533840" y="3922560"/>
          <a:ext cx="4467240" cy="275436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33840" y="3922560"/>
                    <a:ext cx="4467240" cy="27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5403960" y="1327320"/>
            <a:ext cx="229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ectron mobility 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53200" y="4111560"/>
            <a:ext cx="22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le mobility un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13788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Parameters in detail : c) Space Char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9080" y="1008000"/>
            <a:ext cx="3429000" cy="24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000000"/>
                </a:solidFill>
                <a:uFillTx/>
                <a:latin typeface="Times New Roman"/>
              </a:rPr>
              <a:t>Zo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ather insensitive in certain reg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gion &gt; 0 is not phys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Region &lt; -2 is not lik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440240" y="1376280"/>
            <a:ext cx="1711440" cy="1775160"/>
            <a:chOff x="4440240" y="1376280"/>
            <a:chExt cx="1711440" cy="1775160"/>
          </a:xfrm>
        </p:grpSpPr>
        <p:sp>
          <p:nvSpPr>
            <p:cNvPr id="99" name=""/>
            <p:cNvSpPr/>
            <p:nvPr/>
          </p:nvSpPr>
          <p:spPr>
            <a:xfrm rot="10800000">
              <a:off x="4475160" y="1773000"/>
              <a:ext cx="914400" cy="990360"/>
            </a:xfrm>
            <a:custGeom>
              <a:avLst/>
              <a:gdLst>
                <a:gd name="textAreaLeft" fmla="*/ 190440 w 914400"/>
                <a:gd name="textAreaRight" fmla="*/ 723960 w 914400"/>
                <a:gd name="textAreaTop" fmla="*/ 206280 h 990360"/>
                <a:gd name="textAreaBottom" fmla="*/ 78408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650" y="21600"/>
                  </a:lnTo>
                  <a:lnTo>
                    <a:pt x="495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94200" y="1935000"/>
              <a:ext cx="74520" cy="828720"/>
            </a:xfrm>
            <a:custGeom>
              <a:avLst/>
              <a:gdLst>
                <a:gd name="textAreaLeft" fmla="*/ 3600 w 74520"/>
                <a:gd name="textAreaRight" fmla="*/ 70920 w 74520"/>
                <a:gd name="textAreaTop" fmla="*/ 3600 h 828720"/>
                <a:gd name="textAreaBottom" fmla="*/ 825120 h 828720"/>
              </a:gdLst>
              <a:ahLst/>
              <a:rect l="textAreaLeft" t="textAreaTop" r="textAreaRight" b="textAreaBottom"/>
              <a:pathLst>
                <a:path w="21600" h="239158">
                  <a:moveTo>
                    <a:pt x="3600" y="0"/>
                  </a:moveTo>
                  <a:arcTo wR="3600" hR="3600" stAng="16200000" swAng="-5400000"/>
                  <a:lnTo>
                    <a:pt x="0" y="235558"/>
                  </a:lnTo>
                  <a:arcTo wR="3600" hR="3600" stAng="10800000" swAng="-5400000"/>
                  <a:lnTo>
                    <a:pt x="18000" y="2391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84840" y="2735280"/>
              <a:ext cx="75960" cy="7632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84840" y="1744560"/>
              <a:ext cx="75960" cy="7632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13240" y="1735200"/>
              <a:ext cx="76320" cy="759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22960" y="2735280"/>
              <a:ext cx="75960" cy="7632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40240" y="13762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3399"/>
                  </a:solidFill>
                  <a:latin typeface="Times New Roman"/>
                </a:rPr>
                <a:t>&lt;-2,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14840" y="27525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33cc"/>
                  </a:solidFill>
                  <a:latin typeface="Times New Roman"/>
                </a:rPr>
                <a:t>-1,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60880" y="27478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ff9933"/>
                  </a:solidFill>
                  <a:latin typeface="Times New Roman"/>
                </a:rPr>
                <a:t>-0,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29200" y="13762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cc00"/>
                  </a:solidFill>
                  <a:latin typeface="Times New Roman"/>
                </a:rPr>
                <a:t>-1,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008680" y="1925640"/>
              <a:ext cx="114300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808080"/>
                  </a:solidFill>
                  <a:latin typeface="Times New Roman"/>
                </a:rPr>
                <a:t>Core @ 5000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873520" y="1071720"/>
            <a:ext cx="1180800" cy="20574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11320" y="276084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nphys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1011240"/>
          <a:ext cx="4206960" cy="26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11240"/>
                    <a:ext cx="420696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948280" y="1155600"/>
            <a:ext cx="2514600" cy="9766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Space Charg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[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ahoma"/>
              </a:rPr>
              <a:t>10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/cm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ylinder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Linear in r and z</a:t>
            </a: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1400" spc="-1" strike="noStrike">
                <a:solidFill>
                  <a:srgbClr val="ffffff"/>
                </a:solidFill>
                <a:latin typeface="Tahoma"/>
              </a:rPr>
              <a:t>4 point f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0840" y="698400"/>
            <a:ext cx="10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00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813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1120" y="3773520"/>
            <a:ext cx="10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00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4560840" y="4735440"/>
            <a:ext cx="914400" cy="990720"/>
          </a:xfrm>
          <a:custGeom>
            <a:avLst/>
            <a:gdLst>
              <a:gd name="textAreaLeft" fmla="*/ 190440 w 914400"/>
              <a:gd name="textAreaRight" fmla="*/ 723960 w 914400"/>
              <a:gd name="textAreaTop" fmla="*/ 206280 h 990720"/>
              <a:gd name="textAreaBottom" fmla="*/ 7844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650" y="21600"/>
                </a:lnTo>
                <a:lnTo>
                  <a:pt x="495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79880" y="4897440"/>
            <a:ext cx="74880" cy="828720"/>
          </a:xfrm>
          <a:custGeom>
            <a:avLst/>
            <a:gdLst>
              <a:gd name="textAreaLeft" fmla="*/ 3600 w 74880"/>
              <a:gd name="textAreaRight" fmla="*/ 71280 w 74880"/>
              <a:gd name="textAreaTop" fmla="*/ 3600 h 828720"/>
              <a:gd name="textAreaBottom" fmla="*/ 825120 h 828720"/>
            </a:gdLst>
            <a:ahLst/>
            <a:rect l="textAreaLeft" t="textAreaTop" r="textAreaRight" b="textAreaBottom"/>
            <a:pathLst>
              <a:path w="21600" h="238013">
                <a:moveTo>
                  <a:pt x="3600" y="0"/>
                </a:moveTo>
                <a:arcTo wR="3600" hR="3600" stAng="16200000" swAng="-5400000"/>
                <a:lnTo>
                  <a:pt x="0" y="234413"/>
                </a:lnTo>
                <a:arcTo wR="3600" hR="3600" stAng="10800000" swAng="-5400000"/>
                <a:lnTo>
                  <a:pt x="18000" y="2380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70520" y="569736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70520" y="4707000"/>
            <a:ext cx="76320" cy="759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98920" y="4697280"/>
            <a:ext cx="76320" cy="763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08640" y="5697360"/>
            <a:ext cx="76320" cy="763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0560" y="43387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3399"/>
                </a:solidFill>
                <a:latin typeface="Times New Roman"/>
              </a:rPr>
              <a:t>  </a:t>
            </a:r>
            <a:r>
              <a:rPr b="1" lang="de-DE" sz="2000" spc="-1" strike="noStrike">
                <a:solidFill>
                  <a:srgbClr val="ff3399"/>
                </a:solidFill>
                <a:latin typeface="Times New Roman"/>
              </a:rPr>
              <a:t>-3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78200" y="572616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cc"/>
                </a:solidFill>
                <a:latin typeface="Times New Roman"/>
              </a:rPr>
              <a:t>-2,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13520" y="57326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9933"/>
                </a:solidFill>
                <a:latin typeface="Times New Roman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26120" y="4338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cc00"/>
                </a:solidFill>
                <a:latin typeface="Times New Roman"/>
              </a:rPr>
              <a:t>1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94360" y="4888080"/>
            <a:ext cx="11430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808080"/>
                </a:solidFill>
                <a:latin typeface="Times New Roman"/>
              </a:rPr>
              <a:t>Core @ 4000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3240" y="7318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1160" y="4102200"/>
          <a:ext cx="4213080" cy="2755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" y="4102200"/>
                    <a:ext cx="4213080" cy="27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2" name=""/>
          <p:cNvGrpSpPr/>
          <p:nvPr/>
        </p:nvGrpSpPr>
        <p:grpSpPr>
          <a:xfrm>
            <a:off x="2881440" y="4203720"/>
            <a:ext cx="1180800" cy="2142720"/>
            <a:chOff x="2881440" y="4203720"/>
            <a:chExt cx="1180800" cy="2142720"/>
          </a:xfrm>
        </p:grpSpPr>
        <p:sp>
          <p:nvSpPr>
            <p:cNvPr id="133" name=""/>
            <p:cNvSpPr/>
            <p:nvPr/>
          </p:nvSpPr>
          <p:spPr>
            <a:xfrm>
              <a:off x="2881440" y="4203720"/>
              <a:ext cx="1180800" cy="21427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19240" y="5974560"/>
              <a:ext cx="114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Times New Roman"/>
                </a:rPr>
                <a:t>Unphysic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216480" y="5075280"/>
            <a:ext cx="255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realistic model for S003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396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: Space charge from capacity measu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-88920" y="1398600"/>
          <a:ext cx="4686480" cy="347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1398600"/>
                    <a:ext cx="468648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4495680" y="1398600"/>
          <a:ext cx="4686480" cy="3476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398600"/>
                    <a:ext cx="468648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943280" y="2146320"/>
            <a:ext cx="2476440" cy="876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06760" y="2565360"/>
            <a:ext cx="294660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6440" y="2806560"/>
            <a:ext cx="927000" cy="889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5240" y="2082960"/>
            <a:ext cx="146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0%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480600">
            <a:off x="5206680" y="2413080"/>
            <a:ext cx="22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ate de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01720" y="5156280"/>
            <a:ext cx="5765760" cy="876960"/>
          </a:xfrm>
          <a:prstGeom prst="rect">
            <a:avLst/>
          </a:prstGeom>
          <a:solidFill>
            <a:srgbClr val="b2b2b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pacitance-voltage profiling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.g. Review article: Semicond. Sci. Technol. 1 (1986) 7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15:08:27Z</dcterms:created>
  <dc:creator>Gruppe Reiter IKP</dc:creator>
  <dc:description/>
  <dc:language>en-US</dc:language>
  <cp:lastModifiedBy>user</cp:lastModifiedBy>
  <dcterms:modified xsi:type="dcterms:W3CDTF">2008-07-08T23:00:08Z</dcterms:modified>
  <cp:revision>40</cp:revision>
  <dc:subject/>
  <dc:title>Automated optimization  of detector simulation  to fit S002 scan data</dc:title>
</cp:coreProperties>
</file>