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media/image2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BA61-DEBC-45F2-B0AB-523233E439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A6EE-28BB-4438-A1CB-7E53C3CF9D5A}" type="slidenum">
              <a:rPr b="1" lang="de-DE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41AD-1684-42B5-B00C-BC8C6C834FC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9075-C93C-40FF-9868-D7FF716A891B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AB4D-14B3-4162-B9FC-AB4DFF7810D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6E87-8938-4312-A3D7-863ED18F060C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93BB-ACAA-4123-85C4-39371ABCB8D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2A7E-8BA7-4849-885C-753D01DE15E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094-0759-4C66-881B-5EA4352AE868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76E9-A1C7-436F-BCAA-3C4F57E7B04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394B-A832-4209-8B44-BEA5F07F525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EBC1-8615-4324-9EA7-C7923CB6AA96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28D3-6463-4468-9FF0-C4BCF5F0D9F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33D2-CC5F-4D22-A4CE-2CB59EE8E050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6C46-F502-473A-BBBA-99CC30FA696A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2C98-7402-421B-A5D0-864CB2A7C8D4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A276-AF1E-407A-85D4-B6E0EE2FE85E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19040" y="879480"/>
            <a:ext cx="4218120" cy="31640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401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energy resolution especially at low energies (electronics domina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lued detector less micropho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nal pre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assembly (grounding, cabe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essage : better than in single cryostat – specification easily 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CA6-5FB8-4F1D-B9C8-666DBA59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509-99C1-44AF-ABAF-6B0AC64D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0B3-599F-483C-9ECD-10916046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99A-0886-4FFB-A66A-903D2A15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5394-597E-4C50-9D17-F79B5618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6D26-56FB-45C3-A975-57CD5385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C53D-9900-4132-AEF5-E8FA70E7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1936-07A3-43CB-B129-268699F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64E9-2E69-4F6E-9A61-F1DBB26C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667A-34AC-477F-9563-52259862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E719-6D04-4276-B2E1-E7D2550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9F8-F83E-47FE-9AB5-36894EE6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F663-E9B8-415D-9262-6EEC34B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D991-6D71-45B3-B114-2B5BE7BF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252A-6081-4EFA-BB9C-C543369A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7FBA-7963-4FC6-938F-D75301FE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F676-ECE5-4A4C-96AC-BC307388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183-F91F-4557-A226-A6F5CCA0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644-025A-41B5-BFE2-E9410336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2F9-8818-4210-B1C4-ED0F65D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FAD-FDD8-4146-8A25-B7833D04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BAAB-D490-433F-8EFA-19AF5CC8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152-54BD-40D9-8915-C2FDB24D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486-B97E-47D2-BC84-2D993FAA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FCD0-31EB-416F-BB01-0EC44F4267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0844-50FF-4692-8E2F-162C88FA9F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5480" y="1571760"/>
            <a:ext cx="67150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tectors and Preamplif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00" y="2714400"/>
            <a:ext cx="8359560" cy="286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tector deliv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stomer Acceptance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ilabl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ATA tripl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ann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215120" y="115920"/>
            <a:ext cx="1765440" cy="24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163440" y="163440"/>
            <a:ext cx="1395360" cy="76536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245160" y="6286680"/>
            <a:ext cx="86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. Reiter IKP University Cologne               AGATA week 8-11 July 2008 Uppsa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961920" y="141120"/>
            <a:ext cx="735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1</a:t>
            </a:r>
            <a:r>
              <a:rPr b="0" lang="en-GB" sz="2900" spc="-1" strike="noStrike" u="sng" baseline="30000">
                <a:solidFill>
                  <a:srgbClr val="000080"/>
                </a:solidFill>
                <a:uFillTx/>
                <a:latin typeface="Arial"/>
              </a:rPr>
              <a:t>st</a:t>
            </a: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 Tripel Cluster Energies: Single vs Triple cryost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-1440" y="850680"/>
            <a:ext cx="9144000" cy="3069000"/>
            <a:chOff x="-1440" y="850680"/>
            <a:chExt cx="9144000" cy="3069000"/>
          </a:xfrm>
        </p:grpSpPr>
        <p:graphicFrame>
          <p:nvGraphicFramePr>
            <p:cNvPr id="124" name="Object 4"/>
            <p:cNvGraphicFramePr/>
            <p:nvPr/>
          </p:nvGraphicFramePr>
          <p:xfrm>
            <a:off x="262080" y="1170000"/>
            <a:ext cx="4451040" cy="2744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62080" y="1170000"/>
                      <a:ext cx="4451040" cy="27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Object 5"/>
            <p:cNvGraphicFramePr/>
            <p:nvPr/>
          </p:nvGraphicFramePr>
          <p:xfrm>
            <a:off x="4691160" y="1174680"/>
            <a:ext cx="4451400" cy="27450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91160" y="1174680"/>
                      <a:ext cx="4451400" cy="274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Text Box 6"/>
            <p:cNvSpPr/>
            <p:nvPr/>
          </p:nvSpPr>
          <p:spPr>
            <a:xfrm rot="16200000">
              <a:off x="-924120" y="1773360"/>
              <a:ext cx="212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001 – FWHM [keV]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7"/>
          <p:cNvGrpSpPr/>
          <p:nvPr/>
        </p:nvGrpSpPr>
        <p:grpSpPr>
          <a:xfrm>
            <a:off x="-9720" y="2608200"/>
            <a:ext cx="9152280" cy="2779920"/>
            <a:chOff x="-9720" y="2608200"/>
            <a:chExt cx="9152280" cy="2779920"/>
          </a:xfrm>
        </p:grpSpPr>
        <p:sp>
          <p:nvSpPr>
            <p:cNvPr id="130" name="Text Box 8"/>
            <p:cNvSpPr/>
            <p:nvPr/>
          </p:nvSpPr>
          <p:spPr>
            <a:xfrm rot="16163400">
              <a:off x="-766440" y="3376080"/>
              <a:ext cx="180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002 – FWHM [keV] 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31" name="Object 9"/>
            <p:cNvGraphicFramePr/>
            <p:nvPr/>
          </p:nvGraphicFramePr>
          <p:xfrm>
            <a:off x="4691160" y="2638440"/>
            <a:ext cx="4451400" cy="274464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3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1160" y="2638440"/>
                      <a:ext cx="4451400" cy="27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" name="Object 10"/>
            <p:cNvGraphicFramePr/>
            <p:nvPr/>
          </p:nvGraphicFramePr>
          <p:xfrm>
            <a:off x="258840" y="2643120"/>
            <a:ext cx="4451400" cy="274500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3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8840" y="2643120"/>
                      <a:ext cx="4451400" cy="274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5" name="Group 11"/>
          <p:cNvGrpSpPr/>
          <p:nvPr/>
        </p:nvGrpSpPr>
        <p:grpSpPr>
          <a:xfrm>
            <a:off x="4680" y="4110120"/>
            <a:ext cx="9142560" cy="2744640"/>
            <a:chOff x="4680" y="4110120"/>
            <a:chExt cx="9142560" cy="2744640"/>
          </a:xfrm>
        </p:grpSpPr>
        <p:graphicFrame>
          <p:nvGraphicFramePr>
            <p:cNvPr id="136" name="Object 12"/>
            <p:cNvGraphicFramePr/>
            <p:nvPr/>
          </p:nvGraphicFramePr>
          <p:xfrm>
            <a:off x="4695840" y="4111560"/>
            <a:ext cx="4451400" cy="27432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137" name="Object 1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95840" y="4111560"/>
                      <a:ext cx="4451400" cy="274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13"/>
            <p:cNvGraphicFramePr/>
            <p:nvPr/>
          </p:nvGraphicFramePr>
          <p:xfrm>
            <a:off x="262080" y="4110120"/>
            <a:ext cx="4451040" cy="274464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139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62080" y="4110120"/>
                      <a:ext cx="4451040" cy="274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" name="Text Box 14"/>
            <p:cNvSpPr/>
            <p:nvPr/>
          </p:nvSpPr>
          <p:spPr>
            <a:xfrm rot="16178400">
              <a:off x="-917280" y="5271480"/>
              <a:ext cx="213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002 – FWHM [keV]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5"/>
          <p:cNvSpPr/>
          <p:nvPr/>
        </p:nvSpPr>
        <p:spPr>
          <a:xfrm>
            <a:off x="395280" y="74628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60keV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830840" y="766800"/>
            <a:ext cx="42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 1.33MeV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Object 20"/>
          <p:cNvGraphicFramePr/>
          <p:nvPr/>
        </p:nvGraphicFramePr>
        <p:xfrm>
          <a:off x="0" y="260280"/>
          <a:ext cx="9144000" cy="288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5"/>
          <p:cNvSpPr/>
          <p:nvPr/>
        </p:nvSpPr>
        <p:spPr>
          <a:xfrm>
            <a:off x="961920" y="141120"/>
            <a:ext cx="735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2</a:t>
            </a:r>
            <a:r>
              <a:rPr b="0" lang="en-GB" sz="2900" spc="-1" strike="noStrike" u="sng" baseline="30000">
                <a:solidFill>
                  <a:srgbClr val="000080"/>
                </a:solidFill>
                <a:uFillTx/>
                <a:latin typeface="Arial"/>
              </a:rPr>
              <a:t>nd</a:t>
            </a: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 Tripel Cluster Energies: Single vs Triple cryost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 rot="16200000">
            <a:off x="-767160" y="2076120"/>
            <a:ext cx="2122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003 FWHM [keV]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22"/>
          <p:cNvGraphicFramePr/>
          <p:nvPr/>
        </p:nvGraphicFramePr>
        <p:xfrm>
          <a:off x="0" y="2060640"/>
          <a:ext cx="9144000" cy="301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60640"/>
                    <a:ext cx="914400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8"/>
          <p:cNvGraphicFramePr/>
          <p:nvPr/>
        </p:nvGraphicFramePr>
        <p:xfrm>
          <a:off x="0" y="4149720"/>
          <a:ext cx="9144000" cy="2708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149720"/>
                    <a:ext cx="9144000" cy="27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19"/>
          <p:cNvSpPr/>
          <p:nvPr/>
        </p:nvSpPr>
        <p:spPr>
          <a:xfrm rot="16200000">
            <a:off x="-2748240" y="3259440"/>
            <a:ext cx="605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004 FWHM [keV]      B003 FWHM [keV]     A003 FWHM [keV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3"/>
          <p:cNvSpPr/>
          <p:nvPr/>
        </p:nvSpPr>
        <p:spPr>
          <a:xfrm>
            <a:off x="6948360" y="1052640"/>
            <a:ext cx="20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keV l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961920" y="1411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Tripel Cluster Energy resolution: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Single vs Triple cryost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11280" y="1214280"/>
            <a:ext cx="7993080" cy="587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Excellen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energy re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wo AGATA triple clust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ean values segments @ 60 keV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pecially at low energies (electronic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 nois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lued detector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ss microphon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K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ATA pream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lectronic assembly (grounding, cabl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014840" y="2492280"/>
            <a:ext cx="3173760" cy="155700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GATA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1 : 1011 +/- 53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2 : 1039 +/- 70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002 :   965 +/- 63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009760" y="2492280"/>
            <a:ext cx="3630960" cy="1557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ond AGATA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3 : 1052 +/-  65 e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3 :   995 +/-  73 eV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004 : 1148 +/- 104 eV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369680" y="4202280"/>
            <a:ext cx="44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* high frequency oscillation to be remo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Object 2"/>
          <p:cNvGraphicFramePr/>
          <p:nvPr/>
        </p:nvGraphicFramePr>
        <p:xfrm>
          <a:off x="622440" y="1219320"/>
          <a:ext cx="462420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19320"/>
                    <a:ext cx="46242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Cross talk measu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447560" y="32385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2..A6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950480" y="3591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286880" y="36482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334120" y="1905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 rot="16200000">
            <a:off x="4098240" y="2583360"/>
            <a:ext cx="2438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re to seg Xtalk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= understood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>
            <a:off x="4952880" y="1914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1447920" y="4419720"/>
            <a:ext cx="4190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rcRect l="0" t="0" r="1215" b="0"/>
          <a:stretch/>
        </p:blipFill>
        <p:spPr>
          <a:xfrm>
            <a:off x="6324480" y="1828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6019920" y="1328760"/>
            <a:ext cx="26668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 labeling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ors: A...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gs: 1...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3"/>
          <p:cNvSpPr/>
          <p:nvPr/>
        </p:nvSpPr>
        <p:spPr>
          <a:xfrm>
            <a:off x="6858000" y="434340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4"/>
          <p:cNvSpPr/>
          <p:nvPr/>
        </p:nvSpPr>
        <p:spPr>
          <a:xfrm>
            <a:off x="6991200" y="298116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5"/>
          <p:cNvSpPr/>
          <p:nvPr/>
        </p:nvSpPr>
        <p:spPr>
          <a:xfrm flipH="1">
            <a:off x="7086600" y="4457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6629400" y="42195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feld 16"/>
          <p:cNvSpPr/>
          <p:nvPr/>
        </p:nvSpPr>
        <p:spPr>
          <a:xfrm>
            <a:off x="5441400" y="6286680"/>
            <a:ext cx="32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Bart Bruyneel, Andreas Wie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2"/>
          <p:cNvGraphicFramePr/>
          <p:nvPr/>
        </p:nvGraphicFramePr>
        <p:xfrm>
          <a:off x="558720" y="-65160"/>
          <a:ext cx="7952040" cy="677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-65160"/>
                    <a:ext cx="7952040" cy="677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3"/>
          <p:cNvSpPr/>
          <p:nvPr/>
        </p:nvSpPr>
        <p:spPr>
          <a:xfrm>
            <a:off x="4495680" y="15238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Smallest capacities in ring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952640" y="2181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A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952720" y="18572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B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981600" y="1895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C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5000760" y="19810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D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019920" y="1905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E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7048440" y="189540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8000"/>
                </a:solidFill>
                <a:latin typeface="Arial"/>
              </a:rPr>
              <a:t>F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1981080" y="2133720"/>
            <a:ext cx="533520" cy="914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971800" y="1828800"/>
            <a:ext cx="533520" cy="914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4038480" y="1752480"/>
            <a:ext cx="533520" cy="7621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5029200" y="1971720"/>
            <a:ext cx="533520" cy="9144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6095880" y="1905120"/>
            <a:ext cx="457200" cy="8380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7115040" y="1905120"/>
            <a:ext cx="457200" cy="83808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110960" y="228600"/>
            <a:ext cx="74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talk in first AGATA Triple Cryost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1208160" y="1249200"/>
          <a:ext cx="7678800" cy="182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249200"/>
                    <a:ext cx="767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4"/>
          <p:cNvGraphicFramePr/>
          <p:nvPr/>
        </p:nvGraphicFramePr>
        <p:xfrm>
          <a:off x="1104840" y="4861080"/>
          <a:ext cx="7678800" cy="1828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04840" y="4861080"/>
                    <a:ext cx="767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1152360" y="3051000"/>
          <a:ext cx="7678800" cy="1828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2360" y="3051000"/>
                    <a:ext cx="7678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Line 6"/>
          <p:cNvSpPr/>
          <p:nvPr/>
        </p:nvSpPr>
        <p:spPr>
          <a:xfrm flipH="1">
            <a:off x="3790440" y="941400"/>
            <a:ext cx="180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190600" y="8380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4146480" y="8794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6273720" y="866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"/>
          <p:cNvSpPr/>
          <p:nvPr/>
        </p:nvSpPr>
        <p:spPr>
          <a:xfrm flipH="1">
            <a:off x="5781240" y="942840"/>
            <a:ext cx="1800" cy="5754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1"/>
          <p:cNvSpPr/>
          <p:nvPr/>
        </p:nvSpPr>
        <p:spPr>
          <a:xfrm flipH="1">
            <a:off x="7763040" y="930240"/>
            <a:ext cx="144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"/>
          <p:cNvSpPr/>
          <p:nvPr/>
        </p:nvSpPr>
        <p:spPr>
          <a:xfrm flipH="1">
            <a:off x="7923240" y="930240"/>
            <a:ext cx="144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3"/>
          <p:cNvSpPr/>
          <p:nvPr/>
        </p:nvSpPr>
        <p:spPr>
          <a:xfrm flipH="1">
            <a:off x="8083080" y="930240"/>
            <a:ext cx="1800" cy="575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 rot="16200000">
            <a:off x="7391520" y="2300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 rot="16200000">
            <a:off x="7543800" y="2300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 rot="16200000">
            <a:off x="7377120" y="39765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 rot="16200000">
            <a:off x="7529760" y="397656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 rot="16200000">
            <a:off x="7377120" y="5729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 rot="16200000">
            <a:off x="7529760" y="5729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 rot="16200000">
            <a:off x="2181240" y="213336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21"/>
          <p:cNvSpPr/>
          <p:nvPr/>
        </p:nvSpPr>
        <p:spPr>
          <a:xfrm rot="16200000">
            <a:off x="3200400" y="213336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1905120" y="27432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2895480" y="274320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24"/>
          <p:cNvSpPr/>
          <p:nvPr/>
        </p:nvSpPr>
        <p:spPr>
          <a:xfrm rot="16200000">
            <a:off x="4162320" y="15235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5"/>
          <p:cNvSpPr/>
          <p:nvPr/>
        </p:nvSpPr>
        <p:spPr>
          <a:xfrm rot="16200000">
            <a:off x="5181480" y="15235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3886200" y="21337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4876920" y="21337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8"/>
          <p:cNvSpPr/>
          <p:nvPr/>
        </p:nvSpPr>
        <p:spPr>
          <a:xfrm rot="16200000">
            <a:off x="6172200" y="1508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9"/>
          <p:cNvSpPr/>
          <p:nvPr/>
        </p:nvSpPr>
        <p:spPr>
          <a:xfrm rot="16200000">
            <a:off x="7191360" y="150804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5896080" y="21178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6886440" y="2117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tor F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 rot="16200000">
            <a:off x="348840" y="20066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 rot="16200000">
            <a:off x="349200" y="372744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4"/>
          <p:cNvSpPr/>
          <p:nvPr/>
        </p:nvSpPr>
        <p:spPr>
          <a:xfrm rot="95400">
            <a:off x="1109160" y="893520"/>
            <a:ext cx="15264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5"/>
          <p:cNvSpPr/>
          <p:nvPr/>
        </p:nvSpPr>
        <p:spPr>
          <a:xfrm rot="16200000">
            <a:off x="348840" y="55213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 flipV="1">
            <a:off x="704880" y="4874760"/>
            <a:ext cx="81579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 flipV="1">
            <a:off x="703440" y="3071880"/>
            <a:ext cx="81579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8"/>
          <p:cNvSpPr/>
          <p:nvPr/>
        </p:nvSpPr>
        <p:spPr>
          <a:xfrm>
            <a:off x="8196120" y="893880"/>
            <a:ext cx="9144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042920" y="189000"/>
            <a:ext cx="5181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AGATA Triple Clusters: Summary &amp; outlook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324000" y="696960"/>
            <a:ext cx="44193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wo AGATA Triple Cluster Detectors operational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rst &amp; second triple: cryostat, mechanics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cuum, thermal properties of preamps o.k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seg-preamps, core preamps &amp; puls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high dynamic range operatio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very good energy resolution at low ener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no cross talk betwee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tectors observ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C between detec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ommissioning of 2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TC ongo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DSC00025"/>
          <p:cNvPicPr/>
          <p:nvPr/>
        </p:nvPicPr>
        <p:blipFill>
          <a:blip r:embed="rId1"/>
          <a:srcRect l="7145" t="0" r="3570" b="9525"/>
          <a:stretch/>
        </p:blipFill>
        <p:spPr>
          <a:xfrm>
            <a:off x="-19080" y="2901960"/>
            <a:ext cx="5257800" cy="3995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DSC00028"/>
          <p:cNvPicPr/>
          <p:nvPr/>
        </p:nvPicPr>
        <p:blipFill>
          <a:blip r:embed="rId2"/>
          <a:srcRect l="25000" t="9524" r="14284" b="4762"/>
          <a:stretch/>
        </p:blipFill>
        <p:spPr>
          <a:xfrm>
            <a:off x="5307120" y="289548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3"/>
          <p:cNvSpPr/>
          <p:nvPr/>
        </p:nvSpPr>
        <p:spPr>
          <a:xfrm>
            <a:off x="4932360" y="1052640"/>
            <a:ext cx="4211640" cy="17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transport of 1st ATC to Legnaro, first tes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digital electronics at Legnaro July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finish commissioning of 2nd ATC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ross talk tes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assembly of 3rd ATC constrained b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ilable detector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-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4800" y="3429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C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019920" y="40989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C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7772400" y="547056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TC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hteck 3"/>
          <p:cNvSpPr/>
          <p:nvPr/>
        </p:nvSpPr>
        <p:spPr>
          <a:xfrm>
            <a:off x="928800" y="3214800"/>
            <a:ext cx="7286400" cy="2071440"/>
          </a:xfrm>
          <a:prstGeom prst="rect">
            <a:avLst/>
          </a:prstGeom>
          <a:solidFill>
            <a:srgbClr val="33cc33">
              <a:alpha val="2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hteck 2"/>
          <p:cNvSpPr/>
          <p:nvPr/>
        </p:nvSpPr>
        <p:spPr>
          <a:xfrm>
            <a:off x="928800" y="571680"/>
            <a:ext cx="7286400" cy="2643120"/>
          </a:xfrm>
          <a:prstGeom prst="rect">
            <a:avLst/>
          </a:prstGeom>
          <a:solidFill>
            <a:srgbClr val="ff3300">
              <a:alpha val="2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00000" y="177840"/>
          <a:ext cx="7315200" cy="6608880"/>
        </p:xfrm>
        <a:graphic>
          <a:graphicData uri="http://schemas.openxmlformats.org/drawingml/2006/table">
            <a:tbl>
              <a:tblPr/>
              <a:tblGrid>
                <a:gridCol w="936720"/>
                <a:gridCol w="1008000"/>
                <a:gridCol w="1370160"/>
                <a:gridCol w="4000320"/>
              </a:tblGrid>
              <a:tr h="3524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1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hole trapp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2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un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un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3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egments out of spec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4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0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IKP, Colog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hol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CEA, Saclay &amp; IK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1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segments out of specific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ejected </a:t>
                      </a: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missing segment in capsu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4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IKP, Cologne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hol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CEA, Sacl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</a:t>
                      </a: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roken, leakage current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ckhol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 at CEA, Sacla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Rechteck 4"/>
          <p:cNvSpPr/>
          <p:nvPr/>
        </p:nvSpPr>
        <p:spPr>
          <a:xfrm>
            <a:off x="928800" y="5286240"/>
            <a:ext cx="7286400" cy="1571760"/>
          </a:xfrm>
          <a:prstGeom prst="rect">
            <a:avLst/>
          </a:prstGeom>
          <a:solidFill>
            <a:srgbClr val="0000ff">
              <a:alpha val="1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928800" y="177840"/>
          <a:ext cx="7315200" cy="6608880"/>
        </p:xfrm>
        <a:graphic>
          <a:graphicData uri="http://schemas.openxmlformats.org/drawingml/2006/table">
            <a:tbl>
              <a:tblPr/>
              <a:tblGrid>
                <a:gridCol w="936360"/>
                <a:gridCol w="1008360"/>
                <a:gridCol w="1355760"/>
                <a:gridCol w="4014720"/>
              </a:tblGrid>
              <a:tr h="3524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o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 Munich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B00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0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dov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20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, availab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de-DE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0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20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kar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de-DE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accepte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280"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marL="108000" indent="-108000"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bgerundetes Rechteck 5"/>
          <p:cNvSpPr/>
          <p:nvPr/>
        </p:nvSpPr>
        <p:spPr>
          <a:xfrm>
            <a:off x="1000080" y="5072040"/>
            <a:ext cx="6286680" cy="157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bgerundetes Rechteck 4"/>
          <p:cNvSpPr/>
          <p:nvPr/>
        </p:nvSpPr>
        <p:spPr>
          <a:xfrm>
            <a:off x="1000080" y="2571840"/>
            <a:ext cx="6286680" cy="1571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bgerundetes Rechteck 3"/>
          <p:cNvSpPr/>
          <p:nvPr/>
        </p:nvSpPr>
        <p:spPr>
          <a:xfrm>
            <a:off x="1000080" y="857160"/>
            <a:ext cx="6286680" cy="157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928800" y="285840"/>
            <a:ext cx="735624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Recent detector tests and future deliverie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1320" y="836640"/>
            <a:ext cx="681840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urkish det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004 (repaired) delivered to IKP, Cologne, test sta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004 (repaired) delivered July, 1st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hipment of A004, B004, C004 to Turkey autumn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edish detect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005, B005, C005 tests ongoing at CE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st results of A005 to be confirmed at IKP, Cologn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st of B005 sta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verpool detector C003: leakage current, out of warran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alian det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006 announced delivery July (week 29)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006 announced delivery July (week 31)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001 announced delivery July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"/>
          <p:cNvSpPr/>
          <p:nvPr/>
        </p:nvSpPr>
        <p:spPr>
          <a:xfrm>
            <a:off x="961920" y="1429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Summary available detector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feld 3"/>
          <p:cNvSpPr/>
          <p:nvPr/>
        </p:nvSpPr>
        <p:spPr>
          <a:xfrm>
            <a:off x="638640" y="714240"/>
            <a:ext cx="8413200" cy="60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 detectors accepted (A1,A2,A3 B2,B3 C1,C2,C4)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detector to be repaired at Canberra (B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 detectors ongoing test (A4, A5, B4, B5, C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detector broken (C3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(Sweden A005, B005, C005) ongoing CAT at Sac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(Turkey A004, B004) ongoing CAT at Colog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(Italy C001) scanning at Liverpool until Ju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(Italy B001) not accepted after CAT, not repai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(UK C003) is broken after CAT, needs repa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(Turkey A004, B004, C004) are shipped to Turkey fall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moment 6 detectors are available for AGATA triple clusters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001, A002, A0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800" spc="-1" strike="noStrike">
                <a:solidFill>
                  <a:srgbClr val="33cc33"/>
                </a:solidFill>
                <a:latin typeface="Arial"/>
              </a:rPr>
              <a:t>B002, B0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C00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5"/>
          <p:cNvSpPr/>
          <p:nvPr/>
        </p:nvSpPr>
        <p:spPr>
          <a:xfrm>
            <a:off x="961920" y="3049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AGATA triple cluster detectors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38960" y="1071720"/>
            <a:ext cx="2840040" cy="2654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rst AGATA triple 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1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2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002 :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Goes to Legnar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572000" y="1071720"/>
            <a:ext cx="4286160" cy="2654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cond AGATA 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3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003 :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C004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Goes to Turkey in fall 2008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d by C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28840" y="4071960"/>
            <a:ext cx="7215120" cy="265428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ird AGATA tr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002 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B005 or B001: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C001: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B005 after test or B001 after delivery &amp; t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* C001 after scann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961920" y="304920"/>
            <a:ext cx="7356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Scanning program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54080" y="1071720"/>
            <a:ext cx="3007800" cy="30200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verp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Arial"/>
              </a:rPr>
              <a:t>C001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*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A00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to IKP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y of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 cluster by CT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4572000" y="1071720"/>
            <a:ext cx="4286160" cy="2288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rs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002 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b050"/>
                </a:solidFill>
                <a:latin typeface="Arial"/>
              </a:rPr>
              <a:t>B005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: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ssioning, confi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rpool resul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7"/>
          <p:cNvSpPr/>
          <p:nvPr/>
        </p:nvSpPr>
        <p:spPr>
          <a:xfrm>
            <a:off x="5104440" y="4071960"/>
            <a:ext cx="324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e talks b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. Bost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. Unswor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. Koric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. Cresp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ursday, 14:00-15: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llipse 5"/>
          <p:cNvSpPr/>
          <p:nvPr/>
        </p:nvSpPr>
        <p:spPr>
          <a:xfrm>
            <a:off x="3643200" y="5357880"/>
            <a:ext cx="571680" cy="500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4"/>
          <p:cNvSpPr/>
          <p:nvPr/>
        </p:nvSpPr>
        <p:spPr>
          <a:xfrm>
            <a:off x="6500880" y="4572000"/>
            <a:ext cx="57132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llipse 3"/>
          <p:cNvSpPr/>
          <p:nvPr/>
        </p:nvSpPr>
        <p:spPr>
          <a:xfrm>
            <a:off x="6429240" y="3857760"/>
            <a:ext cx="50004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28800" y="214200"/>
            <a:ext cx="7356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900" spc="-1" strike="noStrike" u="sng">
                <a:solidFill>
                  <a:srgbClr val="000080"/>
                </a:solidFill>
                <a:uFillTx/>
                <a:latin typeface="Arial"/>
              </a:rPr>
              <a:t>Future detector tests and triple assembly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bgerundetes Rechteck 6"/>
          <p:cNvSpPr/>
          <p:nvPr/>
        </p:nvSpPr>
        <p:spPr>
          <a:xfrm>
            <a:off x="928800" y="928800"/>
            <a:ext cx="6215040" cy="207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feld 3"/>
          <p:cNvSpPr/>
          <p:nvPr/>
        </p:nvSpPr>
        <p:spPr>
          <a:xfrm>
            <a:off x="1071720" y="1000080"/>
            <a:ext cx="7858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s for period fall and winter 2008/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 detectors may be availab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1,  A2,  A3,  A5,  A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1,  B2,  B3,  B5,  B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GB" sz="2400" spc="-1" strike="noStrike">
                <a:solidFill>
                  <a:srgbClr val="0000ff"/>
                </a:solidFill>
                <a:latin typeface="Arial"/>
              </a:rPr>
              <a:t>C1,  C2,  C5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6, </a:t>
            </a: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B1, B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y July 200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livery of turkish detectors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B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4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nuary - June 2009  italian detectors 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7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 repair of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mmer 2008 order of german detectors 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</a:rPr>
              <a:t>A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B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C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928800" y="214200"/>
            <a:ext cx="735624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feld 3"/>
          <p:cNvSpPr/>
          <p:nvPr/>
        </p:nvSpPr>
        <p:spPr>
          <a:xfrm>
            <a:off x="1357200" y="1263600"/>
            <a:ext cx="45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lks b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Wiens, IKP Colog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. Goergen, CEA Sac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. Quirion, Canber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. Bruyneel, IKP Colog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. Pascovici, IKP Colog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4:54:59Z</dcterms:created>
  <dc:creator>Peter Reiter</dc:creator>
  <dc:description/>
  <dc:language>en-US</dc:language>
  <cp:lastModifiedBy>preiter</cp:lastModifiedBy>
  <dcterms:modified xsi:type="dcterms:W3CDTF">2008-07-09T08:35:21Z</dcterms:modified>
  <cp:revision>78</cp:revision>
  <dc:subject/>
  <dc:title>Folie 1</dc:title>
</cp:coreProperties>
</file>