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jpeg" ContentType="image/jpeg"/>
  <Override PartName="/ppt/media/image4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D2650-3E3F-4843-BD60-2EBD565BEF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last part of my talk, I would like to draw the attention to a problem common to any segmented detector : namely cros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reates strong energy shifts in the segment sum energy, and this proportional to the hit multiplici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s are shifted compared to singles. Three folds even more, and so on. &gt;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one analyzes the doubles, one observes that it does not simply consists of a single peak, b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sorting the two folds into all possible twofold combinations, one observes that the centroids of these peaks are individually shifting according to a regular patt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ame happens in the core,however there is no such offset observed as is in the seg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thus real physics behind this phenomen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BA69-87DA-4094-A822-B08D8A620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2631-B6BC-48FA-B61B-A62CABD61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2808-56B5-48E7-95FC-B123E37B3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7CC4-15AF-4B36-B497-0C7C2C181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BAD3-4A3F-40C0-A447-D49E2957D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7BA6-ED0C-4FAC-814C-D223F995F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AEE1-32AB-4CD4-A169-6E01D3705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2D69-7F1F-4CA7-9086-CF0C7A687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D55B-AEF1-4BEE-BC1A-A34683850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1355-7DE1-4A7A-89BF-609FBCF01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5B54-1ADF-4B86-862B-FADB76514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17D3-1134-4705-B0CC-43829D1BC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2809F-E143-46E0-8D28-EF7EB872CF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EBmovies" descr=""/>
          <p:cNvPicPr/>
          <p:nvPr/>
        </p:nvPicPr>
        <p:blipFill>
          <a:blip r:embed="rId1"/>
          <a:stretch/>
        </p:blipFill>
        <p:spPr>
          <a:xfrm>
            <a:off x="0" y="-295200"/>
            <a:ext cx="9220320" cy="7207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-124200"/>
            <a:ext cx="83818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 the origin of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fferential Crosstalk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 segmented detec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4152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. Bruyneel  for the AGATA week , Uppsala, Sweden July 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03320" y="860400"/>
            <a:ext cx="85071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osstalk is present in 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ny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gmented det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fluences energy: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reates strong energy shifts proportional to fol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fluences PSA: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rosstalk mixes with transient sign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 and accurate crosstalk detection and energy correction methods develop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o Do : Crosstalk measurement and correction in P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52280" y="3200400"/>
            <a:ext cx="5181840" cy="35337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812960" y="3422520"/>
            <a:ext cx="3225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Sum of segment Energies vs f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6160"/>
            <a:ext cx="82296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Cross talk</a:t>
            </a:r>
            <a:r>
              <a:rPr b="1" lang="de-DE" sz="3200" spc="-1" strike="noStrike">
                <a:solidFill>
                  <a:srgbClr val="3333cc"/>
                </a:solidFill>
                <a:latin typeface="Comic Sans MS"/>
              </a:rPr>
              <a:t> analysis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: Moti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52880" y="2895480"/>
            <a:ext cx="10670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5310360" y="3544920"/>
          <a:ext cx="3501720" cy="2884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10360" y="3544920"/>
                    <a:ext cx="3501720" cy="28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5843520" y="42307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72120" y="34974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talk sign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osstalk in all its fo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990720" y="4411800"/>
            <a:ext cx="2687040" cy="1932840"/>
            <a:chOff x="990720" y="4411800"/>
            <a:chExt cx="2687040" cy="1932840"/>
          </a:xfrm>
        </p:grpSpPr>
        <p:sp>
          <p:nvSpPr>
            <p:cNvPr id="62" name=""/>
            <p:cNvSpPr/>
            <p:nvPr/>
          </p:nvSpPr>
          <p:spPr>
            <a:xfrm>
              <a:off x="1143000" y="4799160"/>
              <a:ext cx="2009160" cy="609480"/>
            </a:xfrm>
            <a:custGeom>
              <a:avLst/>
              <a:gdLst/>
              <a:ahLst/>
              <a:rect l="l" t="t" r="r" b="b"/>
              <a:pathLst>
                <a:path w="1488" h="384">
                  <a:moveTo>
                    <a:pt x="0" y="384"/>
                  </a:moveTo>
                  <a:lnTo>
                    <a:pt x="0" y="0"/>
                  </a:lnTo>
                  <a:lnTo>
                    <a:pt x="148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5400000">
              <a:off x="2105640" y="4507200"/>
              <a:ext cx="773280" cy="5821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154320" y="4678560"/>
              <a:ext cx="523440" cy="60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0,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121920" y="4773600"/>
              <a:ext cx="47160" cy="46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90720" y="4923000"/>
              <a:ext cx="30456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00000" y="4799160"/>
              <a:ext cx="1295280" cy="1066680"/>
            </a:xfrm>
            <a:custGeom>
              <a:avLst/>
              <a:gdLst/>
              <a:ahLst/>
              <a:rect l="l" t="t" r="r" b="b"/>
              <a:pathLst>
                <a:path w="816" h="672">
                  <a:moveTo>
                    <a:pt x="0" y="0"/>
                  </a:moveTo>
                  <a:lnTo>
                    <a:pt x="0" y="672"/>
                  </a:lnTo>
                  <a:lnTo>
                    <a:pt x="816" y="67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089160" y="5740560"/>
              <a:ext cx="523440" cy="60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,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3056760" y="5835960"/>
              <a:ext cx="47160" cy="45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rot="5400000">
              <a:off x="2113920" y="5571000"/>
              <a:ext cx="772920" cy="5821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1565280" y="5303880"/>
              <a:ext cx="453600" cy="152280"/>
              <a:chOff x="1565280" y="5303880"/>
              <a:chExt cx="453600" cy="152280"/>
            </a:xfrm>
          </p:grpSpPr>
          <p:sp>
            <p:nvSpPr>
              <p:cNvPr id="72" name=""/>
              <p:cNvSpPr/>
              <p:nvPr/>
            </p:nvSpPr>
            <p:spPr>
              <a:xfrm rot="5400000">
                <a:off x="1715760" y="5153040"/>
                <a:ext cx="152280" cy="453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656720" y="5303880"/>
                <a:ext cx="302760" cy="604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656720" y="5396040"/>
                <a:ext cx="302760" cy="601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" name=""/>
            <p:cNvSpPr/>
            <p:nvPr/>
          </p:nvSpPr>
          <p:spPr>
            <a:xfrm>
              <a:off x="1038240" y="5380200"/>
              <a:ext cx="228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076040" y="5437440"/>
              <a:ext cx="15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228760" y="5256360"/>
              <a:ext cx="228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266920" y="5313600"/>
              <a:ext cx="151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181240" y="4799160"/>
              <a:ext cx="151920" cy="533520"/>
            </a:xfrm>
            <a:custGeom>
              <a:avLst/>
              <a:gdLst/>
              <a:ahLst/>
              <a:rect l="l" t="t" r="r" b="b"/>
              <a:pathLst>
                <a:path w="96" h="336">
                  <a:moveTo>
                    <a:pt x="0" y="0"/>
                  </a:moveTo>
                  <a:lnTo>
                    <a:pt x="96" y="0"/>
                  </a:lnTo>
                  <a:lnTo>
                    <a:pt x="96" y="33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1066680" y="4986360"/>
              <a:ext cx="151920" cy="177840"/>
            </a:xfrm>
            <a:custGeom>
              <a:avLst/>
              <a:gdLst/>
              <a:ahLst/>
              <a:rect l="l" t="t" r="r" b="b"/>
              <a:pathLst>
                <a:path w="96" h="112">
                  <a:moveTo>
                    <a:pt x="0" y="56"/>
                  </a:moveTo>
                  <a:cubicBezTo>
                    <a:pt x="20" y="84"/>
                    <a:pt x="40" y="112"/>
                    <a:pt x="48" y="104"/>
                  </a:cubicBezTo>
                  <a:cubicBezTo>
                    <a:pt x="56" y="96"/>
                    <a:pt x="40" y="16"/>
                    <a:pt x="48" y="8"/>
                  </a:cubicBezTo>
                  <a:cubicBezTo>
                    <a:pt x="56" y="0"/>
                    <a:pt x="76" y="28"/>
                    <a:pt x="96" y="5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295360" y="4846680"/>
              <a:ext cx="75960" cy="2286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450520" y="4846680"/>
              <a:ext cx="503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Z</a:t>
              </a:r>
              <a:r>
                <a:rPr b="0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295280" y="5389560"/>
              <a:ext cx="609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0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3809880" y="4724280"/>
            <a:ext cx="5105520" cy="13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talk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imes New Roman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portional Xtalk model 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Miller = 1/sA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f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ller does not explain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riseti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of preamplifier…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304920" y="1182600"/>
            <a:ext cx="8610480" cy="2932200"/>
            <a:chOff x="304920" y="1182600"/>
            <a:chExt cx="8610480" cy="2932200"/>
          </a:xfrm>
        </p:grpSpPr>
        <p:sp>
          <p:nvSpPr>
            <p:cNvPr id="86" name=""/>
            <p:cNvSpPr/>
            <p:nvPr/>
          </p:nvSpPr>
          <p:spPr>
            <a:xfrm>
              <a:off x="3733920" y="1535040"/>
              <a:ext cx="5181480" cy="13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portional Xtalk (50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 decay)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Energ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ifferential Xtalk (only during 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risetime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PS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" name=""/>
            <p:cNvGrpSpPr/>
            <p:nvPr/>
          </p:nvGrpSpPr>
          <p:grpSpPr>
            <a:xfrm>
              <a:off x="304920" y="1182600"/>
              <a:ext cx="3502080" cy="2932200"/>
              <a:chOff x="304920" y="1182600"/>
              <a:chExt cx="3502080" cy="2932200"/>
            </a:xfrm>
          </p:grpSpPr>
          <p:graphicFrame>
            <p:nvGraphicFramePr>
              <p:cNvPr id="88" name=""/>
              <p:cNvGraphicFramePr/>
              <p:nvPr/>
            </p:nvGraphicFramePr>
            <p:xfrm>
              <a:off x="304920" y="1230120"/>
              <a:ext cx="3502080" cy="288468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89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04920" y="1230120"/>
                        <a:ext cx="3502080" cy="2884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0" name=""/>
              <p:cNvSpPr/>
              <p:nvPr/>
            </p:nvSpPr>
            <p:spPr>
              <a:xfrm>
                <a:off x="838440" y="1915920"/>
                <a:ext cx="2743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067040" y="1182600"/>
                <a:ext cx="251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ure Xtalk signal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" name=""/>
            <p:cNvSpPr/>
            <p:nvPr/>
          </p:nvSpPr>
          <p:spPr>
            <a:xfrm>
              <a:off x="1752480" y="2678040"/>
              <a:ext cx="198144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657600" y="1611360"/>
              <a:ext cx="0" cy="3045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amp model describing rise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144440" y="1100160"/>
          <a:ext cx="6853320" cy="4657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4440" y="1100160"/>
                    <a:ext cx="6853320" cy="46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2209680" y="2133720"/>
            <a:ext cx="137160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Times New Roman"/>
              </a:rPr>
              <a:t>V</a:t>
            </a:r>
            <a:r>
              <a:rPr b="0" lang="en-US" sz="1800" spc="-1" strike="noStrike" baseline="-25000">
                <a:solidFill>
                  <a:srgbClr val="ff00ff"/>
                </a:solidFill>
                <a:latin typeface="Times New Roman"/>
              </a:rPr>
              <a:t>out</a:t>
            </a:r>
            <a:r>
              <a:rPr b="0" lang="en-US" sz="1800" spc="-1" strike="noStrike">
                <a:solidFill>
                  <a:srgbClr val="ff00ff"/>
                </a:solidFill>
                <a:latin typeface="Times New Roman"/>
              </a:rPr>
              <a:t>/I</a:t>
            </a:r>
            <a:r>
              <a:rPr b="0" lang="en-US" sz="1800" spc="-1" strike="noStrike" baseline="-25000">
                <a:solidFill>
                  <a:srgbClr val="ff00ff"/>
                </a:solidFill>
                <a:latin typeface="Times New Roman"/>
              </a:rPr>
              <a:t>in</a:t>
            </a:r>
            <a:r>
              <a:rPr b="0" lang="en-US" sz="1800" spc="-1" strike="noStrike">
                <a:solidFill>
                  <a:srgbClr val="ff00ff"/>
                </a:solidFill>
                <a:latin typeface="Times New Roman"/>
              </a:rPr>
              <a:t> = Z</a:t>
            </a:r>
            <a:r>
              <a:rPr b="0" lang="en-US" sz="1800" spc="-1" strike="noStrike" baseline="-25000">
                <a:solidFill>
                  <a:srgbClr val="ff00ff"/>
                </a:solidFill>
                <a:latin typeface="Times New Roman"/>
              </a:rPr>
              <a:t>f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952880" y="4148280"/>
            <a:ext cx="1295640" cy="828360"/>
          </a:xfrm>
          <a:prstGeom prst="line">
            <a:avLst/>
          </a:prstGeom>
          <a:ln w="1908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09680" y="2743200"/>
            <a:ext cx="129564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Times New Roman"/>
              </a:rPr>
              <a:t>in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= V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Times New Roman"/>
              </a:rPr>
              <a:t>in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/I</a:t>
            </a:r>
            <a:r>
              <a:rPr b="0" lang="en-US" sz="1800" spc="-1" strike="noStrike" baseline="-25000">
                <a:solidFill>
                  <a:srgbClr val="3333cc"/>
                </a:solidFill>
                <a:latin typeface="Times New Roman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33720" y="4129200"/>
            <a:ext cx="2743200" cy="9360"/>
          </a:xfrm>
          <a:prstGeom prst="line">
            <a:avLst/>
          </a:prstGeom>
          <a:ln w="1908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09680" y="4452840"/>
            <a:ext cx="2590920" cy="510120"/>
          </a:xfrm>
          <a:prstGeom prst="rect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= Z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fb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A + R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c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43000" y="5943600"/>
            <a:ext cx="7162920" cy="6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Cold Resisto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: - E. Gatti and P. Manfredi – Il Nuovo Cimento vol. 9 serie 3 (198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“Analogue circuits techniques Part II ” F. Anghinolfi , CERN (2002) – (available onli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5475240" y="1514520"/>
            <a:ext cx="2305800" cy="1371600"/>
            <a:chOff x="5475240" y="1514520"/>
            <a:chExt cx="2305800" cy="1371600"/>
          </a:xfrm>
        </p:grpSpPr>
        <p:sp>
          <p:nvSpPr>
            <p:cNvPr id="104" name=""/>
            <p:cNvSpPr/>
            <p:nvPr/>
          </p:nvSpPr>
          <p:spPr>
            <a:xfrm>
              <a:off x="5475240" y="1514520"/>
              <a:ext cx="220968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551200" y="1666800"/>
              <a:ext cx="2229840" cy="1025640"/>
              <a:chOff x="5551200" y="1666800"/>
              <a:chExt cx="2229840" cy="1025640"/>
            </a:xfrm>
          </p:grpSpPr>
          <p:sp>
            <p:nvSpPr>
              <p:cNvPr id="106" name=""/>
              <p:cNvSpPr/>
              <p:nvPr/>
            </p:nvSpPr>
            <p:spPr>
              <a:xfrm>
                <a:off x="5703120" y="2054160"/>
                <a:ext cx="1552320" cy="609480"/>
              </a:xfrm>
              <a:custGeom>
                <a:avLst/>
                <a:gdLst/>
                <a:ahLst/>
                <a:rect l="l" t="t" r="r" b="b"/>
                <a:pathLst>
                  <a:path w="1488" h="384">
                    <a:moveTo>
                      <a:pt x="0" y="384"/>
                    </a:moveTo>
                    <a:lnTo>
                      <a:pt x="0" y="0"/>
                    </a:lnTo>
                    <a:lnTo>
                      <a:pt x="14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5400000">
                <a:off x="6208920" y="1762200"/>
                <a:ext cx="773280" cy="5821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257240" y="1933560"/>
                <a:ext cx="523800" cy="60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ou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H="1">
                <a:off x="7225560" y="2028600"/>
                <a:ext cx="47520" cy="46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551200" y="2178000"/>
                <a:ext cx="304560" cy="304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598360" y="2635200"/>
                <a:ext cx="228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636520" y="2692440"/>
                <a:ext cx="151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627160" y="2241360"/>
                <a:ext cx="151920" cy="177840"/>
              </a:xfrm>
              <a:custGeom>
                <a:avLst/>
                <a:gdLst/>
                <a:ahLst/>
                <a:rect l="l" t="t" r="r" b="b"/>
                <a:pathLst>
                  <a:path w="96" h="112">
                    <a:moveTo>
                      <a:pt x="0" y="56"/>
                    </a:moveTo>
                    <a:cubicBezTo>
                      <a:pt x="20" y="84"/>
                      <a:pt x="40" y="112"/>
                      <a:pt x="48" y="104"/>
                    </a:cubicBezTo>
                    <a:cubicBezTo>
                      <a:pt x="56" y="96"/>
                      <a:pt x="40" y="16"/>
                      <a:pt x="48" y="8"/>
                    </a:cubicBezTo>
                    <a:cubicBezTo>
                      <a:pt x="56" y="0"/>
                      <a:pt x="76" y="28"/>
                      <a:pt x="96" y="56"/>
                    </a:cubicBez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941440" y="1781280"/>
                <a:ext cx="523440" cy="60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i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"/>
          <p:cNvSpPr/>
          <p:nvPr/>
        </p:nvSpPr>
        <p:spPr>
          <a:xfrm>
            <a:off x="5855400" y="2190600"/>
            <a:ext cx="335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talk exten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380880" y="1820880"/>
            <a:ext cx="2687760" cy="1932840"/>
            <a:chOff x="380880" y="1820880"/>
            <a:chExt cx="2687760" cy="1932840"/>
          </a:xfrm>
        </p:grpSpPr>
        <p:sp>
          <p:nvSpPr>
            <p:cNvPr id="118" name=""/>
            <p:cNvSpPr/>
            <p:nvPr/>
          </p:nvSpPr>
          <p:spPr>
            <a:xfrm>
              <a:off x="533520" y="2208240"/>
              <a:ext cx="2009520" cy="609480"/>
            </a:xfrm>
            <a:custGeom>
              <a:avLst/>
              <a:gdLst/>
              <a:ahLst/>
              <a:rect l="l" t="t" r="r" b="b"/>
              <a:pathLst>
                <a:path w="1488" h="384">
                  <a:moveTo>
                    <a:pt x="0" y="384"/>
                  </a:moveTo>
                  <a:lnTo>
                    <a:pt x="0" y="0"/>
                  </a:lnTo>
                  <a:lnTo>
                    <a:pt x="148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5400000">
              <a:off x="1496880" y="1916280"/>
              <a:ext cx="773280" cy="5824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44840" y="2087640"/>
              <a:ext cx="523800" cy="60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0,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2513160" y="2182680"/>
              <a:ext cx="47520" cy="46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0880" y="2332080"/>
              <a:ext cx="30492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190520" y="2208240"/>
              <a:ext cx="1295640" cy="1066680"/>
            </a:xfrm>
            <a:custGeom>
              <a:avLst/>
              <a:gdLst/>
              <a:ahLst/>
              <a:rect l="l" t="t" r="r" b="b"/>
              <a:pathLst>
                <a:path w="816" h="672">
                  <a:moveTo>
                    <a:pt x="0" y="0"/>
                  </a:moveTo>
                  <a:lnTo>
                    <a:pt x="0" y="672"/>
                  </a:lnTo>
                  <a:lnTo>
                    <a:pt x="816" y="67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479680" y="3149640"/>
              <a:ext cx="523800" cy="60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,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2448000" y="3245040"/>
              <a:ext cx="47520" cy="45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5400000">
              <a:off x="1504800" y="2979720"/>
              <a:ext cx="772920" cy="5824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955440" y="2712960"/>
              <a:ext cx="453960" cy="152280"/>
              <a:chOff x="955440" y="2712960"/>
              <a:chExt cx="453960" cy="152280"/>
            </a:xfrm>
          </p:grpSpPr>
          <p:sp>
            <p:nvSpPr>
              <p:cNvPr id="128" name=""/>
              <p:cNvSpPr/>
              <p:nvPr/>
            </p:nvSpPr>
            <p:spPr>
              <a:xfrm rot="5400000">
                <a:off x="1106280" y="2562120"/>
                <a:ext cx="152280" cy="453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046520" y="2712960"/>
                <a:ext cx="303120" cy="604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046520" y="2805120"/>
                <a:ext cx="303120" cy="601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428760" y="27892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66560" y="2846520"/>
              <a:ext cx="152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619280" y="266544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657440" y="2722680"/>
              <a:ext cx="152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571760" y="2208240"/>
              <a:ext cx="152280" cy="533520"/>
            </a:xfrm>
            <a:custGeom>
              <a:avLst/>
              <a:gdLst/>
              <a:ahLst/>
              <a:rect l="l" t="t" r="r" b="b"/>
              <a:pathLst>
                <a:path w="96" h="336">
                  <a:moveTo>
                    <a:pt x="0" y="0"/>
                  </a:moveTo>
                  <a:lnTo>
                    <a:pt x="96" y="0"/>
                  </a:lnTo>
                  <a:lnTo>
                    <a:pt x="96" y="33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457200" y="2395440"/>
              <a:ext cx="152280" cy="177840"/>
            </a:xfrm>
            <a:custGeom>
              <a:avLst/>
              <a:gdLst/>
              <a:ahLst/>
              <a:rect l="l" t="t" r="r" b="b"/>
              <a:pathLst>
                <a:path w="96" h="112">
                  <a:moveTo>
                    <a:pt x="0" y="56"/>
                  </a:moveTo>
                  <a:cubicBezTo>
                    <a:pt x="20" y="84"/>
                    <a:pt x="40" y="112"/>
                    <a:pt x="48" y="104"/>
                  </a:cubicBezTo>
                  <a:cubicBezTo>
                    <a:pt x="56" y="96"/>
                    <a:pt x="40" y="16"/>
                    <a:pt x="48" y="8"/>
                  </a:cubicBezTo>
                  <a:cubicBezTo>
                    <a:pt x="56" y="0"/>
                    <a:pt x="76" y="28"/>
                    <a:pt x="96" y="5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85880" y="2255760"/>
              <a:ext cx="76320" cy="2286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41040" y="2255760"/>
              <a:ext cx="503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Z</a:t>
              </a:r>
              <a:r>
                <a:rPr b="0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85800" y="279864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0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3276720" y="2057400"/>
            <a:ext cx="5715000" cy="2044080"/>
            <a:chOff x="3276720" y="2057400"/>
            <a:chExt cx="5715000" cy="2044080"/>
          </a:xfrm>
        </p:grpSpPr>
        <p:sp>
          <p:nvSpPr>
            <p:cNvPr id="141" name=""/>
            <p:cNvSpPr/>
            <p:nvPr/>
          </p:nvSpPr>
          <p:spPr>
            <a:xfrm>
              <a:off x="3276720" y="2057400"/>
              <a:ext cx="5715000" cy="20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ith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Z</a:t>
              </a:r>
              <a:r>
                <a:rPr b="0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i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1/sA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f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+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ol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talk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~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Z</a:t>
              </a:r>
              <a:r>
                <a:rPr b="0" lang="en-US" sz="2400" spc="-1" strike="noStrike" baseline="-25000">
                  <a:solidFill>
                    <a:srgbClr val="3333cc"/>
                  </a:solidFill>
                  <a:latin typeface="Times New Roman"/>
                </a:rPr>
                <a:t>i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/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01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/A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f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+ s .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old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                              </a:t>
              </a:r>
              <a:r>
                <a:rPr b="0" lang="en-US" sz="2000" spc="-1" strike="noStrike">
                  <a:solidFill>
                    <a:srgbClr val="00cc99"/>
                  </a:solidFill>
                  <a:latin typeface="Times New Roman"/>
                </a:rPr>
                <a:t>Proportional + Differential Xtal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591160" y="2571480"/>
              <a:ext cx="1219320" cy="609840"/>
            </a:xfrm>
            <a:prstGeom prst="ellipse">
              <a:avLst/>
            </a:prstGeom>
            <a:noFill/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010640" y="2590560"/>
              <a:ext cx="1447560" cy="609840"/>
            </a:xfrm>
            <a:prstGeom prst="ellipse">
              <a:avLst/>
            </a:prstGeom>
            <a:noFill/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2362320" y="4267080"/>
            <a:ext cx="441936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 :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col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1k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       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10p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erential Xtalk = 1000%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00280" y="57150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rning: Other ways possible to create Derivative Xtalk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listic simulation (Multisi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1530360"/>
            <a:ext cx="2009880" cy="609480"/>
          </a:xfrm>
          <a:custGeom>
            <a:avLst/>
            <a:gdLst/>
            <a:ahLst/>
            <a:rect l="l" t="t" r="r" b="b"/>
            <a:pathLst>
              <a:path w="1488" h="384">
                <a:moveTo>
                  <a:pt x="0" y="384"/>
                </a:moveTo>
                <a:lnTo>
                  <a:pt x="0" y="0"/>
                </a:lnTo>
                <a:lnTo>
                  <a:pt x="148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5400000">
            <a:off x="1648800" y="1238040"/>
            <a:ext cx="773280" cy="5828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97120" y="1409760"/>
            <a:ext cx="52380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en-US" sz="1200" spc="-1" strike="noStrike" baseline="-25000">
                <a:solidFill>
                  <a:srgbClr val="ff0000"/>
                </a:solidFill>
                <a:latin typeface="Arial"/>
              </a:rPr>
              <a:t>0,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665440" y="1504800"/>
            <a:ext cx="47520" cy="46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520" y="16542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343160" y="1530360"/>
            <a:ext cx="1295280" cy="1066680"/>
          </a:xfrm>
          <a:custGeom>
            <a:avLst/>
            <a:gdLst/>
            <a:ahLst/>
            <a:rect l="l" t="t" r="r" b="b"/>
            <a:pathLst>
              <a:path w="816" h="672">
                <a:moveTo>
                  <a:pt x="0" y="0"/>
                </a:moveTo>
                <a:lnTo>
                  <a:pt x="0" y="672"/>
                </a:lnTo>
                <a:lnTo>
                  <a:pt x="816" y="67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31960" y="2471760"/>
            <a:ext cx="52416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V</a:t>
            </a:r>
            <a:r>
              <a:rPr b="0" lang="en-US" sz="1200" spc="-1" strike="noStrike" baseline="-25000">
                <a:solidFill>
                  <a:srgbClr val="3333cc"/>
                </a:solidFill>
                <a:latin typeface="Arial"/>
              </a:rPr>
              <a:t>1,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600280" y="2567160"/>
            <a:ext cx="47520" cy="45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1657080" y="2301840"/>
            <a:ext cx="772920" cy="5828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107720" y="2035080"/>
            <a:ext cx="453960" cy="152280"/>
            <a:chOff x="1107720" y="2035080"/>
            <a:chExt cx="453960" cy="152280"/>
          </a:xfrm>
        </p:grpSpPr>
        <p:sp>
          <p:nvSpPr>
            <p:cNvPr id="157" name=""/>
            <p:cNvSpPr/>
            <p:nvPr/>
          </p:nvSpPr>
          <p:spPr>
            <a:xfrm rot="5400000">
              <a:off x="1258560" y="1884240"/>
              <a:ext cx="152280" cy="45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198800" y="2035080"/>
              <a:ext cx="303120" cy="60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198800" y="2127240"/>
              <a:ext cx="303120" cy="60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581040" y="21114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9200" y="216864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609480" y="1717560"/>
            <a:ext cx="152640" cy="177840"/>
          </a:xfrm>
          <a:custGeom>
            <a:avLst/>
            <a:gdLst/>
            <a:ahLst/>
            <a:rect l="l" t="t" r="r" b="b"/>
            <a:pathLst>
              <a:path w="96" h="112">
                <a:moveTo>
                  <a:pt x="0" y="56"/>
                </a:moveTo>
                <a:cubicBezTo>
                  <a:pt x="20" y="84"/>
                  <a:pt x="40" y="112"/>
                  <a:pt x="48" y="104"/>
                </a:cubicBezTo>
                <a:cubicBezTo>
                  <a:pt x="56" y="96"/>
                  <a:pt x="40" y="16"/>
                  <a:pt x="48" y="8"/>
                </a:cubicBezTo>
                <a:cubicBezTo>
                  <a:pt x="56" y="0"/>
                  <a:pt x="76" y="28"/>
                  <a:pt x="96" y="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212076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p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rcRect l="0" t="0" r="2204" b="0"/>
          <a:stretch/>
        </p:blipFill>
        <p:spPr>
          <a:xfrm>
            <a:off x="380880" y="3429000"/>
            <a:ext cx="2880000" cy="33526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80880" y="30481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istic Preamp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rcRect l="1348" t="0" r="1348" b="0"/>
          <a:stretch/>
        </p:blipFill>
        <p:spPr>
          <a:xfrm>
            <a:off x="3951360" y="1752480"/>
            <a:ext cx="4667040" cy="43214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8001000" y="1674720"/>
            <a:ext cx="52380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en-US" sz="1200" spc="-1" strike="noStrike" baseline="-25000">
                <a:solidFill>
                  <a:srgbClr val="ff0000"/>
                </a:solidFill>
                <a:latin typeface="Arial"/>
              </a:rPr>
              <a:t>0,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077320" y="4722840"/>
            <a:ext cx="52380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V</a:t>
            </a:r>
            <a:r>
              <a:rPr b="0" lang="en-US" sz="1200" spc="-1" strike="noStrike" baseline="-25000">
                <a:solidFill>
                  <a:srgbClr val="3333cc"/>
                </a:solidFill>
                <a:latin typeface="Arial"/>
              </a:rPr>
              <a:t>1,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"/>
          <p:cNvGraphicFramePr/>
          <p:nvPr/>
        </p:nvGraphicFramePr>
        <p:xfrm>
          <a:off x="622440" y="1219320"/>
          <a:ext cx="4624200" cy="4633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2440" y="1219320"/>
                    <a:ext cx="4624200" cy="46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Differential Xtalk from Proportional Xtalk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447560" y="3238560"/>
            <a:ext cx="76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2..A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50480" y="359100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286880" y="364824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4120" y="1905120"/>
            <a:ext cx="0" cy="25146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rot="16200000">
            <a:off x="4317480" y="2427480"/>
            <a:ext cx="24382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Arial"/>
              </a:rPr>
              <a:t>Core to seg capacit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952880" y="1914480"/>
            <a:ext cx="68580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7920" y="4419720"/>
            <a:ext cx="419076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3"/>
          <a:srcRect l="0" t="0" r="1222" b="0"/>
          <a:stretch/>
        </p:blipFill>
        <p:spPr>
          <a:xfrm>
            <a:off x="6324480" y="1828800"/>
            <a:ext cx="2095560" cy="27432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6019920" y="1328760"/>
            <a:ext cx="266688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gment label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ctors: A...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ings: 1...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0" y="4343400"/>
            <a:ext cx="304920" cy="228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991200" y="2981160"/>
            <a:ext cx="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7086600" y="44578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629400" y="4219560"/>
            <a:ext cx="30492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191120" y="3962520"/>
            <a:ext cx="0" cy="4572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09880" y="3933720"/>
            <a:ext cx="685800" cy="0"/>
          </a:xfrm>
          <a:prstGeom prst="line">
            <a:avLst/>
          </a:prstGeom>
          <a:ln w="93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895480" y="3176640"/>
            <a:ext cx="1981440" cy="10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g to se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paciti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614376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erential Xtalk will show up in adjacent segments and within same s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measure …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523880" y="838080"/>
            <a:ext cx="6286680" cy="3162600"/>
          </a:xfrm>
          <a:prstGeom prst="rect">
            <a:avLst/>
          </a:prstGeom>
          <a:ln w="0">
            <a:noFill/>
          </a:ln>
        </p:spPr>
      </p:pic>
      <p:grpSp>
        <p:nvGrpSpPr>
          <p:cNvPr id="191" name=""/>
          <p:cNvGrpSpPr/>
          <p:nvPr/>
        </p:nvGrpSpPr>
        <p:grpSpPr>
          <a:xfrm>
            <a:off x="762120" y="3886200"/>
            <a:ext cx="7721280" cy="2286000"/>
            <a:chOff x="762120" y="3886200"/>
            <a:chExt cx="7721280" cy="2286000"/>
          </a:xfrm>
        </p:grpSpPr>
        <p:pic>
          <p:nvPicPr>
            <p:cNvPr id="192" name="" descr=""/>
            <p:cNvPicPr/>
            <p:nvPr/>
          </p:nvPicPr>
          <p:blipFill>
            <a:blip r:embed="rId2"/>
            <a:srcRect l="0" t="0" r="1063" b="0"/>
            <a:stretch/>
          </p:blipFill>
          <p:spPr>
            <a:xfrm>
              <a:off x="762120" y="3949560"/>
              <a:ext cx="5126040" cy="2222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3" name=""/>
            <p:cNvGrpSpPr/>
            <p:nvPr/>
          </p:nvGrpSpPr>
          <p:grpSpPr>
            <a:xfrm>
              <a:off x="5943600" y="3886200"/>
              <a:ext cx="2539800" cy="2171880"/>
              <a:chOff x="5943600" y="3886200"/>
              <a:chExt cx="2539800" cy="2171880"/>
            </a:xfrm>
          </p:grpSpPr>
          <p:pic>
            <p:nvPicPr>
              <p:cNvPr id="194" name="" descr=""/>
              <p:cNvPicPr/>
              <p:nvPr/>
            </p:nvPicPr>
            <p:blipFill>
              <a:blip r:embed="rId3"/>
              <a:srcRect l="0" t="0" r="2074" b="0"/>
              <a:stretch/>
            </p:blipFill>
            <p:spPr>
              <a:xfrm>
                <a:off x="5943600" y="3886200"/>
                <a:ext cx="2539800" cy="217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5" name="" descr=""/>
              <p:cNvPicPr/>
              <p:nvPr/>
            </p:nvPicPr>
            <p:blipFill>
              <a:blip r:embed="rId4"/>
              <a:srcRect l="0" t="0" r="19316" b="0"/>
              <a:stretch/>
            </p:blipFill>
            <p:spPr>
              <a:xfrm>
                <a:off x="6400800" y="4038480"/>
                <a:ext cx="272880" cy="385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96" name=""/>
          <p:cNvSpPr/>
          <p:nvPr/>
        </p:nvSpPr>
        <p:spPr>
          <a:xfrm>
            <a:off x="141120" y="6362640"/>
            <a:ext cx="887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. Bruyneel et al. NIM A 569 (2006) 774-789  /  MGS workshop (April 2005)   /   AGATA week (Nov 2005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361960" y="76320"/>
            <a:ext cx="4800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measure…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14280" y="1123920"/>
            <a:ext cx="4724280" cy="13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Pulse Shape Characterization and Sim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for the TIGRESS Gamma-ray Detecto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sis Robin Prest TRIUMF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physics.uoguelph.ca/Nucweb/tigress.h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2280" y="5391000"/>
            <a:ext cx="512460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6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“</a:t>
            </a:r>
            <a:r>
              <a:rPr b="1" i="1" lang="en-CA" sz="16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Differential Analysis” using mirror interaction poin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 from transients of mirror interactions are pure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1333440" y="2639880"/>
            <a:ext cx="2792160" cy="2465640"/>
            <a:chOff x="1333440" y="2639880"/>
            <a:chExt cx="2792160" cy="2465640"/>
          </a:xfrm>
        </p:grpSpPr>
        <p:sp>
          <p:nvSpPr>
            <p:cNvPr id="201" name=""/>
            <p:cNvSpPr/>
            <p:nvPr/>
          </p:nvSpPr>
          <p:spPr>
            <a:xfrm>
              <a:off x="1379520" y="2639880"/>
              <a:ext cx="2261880" cy="2359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94000" y="2639880"/>
              <a:ext cx="6969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Bitstream Vera Sans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336320" y="2670120"/>
              <a:ext cx="6969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Bitstream Vera Sans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279600" y="4545000"/>
              <a:ext cx="696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Bitstream Vera Sans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422440" y="3727440"/>
              <a:ext cx="176040" cy="182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2598480" y="3003120"/>
              <a:ext cx="695520" cy="72396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598480" y="3828960"/>
              <a:ext cx="10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380960" y="3828960"/>
              <a:ext cx="104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2511360" y="3919320"/>
              <a:ext cx="0" cy="109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2514600" y="2652480"/>
              <a:ext cx="0" cy="10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333440" y="4560840"/>
              <a:ext cx="69984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Bitstream Vera Sans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625480" y="2884320"/>
              <a:ext cx="101124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</a:t>
              </a: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Bitstream Vera Sans"/>
                </a:rPr>
                <a:t>(a,b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133440" y="3389400"/>
              <a:ext cx="99216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</a:t>
              </a: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Bitstream Vera Sans"/>
                </a:rPr>
                <a:t>(b,a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743200" y="3048120"/>
              <a:ext cx="504720" cy="495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5410080" y="3911760"/>
            <a:ext cx="3429000" cy="2431800"/>
            <a:chOff x="5410080" y="3911760"/>
            <a:chExt cx="3429000" cy="2431800"/>
          </a:xfrm>
        </p:grpSpPr>
        <p:pic>
          <p:nvPicPr>
            <p:cNvPr id="216" name="rpair354045" descr=""/>
            <p:cNvPicPr/>
            <p:nvPr/>
          </p:nvPicPr>
          <p:blipFill>
            <a:blip r:embed="rId1"/>
            <a:srcRect l="0" t="3546" r="54809" b="52109"/>
            <a:stretch/>
          </p:blipFill>
          <p:spPr>
            <a:xfrm>
              <a:off x="5410080" y="3911760"/>
              <a:ext cx="3429000" cy="243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6553080" y="4133880"/>
              <a:ext cx="2057400" cy="74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Bitstream Vera Sans"/>
                </a:rPr>
                <a:t>Differential analysis</a:t>
              </a:r>
              <a:r>
                <a:rPr b="0" lang="en-GB" sz="1200" spc="-1" strike="noStrike" baseline="-30000">
                  <a:solidFill>
                    <a:srgbClr val="000000"/>
                  </a:solidFill>
                  <a:latin typeface="Times New Roman"/>
                  <a:ea typeface="Bitstream Vera Sans"/>
                </a:rPr>
                <a:t>.</a:t>
              </a: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Bitstream Vera Sans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Bitstream Vera Sans"/>
                </a:rPr>
                <a:t>for simulation (green)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Bitstream Vera Sans"/>
                </a:rPr>
                <a:t>and experiment (re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3228840" y="23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8840" y="23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5410080" y="1238400"/>
            <a:ext cx="3448080" cy="2665440"/>
            <a:chOff x="5410080" y="1238400"/>
            <a:chExt cx="3448080" cy="2665440"/>
          </a:xfrm>
        </p:grpSpPr>
        <p:pic>
          <p:nvPicPr>
            <p:cNvPr id="221" name="convexp-3540b4" descr=""/>
            <p:cNvPicPr/>
            <p:nvPr/>
          </p:nvPicPr>
          <p:blipFill>
            <a:blip r:embed="rId2"/>
            <a:srcRect l="0" t="0" r="54809" b="51666"/>
            <a:stretch/>
          </p:blipFill>
          <p:spPr>
            <a:xfrm>
              <a:off x="5410080" y="1238400"/>
              <a:ext cx="3448080" cy="26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6095880" y="1619280"/>
              <a:ext cx="26672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Bitstream Vera Sans"/>
                </a:rPr>
                <a:t>Simulated signal (green) compared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Bitstream Vera Sans"/>
                </a:rPr>
                <a:t>to experimental signal (red)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imes New Roman"/>
                  <a:ea typeface="Bitstream Vera Sans"/>
                </a:rPr>
                <a:t>suffering from cross-tal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5297400" y="1122480"/>
            <a:ext cx="895320" cy="311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1T17:01:25Z</dcterms:created>
  <dc:creator>Bart Bruyneel</dc:creator>
  <dc:description/>
  <dc:language>en-US</dc:language>
  <cp:lastModifiedBy>user</cp:lastModifiedBy>
  <dcterms:modified xsi:type="dcterms:W3CDTF">2008-07-08T23:31:40Z</dcterms:modified>
  <cp:revision>16</cp:revision>
  <dc:subject/>
  <dc:title>title</dc:title>
</cp:coreProperties>
</file>