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1.gif" ContentType="image/gif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5.png" ContentType="image/png"/>
  <Override PartName="/ppt/media/image17.jpeg" ContentType="image/jpeg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E88E-4852-4B35-B6B9-320D6ECC0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2CEC-9E7B-4EDB-A48B-B915D39D1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1606-CAE1-41C7-B1BB-2F5797F88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28600" y="703440"/>
            <a:ext cx="4597560" cy="34477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25560" y="4362480"/>
            <a:ext cx="500688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r-TR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DF9D-1F36-4D69-AE00-51A11B251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1179-E78E-416A-A410-E2B5EFC07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34D-49BE-43DE-A5D3-C10983D14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4925-2E38-48B2-AC6E-03564AE3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651-5749-4912-ACF7-D2220478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681-1BC7-4F3F-B13A-D7678DF2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A8F-E822-407A-A2C0-2C869D68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CE1-7D9B-4375-8271-8E49EA71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BA2-1757-4913-A70F-97BB3D87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D411-8D73-4412-8F65-483B0CB8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404-9EFA-423A-86C7-7D13AC60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650E-DD19-47C0-AC87-B499F20C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787C-4524-43B7-8F5D-B1A9349B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5DD-619D-40D9-8B5A-E24935A7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53F0-16CB-40E0-97CC-B8F00D676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619760" cy="2895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realistic simulation of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tr-TR" sz="4000" spc="-1" strike="noStrike">
                <a:solidFill>
                  <a:srgbClr val="000000"/>
                </a:solidFill>
                <a:latin typeface="Comic Sans Ms"/>
              </a:rPr>
              <a:t>AGATA Demonstrator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ISMA Spectrome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5105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Elif INCE, Istanbul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6680" cy="158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228600" y="152280"/>
          <a:ext cx="167652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2280"/>
                    <a:ext cx="16765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7 th AGATA Week, 08-11 July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04920" y="762120"/>
          <a:ext cx="853416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853416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563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omic Sans Ms"/>
              </a:rPr>
              <a:t>Doppler correction cap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Assuming that 3 projectile-like ions were obtained from the reactio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mitting photons with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 very close energ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baseline="30000">
                <a:solidFill>
                  <a:srgbClr val="ff33cc"/>
                </a:solidFill>
                <a:latin typeface="Comic Sans Ms"/>
              </a:rPr>
              <a:t>                      </a:t>
            </a:r>
            <a:r>
              <a:rPr b="1" lang="tr-TR" sz="2400" spc="-1" strike="noStrike" baseline="30000">
                <a:solidFill>
                  <a:srgbClr val="ff33cc"/>
                </a:solidFill>
                <a:latin typeface="Comic Sans Ms"/>
              </a:rPr>
              <a:t>90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Zr (1000 k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tr-TR" sz="2400" spc="-1" strike="noStrike" baseline="30000">
                <a:solidFill>
                  <a:srgbClr val="ff33cc"/>
                </a:solidFill>
                <a:latin typeface="Comic Sans Ms"/>
              </a:rPr>
              <a:t>91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Zr (1003 k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tr-TR" sz="2400" spc="-1" strike="noStrike" baseline="30000">
                <a:solidFill>
                  <a:srgbClr val="ff33cc"/>
                </a:solidFill>
                <a:latin typeface="Comic Sans Ms"/>
              </a:rPr>
              <a:t>89</a:t>
            </a:r>
            <a:r>
              <a:rPr b="1" lang="tr-TR" sz="2400" spc="-1" strike="noStrike">
                <a:solidFill>
                  <a:srgbClr val="ff33cc"/>
                </a:solidFill>
                <a:latin typeface="Comic Sans Ms"/>
              </a:rPr>
              <a:t>Y  (998 k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baseline="30000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Zr + </a:t>
            </a:r>
            <a:r>
              <a:rPr b="1" lang="tr-TR" sz="2400" spc="-1" strike="noStrike" baseline="30000">
                <a:solidFill>
                  <a:srgbClr val="000000"/>
                </a:solidFill>
                <a:latin typeface="Comic Sans Ms"/>
              </a:rPr>
              <a:t>208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Pb (0.300mg/cm², @ 45.0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projectile energy:56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projectile like energies:(29% FWHM disper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tr-TR" sz="2400" spc="-1" strike="noStrike" baseline="30000">
                <a:solidFill>
                  <a:srgbClr val="00ff00"/>
                </a:solidFill>
                <a:latin typeface="Comic Sans Ms"/>
              </a:rPr>
              <a:t>90</a:t>
            </a:r>
            <a:r>
              <a:rPr b="1" lang="tr-TR" sz="2400" spc="-1" strike="noStrike">
                <a:solidFill>
                  <a:srgbClr val="00ff00"/>
                </a:solidFill>
                <a:latin typeface="Comic Sans Ms"/>
              </a:rPr>
              <a:t>Zr--&gt; 346.2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tr-TR" sz="2400" spc="-1" strike="noStrike">
                <a:solidFill>
                  <a:srgbClr val="00ff00"/>
                </a:solidFill>
                <a:latin typeface="Comic Sans Ms"/>
              </a:rPr>
              <a:t>        </a:t>
            </a:r>
            <a:r>
              <a:rPr b="1" lang="tr-TR" sz="2400" spc="-1" strike="noStrike" baseline="30000">
                <a:solidFill>
                  <a:srgbClr val="00ff00"/>
                </a:solidFill>
                <a:latin typeface="Comic Sans Ms"/>
              </a:rPr>
              <a:t>91</a:t>
            </a:r>
            <a:r>
              <a:rPr b="1" lang="tr-TR" sz="2400" spc="-1" strike="noStrike">
                <a:solidFill>
                  <a:srgbClr val="00ff00"/>
                </a:solidFill>
                <a:latin typeface="Comic Sans Ms"/>
              </a:rPr>
              <a:t>Zr--&gt; 344.7 MeV</a:t>
            </a:r>
            <a:r>
              <a:rPr b="0" lang="tr-TR" sz="24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ff00"/>
                </a:solidFill>
                <a:latin typeface="Comic Sans Ms"/>
              </a:rPr>
              <a:t>               </a:t>
            </a:r>
            <a:r>
              <a:rPr b="1" lang="tr-TR" sz="2400" spc="-1" strike="noStrike" baseline="30000">
                <a:solidFill>
                  <a:srgbClr val="00ff00"/>
                </a:solidFill>
                <a:latin typeface="Comic Sans Ms"/>
              </a:rPr>
              <a:t>89</a:t>
            </a:r>
            <a:r>
              <a:rPr b="1" lang="tr-TR" sz="2400" spc="-1" strike="noStrike">
                <a:solidFill>
                  <a:srgbClr val="00ff00"/>
                </a:solidFill>
                <a:latin typeface="Comic Sans Ms"/>
              </a:rPr>
              <a:t>Y--&gt;  343.8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52280"/>
            <a:ext cx="822960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Schematic” event generation for more complicated step using 3 projectile-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27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3200400"/>
            <a:ext cx="4648320" cy="3657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276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0" y="3276720"/>
            <a:ext cx="4495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563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omic Sans Ms"/>
              </a:rPr>
              <a:t>Projections of 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5562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84582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153280" cy="5410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Assuming that 4 projectile-like ions were obtained from the reaction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mitting photons with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 very close energ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tr-TR" sz="2000" spc="-1" strike="noStrike" baseline="30000">
                <a:solidFill>
                  <a:srgbClr val="ff33cc"/>
                </a:solidFill>
                <a:latin typeface="Comic Sans Ms"/>
              </a:rPr>
              <a:t>90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Zr (1000 k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tr-TR" sz="2000" spc="-1" strike="noStrike" baseline="30000">
                <a:solidFill>
                  <a:srgbClr val="ff33cc"/>
                </a:solidFill>
                <a:latin typeface="Comic Sans Ms"/>
              </a:rPr>
              <a:t>91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Zr (1003 k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tr-TR" sz="2000" spc="-1" strike="noStrike" baseline="30000">
                <a:solidFill>
                  <a:srgbClr val="ff33cc"/>
                </a:solidFill>
                <a:latin typeface="Comic Sans Ms"/>
              </a:rPr>
              <a:t>89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Y  (998 k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tr-TR" sz="2000" spc="-1" strike="noStrike" baseline="30000">
                <a:solidFill>
                  <a:srgbClr val="ff33cc"/>
                </a:solidFill>
                <a:latin typeface="Comic Sans Ms"/>
              </a:rPr>
              <a:t>90</a:t>
            </a:r>
            <a:r>
              <a:rPr b="1" lang="tr-TR" sz="2000" spc="-1" strike="noStrike">
                <a:solidFill>
                  <a:srgbClr val="ff33cc"/>
                </a:solidFill>
                <a:latin typeface="Comic Sans Ms"/>
              </a:rPr>
              <a:t>Y  (999 k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baseline="30000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Zr + </a:t>
            </a:r>
            <a:r>
              <a:rPr b="1" lang="tr-TR" sz="2000" spc="-1" strike="noStrike" baseline="30000">
                <a:solidFill>
                  <a:srgbClr val="000000"/>
                </a:solidFill>
                <a:latin typeface="Comic Sans Ms"/>
              </a:rPr>
              <a:t>208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Pb (0.300mg/cm², @ 45.0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projectile energy:560 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Projectil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like energies:(29% FWHM disper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tr-TR" sz="2000" spc="-1" strike="noStrike" baseline="30000">
                <a:solidFill>
                  <a:srgbClr val="00ff00"/>
                </a:solidFill>
                <a:latin typeface="Comic Sans Ms"/>
              </a:rPr>
              <a:t>90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Zr--&gt; 346.2 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tr-TR" sz="2000" spc="-1" strike="noStrike" baseline="30000">
                <a:solidFill>
                  <a:srgbClr val="00ff00"/>
                </a:solidFill>
                <a:latin typeface="Comic Sans Ms"/>
              </a:rPr>
              <a:t>91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Zr--&gt; 344.7 MeV</a:t>
            </a:r>
            <a:r>
              <a:rPr b="0" lang="tr-TR" sz="2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                   </a:t>
            </a:r>
            <a:r>
              <a:rPr b="1" lang="tr-TR" sz="2000" spc="-1" strike="noStrike" baseline="30000">
                <a:solidFill>
                  <a:srgbClr val="00ff00"/>
                </a:solidFill>
                <a:latin typeface="Comic Sans Ms"/>
              </a:rPr>
              <a:t>89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Y--&gt;  343.8 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ff00"/>
                </a:solidFill>
                <a:latin typeface="Arial"/>
              </a:rPr>
              <a:t>                             </a:t>
            </a:r>
            <a:r>
              <a:rPr b="1" lang="tr-TR" sz="2000" spc="-1" strike="noStrike" baseline="30000">
                <a:solidFill>
                  <a:srgbClr val="00ff00"/>
                </a:solidFill>
                <a:latin typeface="Comic Sans Ms"/>
              </a:rPr>
              <a:t>90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Y--&gt;  341.8 M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52280"/>
            <a:ext cx="82296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Schematic” event generation</a:t>
            </a:r>
            <a:r>
              <a:rPr b="1" lang="tr-T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for more complicated step using 4 projectile-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3352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335268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495680" y="3276720"/>
            <a:ext cx="4648320" cy="3581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4495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563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omic Sans Ms"/>
              </a:rPr>
              <a:t>Projections of 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81880" cy="5638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381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04920" y="304920"/>
          <a:ext cx="853416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3416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omic Sans Ms"/>
              </a:rPr>
              <a:t>Work in Progres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The idea 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to obtain a realistic ion distribution by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 "re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g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" </a:t>
            </a:r>
            <a:r>
              <a:rPr b="1" lang="tr-TR" sz="3200" spc="-1" strike="noStrike">
                <a:solidFill>
                  <a:srgbClr val="ff0000"/>
                </a:solidFill>
                <a:latin typeface="Comic Sans Ms"/>
              </a:rPr>
              <a:t>real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 data into s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 baseline="30000">
                <a:solidFill>
                  <a:srgbClr val="000000"/>
                </a:solidFill>
                <a:latin typeface="Comic Sans Ms"/>
              </a:rPr>
              <a:t>48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Ca+</a:t>
            </a:r>
            <a:r>
              <a:rPr b="1" lang="tr-TR" sz="3200" spc="-1" strike="noStrike" baseline="30000">
                <a:solidFill>
                  <a:srgbClr val="000000"/>
                </a:solidFill>
                <a:latin typeface="Comic Sans Ms"/>
              </a:rPr>
              <a:t>238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U(@310MeV) reaction wa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sidered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tr-TR" sz="3200" spc="-1" strike="noStrike">
                <a:solidFill>
                  <a:srgbClr val="3333cc"/>
                </a:solidFill>
                <a:latin typeface="Comic Sans Ms"/>
              </a:rPr>
              <a:t>(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CLARA-PRISMA experiment, </a:t>
            </a:r>
            <a:r>
              <a:rPr b="1" lang="tr-TR" sz="3200" spc="-1" strike="noStrike">
                <a:solidFill>
                  <a:srgbClr val="3333cc"/>
                </a:solidFill>
                <a:latin typeface="Comic Sans Ms"/>
              </a:rPr>
              <a:t>Daniele Mengoni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  <a:ea typeface="ＭＳ Ｐゴシック"/>
              </a:rPr>
              <a:t>, </a:t>
            </a:r>
            <a:r>
              <a:rPr b="1" lang="tr-TR" sz="3200" spc="-1" strike="noStrike">
                <a:solidFill>
                  <a:srgbClr val="3333cc"/>
                </a:solidFill>
                <a:latin typeface="Comic Sans Ms"/>
              </a:rPr>
              <a:t>Jose Javier Valiente-Dobon)</a:t>
            </a:r>
            <a:r>
              <a:rPr b="0" lang="tr-TR" sz="3200" spc="-1" strike="noStrike">
                <a:solidFill>
                  <a:srgbClr val="cc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Mass spectra were produced of PRISMA standalone-simulation.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The Agata Demonstrator+ Prisma Spect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Aim of this work: “ Realistic” event generation of AGATA+ PRISMA cou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liminary r</a:t>
            </a: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Work in Progress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Produced masses from Simul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8600" y="1066680"/>
          <a:ext cx="8610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10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28600" y="1066680"/>
          <a:ext cx="8610480" cy="556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066680"/>
                    <a:ext cx="8610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228600"/>
            <a:ext cx="8458200" cy="685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Comparison of “Ca” ion’s for Simulated&amp;Re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219320" y="990720"/>
          <a:ext cx="6705360" cy="56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90720"/>
                    <a:ext cx="6705360" cy="56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457200" y="304920"/>
          <a:ext cx="838188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38188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AGATA Demonstrator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Objective of the final R&amp;D phase 2003-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20279" t="7264" r="20279" b="7264"/>
          <a:stretch/>
        </p:blipFill>
        <p:spPr>
          <a:xfrm>
            <a:off x="228600" y="1676520"/>
            <a:ext cx="3581280" cy="3886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04920" y="5638680"/>
            <a:ext cx="8610480" cy="947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Ma</a:t>
            </a:r>
            <a:r>
              <a:rPr b="1" lang="tr-TR" sz="2800" spc="-1" strike="noStrike">
                <a:solidFill>
                  <a:srgbClr val="333399"/>
                </a:solidFill>
                <a:latin typeface="Comic Sans Ms"/>
              </a:rPr>
              <a:t>in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 issue is Doppler correction capability coupling to beam and recoil tracking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1752480"/>
            <a:ext cx="4876920" cy="37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1" lang="tr-TR" sz="2400" spc="-1" strike="noStrike">
                <a:solidFill>
                  <a:srgbClr val="00ff00"/>
                </a:solidFill>
                <a:latin typeface="Arial"/>
                <a:ea typeface="Arial"/>
              </a:rPr>
              <a:t>&lt;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  <a:ea typeface="Arial"/>
              </a:rPr>
              <a:t>1  symmetric triple-cluster</a:t>
            </a:r>
            <a:r>
              <a:rPr b="1" lang="tr-TR" sz="2400" spc="-1" strike="noStrike">
                <a:solidFill>
                  <a:srgbClr val="00ff00"/>
                </a:solidFill>
                <a:latin typeface="Arial"/>
                <a:ea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1" lang="tr-TR" sz="2400" spc="-1" strike="noStrike">
                <a:solidFill>
                  <a:srgbClr val="ff66cc"/>
                </a:solidFill>
                <a:latin typeface="Arial"/>
                <a:ea typeface="Arial"/>
              </a:rPr>
              <a:t>5   </a:t>
            </a:r>
            <a:r>
              <a:rPr b="1" lang="en-US" sz="2400" spc="-1" strike="noStrike">
                <a:solidFill>
                  <a:srgbClr val="ff66cc"/>
                </a:solidFill>
                <a:latin typeface="Comic Sans Ms"/>
                <a:ea typeface="Arial"/>
              </a:rPr>
              <a:t>asymmetric triple-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5 36-fold segmented crys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540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555 digital-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Eff.  3 – 6 % @ M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Eff.  2 – 4 % @ M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  <a:ea typeface="Arial"/>
              </a:rPr>
              <a:t> =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Full </a:t>
            </a:r>
            <a:r>
              <a:rPr b="1" lang="tr-TR" sz="2200" spc="-1" strike="noStrike">
                <a:solidFill>
                  <a:srgbClr val="ff0000"/>
                </a:solidFill>
                <a:latin typeface="Comic Sans Ms"/>
                <a:ea typeface="Arial"/>
              </a:rPr>
              <a:t>ACQ </a:t>
            </a:r>
            <a:r>
              <a:rPr b="1" lang="tr-TR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with online PSA</a:t>
            </a:r>
            <a:r>
              <a:rPr b="1" lang="tr-TR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tr-TR" sz="2200" spc="-1" strike="noStrike">
                <a:solidFill>
                  <a:srgbClr val="000000"/>
                </a:solidFill>
                <a:latin typeface="Comic Sans Ms"/>
                <a:ea typeface="Arial"/>
              </a:rPr>
              <a:t>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tr-TR" sz="2200" spc="-1" strike="noStrike">
                <a:solidFill>
                  <a:srgbClr val="000000"/>
                </a:solidFill>
                <a:latin typeface="Comic Sans Ms"/>
              </a:rPr>
              <a:t>-ray tra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553080" y="4696560"/>
            <a:ext cx="2590920" cy="2104920"/>
          </a:xfrm>
          <a:prstGeom prst="roundRect">
            <a:avLst>
              <a:gd name="adj" fmla="val 83"/>
            </a:avLst>
          </a:prstGeom>
          <a:solidFill>
            <a:srgbClr val="00ff00"/>
          </a:solidFill>
          <a:ln w="54720">
            <a:solidFill>
              <a:srgbClr val="f125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000" spc="-1" strike="noStrike">
                <a:solidFill>
                  <a:srgbClr val="f91605"/>
                </a:solidFill>
                <a:latin typeface="Comic Sans Ms"/>
              </a:rPr>
              <a:t>MC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66"/>
                </a:solidFill>
                <a:latin typeface="Comic Sans Ms"/>
              </a:rPr>
              <a:t>Positio</a:t>
            </a:r>
            <a:r>
              <a:rPr b="1" lang="tr-TR" sz="2000" spc="-1" strike="noStrike">
                <a:solidFill>
                  <a:srgbClr val="ff3366"/>
                </a:solidFill>
                <a:latin typeface="Comic Sans Ms"/>
              </a:rPr>
              <a:t>n at the </a:t>
            </a:r>
            <a:r>
              <a:rPr b="1" lang="tr-TR" sz="1800" spc="-1" strike="noStrike">
                <a:solidFill>
                  <a:srgbClr val="ff0066"/>
                </a:solidFill>
                <a:latin typeface="Comic Sans Ms"/>
              </a:rPr>
              <a:t>entra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000" spc="-1" strike="noStrike">
                <a:solidFill>
                  <a:srgbClr val="ff0066"/>
                </a:solidFill>
                <a:latin typeface="Comic Sans Ms"/>
              </a:rPr>
              <a:t>x,y--&gt;</a:t>
            </a:r>
            <a:r>
              <a:rPr b="1" lang="tr-TR" sz="18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1" lang="tr-TR" sz="1800" spc="-1" strike="noStrike">
                <a:solidFill>
                  <a:srgbClr val="ff0066"/>
                </a:solidFill>
                <a:latin typeface="Symbol"/>
                <a:ea typeface="Symbol"/>
              </a:rPr>
              <a:t></a:t>
            </a:r>
            <a:r>
              <a:rPr b="1" lang="tr-TR" sz="1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tr-TR" sz="1800" spc="-1" strike="noStrike">
                <a:solidFill>
                  <a:srgbClr val="ff0066"/>
                </a:solidFill>
                <a:latin typeface="Symbol"/>
                <a:ea typeface="Symbol"/>
              </a:rPr>
              <a:t></a:t>
            </a:r>
            <a:r>
              <a:rPr b="1" lang="tr-TR" sz="1800" spc="-1" strike="noStrike">
                <a:solidFill>
                  <a:srgbClr val="ff0066"/>
                </a:solidFill>
                <a:latin typeface="Arial"/>
              </a:rPr>
              <a:t>)</a:t>
            </a:r>
            <a:r>
              <a:rPr b="1" lang="tr-TR" sz="20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Comic Sans Ms"/>
              </a:rPr>
              <a:t>time</a:t>
            </a:r>
            <a:r>
              <a:rPr b="1" lang="en-GB" sz="2000" spc="-1" strike="noStrike">
                <a:solidFill>
                  <a:srgbClr val="ff3366"/>
                </a:solidFill>
                <a:latin typeface="Comic Sans Ms"/>
              </a:rPr>
              <a:t>   --&gt;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3366"/>
                </a:solidFill>
                <a:latin typeface="Comic Sans Ms"/>
              </a:rPr>
              <a:t>(Start for TO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733560" y="5333760"/>
            <a:ext cx="2819160" cy="609480"/>
          </a:xfrm>
          <a:prstGeom prst="line">
            <a:avLst/>
          </a:prstGeom>
          <a:ln w="54720">
            <a:solidFill>
              <a:srgbClr val="ff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65160"/>
            <a:ext cx="9144000" cy="468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ISMA </a:t>
            </a:r>
            <a:r>
              <a:rPr b="1" lang="tr-TR" sz="2800" spc="-1" strike="noStrike">
                <a:solidFill>
                  <a:srgbClr val="000000"/>
                </a:solidFill>
                <a:latin typeface="Comic Sans Ms"/>
              </a:rPr>
              <a:t>Spectro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609880"/>
            <a:ext cx="3352680" cy="1220040"/>
          </a:xfrm>
          <a:prstGeom prst="roundRect">
            <a:avLst>
              <a:gd name="adj" fmla="val 83"/>
            </a:avLst>
          </a:prstGeom>
          <a:solidFill>
            <a:srgbClr val="ffff00"/>
          </a:solidFill>
          <a:ln w="54720">
            <a:solidFill>
              <a:srgbClr val="6b23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91605"/>
                </a:solidFill>
                <a:latin typeface="Comic Sans Ms"/>
                <a:ea typeface="Arial"/>
              </a:rPr>
              <a:t>Quadrupole</a:t>
            </a:r>
            <a:r>
              <a:rPr b="1" lang="en-GB" sz="2000" spc="-1" strike="noStrike">
                <a:solidFill>
                  <a:srgbClr val="6b2394"/>
                </a:solidFill>
                <a:latin typeface="Comic Sans Ms"/>
                <a:ea typeface="Arial"/>
              </a:rPr>
              <a:t> focu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6b2394"/>
                </a:solidFill>
                <a:latin typeface="Comic Sans Ms"/>
                <a:ea typeface="Arial"/>
              </a:rPr>
              <a:t>the ions</a:t>
            </a:r>
            <a:r>
              <a:rPr b="1" lang="tr-TR" sz="2000" spc="-1" strike="noStrike">
                <a:solidFill>
                  <a:srgbClr val="6b2394"/>
                </a:solidFill>
                <a:latin typeface="Comic Sans Ms"/>
                <a:ea typeface="Arial"/>
              </a:rPr>
              <a:t> vertically</a:t>
            </a:r>
            <a:r>
              <a:rPr b="1" lang="en-GB" sz="2000" spc="-1" strike="noStrike">
                <a:solidFill>
                  <a:srgbClr val="6b2394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6b2394"/>
                </a:solidFill>
                <a:latin typeface="Comic Sans Ms"/>
                <a:ea typeface="Arial"/>
              </a:rPr>
              <a:t>towards the disper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6b2394"/>
                </a:solidFill>
                <a:latin typeface="Comic Sans Ms"/>
                <a:ea typeface="Arial"/>
              </a:rPr>
              <a:t>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447920" y="4876560"/>
            <a:ext cx="533160" cy="685800"/>
          </a:xfrm>
          <a:prstGeom prst="line">
            <a:avLst/>
          </a:prstGeom>
          <a:ln w="54720">
            <a:solidFill>
              <a:srgbClr val="6b239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3304800"/>
            <a:ext cx="3200400" cy="1220040"/>
          </a:xfrm>
          <a:prstGeom prst="roundRect">
            <a:avLst>
              <a:gd name="adj" fmla="val 83"/>
            </a:avLst>
          </a:prstGeom>
          <a:solidFill>
            <a:srgbClr val="ffcc99"/>
          </a:solidFill>
          <a:ln w="54720">
            <a:solidFill>
              <a:srgbClr val="004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91605"/>
                </a:solidFill>
                <a:latin typeface="Comic Sans Ms"/>
                <a:ea typeface="Arial"/>
              </a:rPr>
              <a:t>Dipole</a:t>
            </a:r>
            <a:r>
              <a:rPr b="1" lang="en-GB" sz="2000" spc="-1" strike="noStrike">
                <a:solidFill>
                  <a:srgbClr val="0047ff"/>
                </a:solidFill>
                <a:latin typeface="Comic Sans Ms"/>
                <a:ea typeface="Arial"/>
              </a:rPr>
              <a:t> magnet be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000" spc="-1" strike="noStrike">
                <a:solidFill>
                  <a:srgbClr val="0047ff"/>
                </a:solidFill>
                <a:latin typeface="Comic Sans Ms"/>
                <a:ea typeface="Arial"/>
              </a:rPr>
              <a:t>ions </a:t>
            </a:r>
            <a:r>
              <a:rPr b="1" lang="en-GB" sz="2000" spc="-1" strike="noStrike">
                <a:solidFill>
                  <a:srgbClr val="0047ff"/>
                </a:solidFill>
                <a:latin typeface="Comic Sans Ms"/>
                <a:ea typeface="Arial"/>
              </a:rPr>
              <a:t>horizontally according to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47ff"/>
                </a:solidFill>
                <a:latin typeface="Comic Sans Ms"/>
                <a:ea typeface="Arial"/>
              </a:rPr>
              <a:t>magnetic rigidity (B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4114800" y="2743200"/>
            <a:ext cx="1752480" cy="914400"/>
          </a:xfrm>
          <a:prstGeom prst="line">
            <a:avLst/>
          </a:prstGeom>
          <a:ln w="54720">
            <a:solidFill>
              <a:srgbClr val="004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23440"/>
            <a:ext cx="4114800" cy="1524960"/>
          </a:xfrm>
          <a:prstGeom prst="rect">
            <a:avLst/>
          </a:prstGeom>
          <a:solidFill>
            <a:srgbClr val="f1256e"/>
          </a:solidFill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Comic Sans Ms"/>
                <a:ea typeface="Arial"/>
              </a:rPr>
              <a:t>MW-PPAC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tr-TR" sz="2000" spc="-1" strike="noStrike">
                <a:solidFill>
                  <a:srgbClr val="00ff00"/>
                </a:solidFill>
                <a:latin typeface="Comic Sans Ms"/>
                <a:ea typeface="Arial"/>
              </a:rPr>
              <a:t>(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</a:rPr>
              <a:t>Focal plane detector </a:t>
            </a:r>
            <a:r>
              <a:rPr b="1" lang="tr-TR" sz="2000" spc="-1" strike="noStrike">
                <a:solidFill>
                  <a:srgbClr val="00ff00"/>
                </a:solidFill>
                <a:latin typeface="Comic Sans Ms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Comic Sans Ms"/>
                <a:ea typeface="Arial"/>
              </a:rPr>
              <a:t>position--&gt; X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Comic Sans Ms"/>
                <a:ea typeface="Arial"/>
              </a:rPr>
              <a:t>time   --&gt; 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Comic Sans Ms"/>
                <a:ea typeface="Arial"/>
              </a:rPr>
              <a:t>(Stop for TOF)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1066680"/>
            <a:ext cx="2209680" cy="457200"/>
          </a:xfrm>
          <a:prstGeom prst="line">
            <a:avLst/>
          </a:prstGeom>
          <a:ln w="547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2223720"/>
            <a:ext cx="3352680" cy="915120"/>
          </a:xfrm>
          <a:prstGeom prst="rect">
            <a:avLst/>
          </a:prstGeom>
          <a:solidFill>
            <a:srgbClr val="6699ff"/>
          </a:solidFill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Ionization Chamber</a:t>
            </a:r>
            <a:r>
              <a:rPr b="1" lang="tr-TR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 </a:t>
            </a:r>
            <a:r>
              <a:rPr b="1" lang="tr-TR" sz="2000" spc="-1" strike="noStrike">
                <a:solidFill>
                  <a:srgbClr val="f91605"/>
                </a:solidFill>
                <a:latin typeface="Comic Sans Ms"/>
                <a:ea typeface="Arial"/>
              </a:rPr>
              <a:t>(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∆</a:t>
            </a:r>
            <a:r>
              <a:rPr b="1" lang="en-GB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E--&gt; Energy lo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Comic Sans Ms"/>
                <a:ea typeface="Arial"/>
              </a:rPr>
              <a:t>E  --&gt; Total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315200" y="1600200"/>
            <a:ext cx="609480" cy="533520"/>
          </a:xfrm>
          <a:prstGeom prst="line">
            <a:avLst/>
          </a:prstGeom>
          <a:ln w="547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28600" y="1905120"/>
            <a:ext cx="838188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to produce realistic event gen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for multi-nucleon transfer re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and direct reactions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to evaluate the performance of the </a:t>
            </a:r>
            <a:r>
              <a:rPr b="1" lang="tr-TR" sz="3200" spc="-1" strike="noStrike">
                <a:solidFill>
                  <a:srgbClr val="ff0000"/>
                </a:solidFill>
                <a:latin typeface="Comic Sans Ms"/>
              </a:rPr>
              <a:t>AGATA+PRISMA 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setup in a consistent way</a:t>
            </a:r>
            <a:r>
              <a:rPr b="1" lang="tr-T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80880" y="380880"/>
            <a:ext cx="8534520" cy="1067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000000"/>
                </a:solidFill>
                <a:latin typeface="Comic Sans Ms"/>
              </a:rPr>
              <a:t>Aim of this 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218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omic Sans Ms"/>
              </a:rPr>
              <a:t>How to proce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6479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tr-TR" sz="3200" spc="-1" strike="noStrike">
                <a:solidFill>
                  <a:srgbClr val="00ff00"/>
                </a:solidFill>
                <a:latin typeface="Comic Sans Ms"/>
              </a:rPr>
              <a:t>  “schematic”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 event generation </a:t>
            </a:r>
            <a:r>
              <a:rPr b="1" lang="tr-TR" sz="3200" spc="-1" strike="noStrike">
                <a:solidFill>
                  <a:srgbClr val="ff0000"/>
                </a:solidFill>
                <a:latin typeface="Comic Sans Ms"/>
              </a:rPr>
              <a:t>(completed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2. 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play" real data into the simulation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tr-TR" sz="3200" spc="-1" strike="noStrike">
                <a:solidFill>
                  <a:srgbClr val="ff0000"/>
                </a:solidFill>
                <a:latin typeface="Comic Sans Ms"/>
              </a:rPr>
              <a:t>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3. Develop a full code</a:t>
            </a:r>
            <a:r>
              <a:rPr b="0" lang="tr-T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 calcul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tr-TR" sz="3200" spc="-1" strike="noStrike">
                <a:solidFill>
                  <a:srgbClr val="000000"/>
                </a:solidFill>
                <a:latin typeface="Comic Sans Ms"/>
              </a:rPr>
              <a:t> cross-sections and angular distrib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tr-TR" sz="4000" spc="-1" strike="noStrike">
                <a:solidFill>
                  <a:srgbClr val="000000"/>
                </a:solidFill>
                <a:latin typeface="Comic Sans Ms"/>
              </a:rPr>
              <a:t>Schematic”</a:t>
            </a:r>
            <a:r>
              <a:rPr b="1" lang="tr-TR" sz="3600" spc="-1" strike="noStrike">
                <a:solidFill>
                  <a:srgbClr val="000000"/>
                </a:solidFill>
                <a:latin typeface="Comic Sans Ms"/>
              </a:rPr>
              <a:t> event generation for AGATA+ PRIS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Realistic events were created and used as an input for AGATA+PRISMA simulatio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ccording to results from a performed CLARA-PRISMA experiment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baseline="30000">
                <a:solidFill>
                  <a:srgbClr val="000000"/>
                </a:solidFill>
                <a:latin typeface="Comic Sans Ms"/>
              </a:rPr>
              <a:t>90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Zr + </a:t>
            </a:r>
            <a:r>
              <a:rPr b="1" lang="tr-TR" sz="2400" spc="-1" strike="noStrike" baseline="30000">
                <a:solidFill>
                  <a:srgbClr val="000000"/>
                </a:solidFill>
                <a:latin typeface="Comic Sans Ms"/>
              </a:rPr>
              <a:t>208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Pb (0.300mg/cm², @ 45.0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projectile energy:560 M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Projectil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like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energy:346.2 MeV(av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rage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tr-T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29% FWHM disper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tr-TR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-ray (1000keV) from each ion in order to se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oppler correction effects of AGATA Demonstr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990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omic Sans Ms"/>
              </a:rPr>
              <a:t>Simulation of the Agata Demonstrator+Prisma Coup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077320" cy="5257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Conditions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Comic Sans Ms"/>
              </a:rPr>
              <a:t>Demonstrator Geometry (5 triple clus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Comic Sans Ms"/>
              </a:rPr>
              <a:t>Demonstrator distance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:</a:t>
            </a:r>
            <a:r>
              <a:rPr b="1" lang="tr-TR" sz="2400" spc="-1" strike="noStrike">
                <a:solidFill>
                  <a:srgbClr val="0000ff"/>
                </a:solidFill>
                <a:latin typeface="Comic Sans Ms"/>
              </a:rPr>
              <a:t> 14 cm to targ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Comic Sans Ms"/>
              </a:rPr>
              <a:t>Number of Events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:</a:t>
            </a:r>
            <a:r>
              <a:rPr b="1" lang="tr-TR" sz="2400" spc="-1" strike="noStrike">
                <a:solidFill>
                  <a:srgbClr val="0000ff"/>
                </a:solidFill>
                <a:latin typeface="Comic Sans Ms"/>
              </a:rPr>
              <a:t> 100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2.Mgt (</a:t>
            </a:r>
            <a:r>
              <a:rPr b="1" lang="tr-TR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ars </a:t>
            </a:r>
            <a:r>
              <a:rPr b="1" lang="tr-TR" sz="2400" spc="-1" strike="noStrike">
                <a:solidFill>
                  <a:srgbClr val="ff0000"/>
                </a:solidFill>
                <a:latin typeface="Comic Sans Ms"/>
              </a:rPr>
              <a:t>G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amma </a:t>
            </a:r>
            <a:r>
              <a:rPr b="1" lang="tr-TR" sz="24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racking): used for produ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tracked gammas. </a:t>
            </a:r>
            <a:r>
              <a:rPr b="1" lang="tr-TR" sz="2400" spc="-1" strike="noStrike">
                <a:solidFill>
                  <a:srgbClr val="f91605"/>
                </a:solidFill>
                <a:latin typeface="Comic Sans Ms"/>
              </a:rPr>
              <a:t>(D.BAZZAC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3.CMerge (</a:t>
            </a:r>
            <a:r>
              <a:rPr b="1" lang="tr-TR" sz="24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lara+Agata </a:t>
            </a:r>
            <a:r>
              <a:rPr b="1" lang="tr-TR" sz="2400" spc="-1" strike="noStrike">
                <a:solidFill>
                  <a:srgbClr val="ff0000"/>
                </a:solidFill>
                <a:latin typeface="Comic Sans Ms"/>
              </a:rPr>
              <a:t>Merge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): used for comb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tr-TR" sz="2400" spc="-1" strike="noStrike">
                <a:solidFill>
                  <a:srgbClr val="ffff00"/>
                </a:solidFill>
                <a:latin typeface="Comic Sans Ms"/>
              </a:rPr>
              <a:t>Agata+Prisma”</a:t>
            </a:r>
            <a:r>
              <a:rPr b="1" lang="tr-TR" sz="2400" spc="-1" strike="noStrike">
                <a:solidFill>
                  <a:srgbClr val="cc3399"/>
                </a:solidFill>
                <a:latin typeface="Comic Sans Ms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Comic Sans Ms"/>
              </a:rPr>
              <a:t>into a single data file.</a:t>
            </a:r>
            <a:r>
              <a:rPr b="1" lang="tr-TR" sz="2400" spc="-1" strike="noStrike">
                <a:solidFill>
                  <a:srgbClr val="f91605"/>
                </a:solidFill>
                <a:latin typeface="Comic Sans Ms"/>
              </a:rPr>
              <a:t>(E.FARN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610480" cy="57913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563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Comic Sans Ms"/>
              </a:rPr>
              <a:t>Effect of the recoil velo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33526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9T21:37:33Z</dcterms:created>
  <dc:creator>Enrico Farnea</dc:creator>
  <dc:description/>
  <dc:language>en-US</dc:language>
  <cp:lastModifiedBy>Ångströmlaboratoriet</cp:lastModifiedBy>
  <dcterms:modified xsi:type="dcterms:W3CDTF">2008-07-08T16:09:53Z</dcterms:modified>
  <cp:revision>420</cp:revision>
  <dc:subject/>
  <dc:title>Riunione Gruppo 3 – 09/01/2007</dc:title>
</cp:coreProperties>
</file>