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24A-5A74-4EA8-8C50-BBFF8AA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6BBA-8FD5-4F92-82B6-56B2468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AE0-7BE0-438E-AFEC-CA8F0EBB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3945-B69A-4209-89C4-7E16F4E5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62B-2BC9-4952-B530-9EA4FF98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6B1-D68B-4A7A-947E-A432666B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193-B163-485D-AECD-8EE9200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2E90-96E3-433D-B4A2-B8987C11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07A-10A7-4E06-88D1-7951ECA4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B50-380F-4719-B197-AB8C4454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EE9-8CFE-4FD0-A87D-8D95D60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772-8E8E-4DAA-9C42-ABD051AF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A738-84EC-4E76-ADBA-988A04D79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AGATA Week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ppsala, 8-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2273400"/>
            <a:ext cx="878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Recent DAQ integration test at L.N.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05-09 May 200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3957480"/>
            <a:ext cx="76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. Brambi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N.F.N. Sezione di Mil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92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st with the Struck SIS1100/SIS3100 PCI to VME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face (optical l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916280"/>
            <a:ext cx="73915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ntium 4 PC, 3.00 GHz, 1Mb RAM, SIS1100 pci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P environment and Kmax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ME Set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S3100 with DSP (ADSP21061L), 512MB memory, NIM-ECL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32 channel VME TDC (V87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32 channel VME ADC (V87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 latency 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for local trigger and GTS latency 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for Trigger_Validation and Trigger_Reject from AGAVA board have been simulated using NIM EG&amp;G GG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igger_Request, Trigger_Validation and Trigger_Reject have been carried to the SIS3100 NIM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09480" y="3114720"/>
          <a:ext cx="3930840" cy="21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14720"/>
                    <a:ext cx="39308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724280" y="3114720"/>
          <a:ext cx="3930840" cy="2185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114720"/>
                    <a:ext cx="393084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92080" y="762120"/>
            <a:ext cx="7567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SP is controlled by Kmax using common shar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SP receives triggers and organise data into memory in 4 buffers of 32000 long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Local events are composed of 12 longwords (8 data plus headers and trai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uffers are read by Kmax as single memory b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rigger_Reject has been done by 2 single broadcast DSP VME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est done both in single accesses and in CBLT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5840" y="784080"/>
            <a:ext cx="55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2064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27702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ME test bench from I.N.F.N. Milano has been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06560"/>
            <a:ext cx="67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the AGAVA CBLT functionalities at realistic trigger rat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7280" y="1187280"/>
            <a:ext cx="67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robe the compatibility of the AGAVA production release with the 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ersion of  the GTS (GTS release 2), based on the Virtex 4 FP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3130560"/>
            <a:ext cx="64090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 SIS1100/SIS3100 PCI/cPCI to VME 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GAVA board release 1 and 2, GTS release 1 an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775 32 channel T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785 32 channel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EN V538A 8 channel NIM-ECL/ECL-NIM Trans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76712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BLT sequence: Agava, TDC,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5218200"/>
            <a:ext cx="640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IM Repetitive pulser at 20K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620640"/>
            <a:ext cx="73454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ware enviro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max dedicated application was used to control the VME mod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 board is equipped with DSP, memory and NIM and ECL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Readout has been performed by the DSP (SHARC ADSP-21062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vents stored and presorted in circular buffers (800 events x buff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- Buffers readout and online sorting by kmax softw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3213000"/>
            <a:ext cx="73454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SP Acquisition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local trigger (Struck Lemo1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validation (Struck Lemo2 inp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wait AGAVA, TDC and ADC data ready (single vme ac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BLT or standard readout of AGAVA, TDC and ADC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tegrity check of the event (header, data and trai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 event counter alignment for TDC and A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uffer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45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0647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933480"/>
            <a:ext cx="7345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st summa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quisition rate ≈ 10KHz both in single and in CBLT ac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201312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ystem stability: 8 hours test without any problem (repetiti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2516040"/>
            <a:ext cx="648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ll the ≈ 300 Ml. of events were good and well forma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71640" y="3057480"/>
            <a:ext cx="648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ME standard compatibility tests and functionality of the AGAVA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odule with the GTS_2 has been pr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38498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nformation concerning event trigger and event validation were pa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rrectly between the AGAVA_2, GTS_2 and external LEMO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4641840"/>
            <a:ext cx="691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Consistency of Local Trigger Tag / Validation Tag has been ver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(new GTS firmware was giving only valid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3080" y="1305000"/>
            <a:ext cx="1295280" cy="2232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971640" y="3753000"/>
            <a:ext cx="1295280" cy="223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60720" y="1282680"/>
            <a:ext cx="45356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 End based on CAEN mod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75: 32 channels T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79: 32 channels T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85: 32 channels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78: 32 channels A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792: 32 channels QD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812: 16 channels CF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560: 16 channels sca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57480" y="3716280"/>
            <a:ext cx="4321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ou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ME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cal link PCI to VME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to VME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EN V27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K SIS1100/SIS3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N.L. LINCO CMS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620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Hardw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66680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sts with CAEN V2718 PCI to VME controller have been pl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620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ext t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222552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Use of a dedicated PCI I/O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Local trigger, validation-reject trigger 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ata ready, reset, fast clear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39552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Extended tests with high rate random pulser or detectors, both wi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T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IS1100/SIS3100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and CAEN V2718 pci-to-VM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31640" y="6337080"/>
            <a:ext cx="633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S. Brambilla, “</a:t>
            </a: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cent DAQ integration test at L.N.L. 05-09 May 2008</a:t>
            </a: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1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GATA Week, Uppsala, 8-11 July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6165720"/>
            <a:ext cx="8785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79280"/>
            <a:ext cx="87854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2565360"/>
            <a:ext cx="44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360" y="2924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nk you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0:58:35Z</dcterms:created>
  <dc:creator>Sergio Brambilla</dc:creator>
  <dc:description/>
  <dc:language>en-US</dc:language>
  <cp:lastModifiedBy>sergio</cp:lastModifiedBy>
  <dcterms:modified xsi:type="dcterms:W3CDTF">2008-07-05T08:04:05Z</dcterms:modified>
  <cp:revision>48</cp:revision>
  <dc:subject/>
  <dc:title>Diapositiva 1</dc:title>
</cp:coreProperties>
</file>