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4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55280" y="43920"/>
            <a:ext cx="83883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90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0"/>
            <a:ext cx="611280" cy="6858000"/>
          </a:xfrm>
          <a:prstGeom prst="rect">
            <a:avLst/>
          </a:prstGeom>
          <a:solidFill>
            <a:srgbClr val="f8d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995640" y="6597360"/>
            <a:ext cx="3889440" cy="142920"/>
          </a:xfrm>
          <a:prstGeom prst="rect">
            <a:avLst/>
          </a:prstGeom>
          <a:noFill/>
          <a:ln w="0">
            <a:noFill/>
          </a:ln>
        </p:spPr>
        <p:txBody>
          <a:bodyPr lIns="36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GATA week Uppsala                            8.-11.07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05320" y="6523920"/>
            <a:ext cx="124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f5f5f"/>
                </a:solidFill>
                <a:latin typeface="Arial"/>
              </a:rPr>
              <a:t>Andreas G</a:t>
            </a:r>
            <a:r>
              <a:rPr b="0" lang="en-US" sz="1200" spc="-1" strike="noStrike">
                <a:solidFill>
                  <a:srgbClr val="5f5f5f"/>
                </a:solidFill>
                <a:latin typeface="Arial"/>
                <a:ea typeface="Arial"/>
              </a:rPr>
              <a:t>ör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4920" y="620640"/>
            <a:ext cx="536760" cy="954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294760" y="6597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0CCB-FA3C-41F8-BDD2-93E3FCB6DE5F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6480" y="1700280"/>
          <a:ext cx="59184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80" y="1700280"/>
                    <a:ext cx="5918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190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280" y="1773360"/>
            <a:ext cx="838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AGATA Detector Work Performed at Saclay in 2008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- lessons learned -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2720" y="3429000"/>
            <a:ext cx="211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lien Pan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oa Ljungv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exandre Obert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c Karo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ndreas G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ö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863640" y="189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9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ed cold preamp bo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3760" y="3357720"/>
            <a:ext cx="7509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ground layer on front and back side iso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of individual blocks isolated from internal layers and from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of 6 blocks connected to each other and to front layer via external 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 layer on the back floating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ard mounted on S003 has no internal 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ly we found a difference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60680" y="3789360"/>
            <a:ext cx="79700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oards have evolved in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at least 5 different version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or w/o internal ground 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d or conn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only that: grounding scheme in the various test cryostats differs a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riple cryostats are different yet ag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quenc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s are not easily interchangeable and need “bricolage” for every individual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establish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st be possible to mount any detector in any cryostat without changing the gro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29800" y="231840"/>
            <a:ext cx="7825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9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front and back side via external cables on B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005 c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ise level for all segments 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scillations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ions with Cologne, more detectors with floating ground layer f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were causing oscillations in the triple cry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resolution still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ise band of the core reduced when changing shaping time from 6 to 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µ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dication of leakage current between core and a seg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826920" y="3497400"/>
            <a:ext cx="7705800" cy="2850840"/>
            <a:chOff x="826920" y="3497400"/>
            <a:chExt cx="7705800" cy="285084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826920" y="3535200"/>
              <a:ext cx="3749760" cy="28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4786200" y="3497400"/>
              <a:ext cx="3746520" cy="28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044360" y="3860640"/>
              <a:ext cx="1778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haping time 6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78160" y="3860640"/>
              <a:ext cx="17780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haping time 3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86680" y="304920"/>
            <a:ext cx="79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C6 is not up to date, has no pulser functionality, and needs “debugg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C2 (owner Saclay) has been repaired, equipped with pulser, and is state of the 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640" y="1268280"/>
            <a:ext cx="3048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war repa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ton signal cables repla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individual c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dditional ground conn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cold FET directly to w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p 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pped with pul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0760" y="4048200"/>
            <a:ext cx="624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pl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Colo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rebuilt Saclay TestC2 with accepted detector (A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perform CAT of A005 in TestC2 at Colo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 problems of TestC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C6, A005, and B005 transported to Colo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s of J.Pancin, M.Karolak, and A.G. several days 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56520" y="376200"/>
            <a:ext cx="5481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8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unted A002 in TestC2 at Colo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stC2 had been tested with dummy bef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hanged grounding scheme (with H.-G. Thom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3440" y="1773360"/>
            <a:ext cx="33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ed with dummy – no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.-G. Thom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3040" y="2608200"/>
            <a:ext cx="344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002 shows oscillations (A.G. 19.6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scillations confirmed with dum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J. Pancin 23.6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46000" y="3568680"/>
            <a:ext cx="369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 oscillations with dum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002 is working well (M. Karolak 25.6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e slightly above spe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fluence of core pulser – 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64320" y="4840200"/>
            <a:ext cx="403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.7.2008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A005 mounted (Cologne te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8.7.2008     testing (J. Panc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blems with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General remarks (1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2720" y="736560"/>
            <a:ext cx="620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collaboration between Cologne and Sa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had very useful EVO meetings – should take place regular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ctronic log book very useful – but we need to use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39800" y="2060640"/>
            <a:ext cx="8010360" cy="4209840"/>
            <a:chOff x="739800" y="2060640"/>
            <a:chExt cx="8010360" cy="4209840"/>
          </a:xfrm>
        </p:grpSpPr>
        <p:pic>
          <p:nvPicPr>
            <p:cNvPr id="88" name="" descr=""/>
            <p:cNvPicPr/>
            <p:nvPr/>
          </p:nvPicPr>
          <p:blipFill>
            <a:blip r:embed="rId1"/>
            <a:srcRect l="0" t="0" r="0" b="45316"/>
            <a:stretch/>
          </p:blipFill>
          <p:spPr>
            <a:xfrm>
              <a:off x="739800" y="2060640"/>
              <a:ext cx="4686120" cy="41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rcRect l="27665" t="53240" r="0" b="0"/>
            <a:stretch/>
          </p:blipFill>
          <p:spPr>
            <a:xfrm>
              <a:off x="5364000" y="2708280"/>
              <a:ext cx="3386160" cy="3562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8388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General remarks (2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82000" y="736560"/>
            <a:ext cx="52938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phonic behavior has not been observed after glu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seems sol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establish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docu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T of A005 in TestC2 in Colog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collaboration between Cologne and Sa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TestC2 (and eventually TestC6) back to Sa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T of B005 and C005 at Sac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 S003 in TestC6 for scanning in Or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71280" y="333360"/>
            <a:ext cx="7933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3.09.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clay test cryostat (TestC2) sent to CTT for repair because of vacuum l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01.20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d test cryostat TestC6 (owner Padova) from GSI with S003 mou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d A005, B005, C005 (owner Sweden) from Cologne for 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S003 to validate / demonstrate functioning of the system, in parti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functioning of the cryostat, then test the 3 asymmetric det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826920" y="2695680"/>
            <a:ext cx="8008920" cy="3757680"/>
            <a:chOff x="826920" y="2695680"/>
            <a:chExt cx="8008920" cy="3757680"/>
          </a:xfrm>
        </p:grpSpPr>
        <p:graphicFrame>
          <p:nvGraphicFramePr>
            <p:cNvPr id="49" name=""/>
            <p:cNvGraphicFramePr/>
            <p:nvPr/>
          </p:nvGraphicFramePr>
          <p:xfrm>
            <a:off x="826920" y="2695680"/>
            <a:ext cx="5472360" cy="37576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6920" y="2695680"/>
                      <a:ext cx="5472360" cy="375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6375240" y="2928960"/>
              <a:ext cx="24606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9.02.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ood energy resol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ith analogue syste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 all segments and c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lug and play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5317" t="9262" r="9816" b="6368"/>
          <a:stretch/>
        </p:blipFill>
        <p:spPr>
          <a:xfrm>
            <a:off x="2698920" y="1413000"/>
            <a:ext cx="5402160" cy="3794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5080" y="404640"/>
            <a:ext cx="5464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.02.20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talk measurement with digital TNT2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unusual crosstalk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9960" y="5300640"/>
            <a:ext cx="531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003, TestC6, and DAQ system in good sha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ady for CAT of A005, B005, C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52200" y="260280"/>
            <a:ext cx="6878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3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005 mounted in TestC6 for C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r too much 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resolution 3.2 keV at 1.3 M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segments at ~2 keV at 60 ke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cillations of various frequ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line uns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pic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nding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03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m up, all mass connections checked, everything seems ok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03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ling down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03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t core FET while raising HV (at 2600 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rst time this happened, unclear wh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80560" y="189000"/>
            <a:ext cx="72046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9.04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d core preamp repaired, A005 cold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GE crosstalk between core and all segments (on the scop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when PT100 read-out disconn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.04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005 warm and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 talk caused by contact between shielding of PT100 cable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ielding of cold core pre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to test cryostat again with S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00000" y="2852640"/>
            <a:ext cx="7505640" cy="3654360"/>
            <a:chOff x="900000" y="2852640"/>
            <a:chExt cx="7505640" cy="3654360"/>
          </a:xfrm>
        </p:grpSpPr>
        <p:graphicFrame>
          <p:nvGraphicFramePr>
            <p:cNvPr id="58" name=""/>
            <p:cNvGraphicFramePr/>
            <p:nvPr/>
          </p:nvGraphicFramePr>
          <p:xfrm>
            <a:off x="3924360" y="3429000"/>
            <a:ext cx="4481280" cy="3078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24360" y="3429000"/>
                      <a:ext cx="4481280" cy="30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0" name=""/>
            <p:cNvSpPr/>
            <p:nvPr/>
          </p:nvSpPr>
          <p:spPr>
            <a:xfrm>
              <a:off x="900000" y="2852640"/>
              <a:ext cx="6985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5.04.200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03: excellent resolution of core and all channel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7440" y="231840"/>
            <a:ext cx="60526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8.04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005 mounted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6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 cold, again too much noise, unstable base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ontaneous oscillations obser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le to suppress oscillations, but not for lo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492360" y="2133720"/>
            <a:ext cx="4681800" cy="351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82000" y="5489640"/>
            <a:ext cx="457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6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able operation not possible, warm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10720" y="304920"/>
            <a:ext cx="80049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d all cold segment preamps, all segment signals connected to 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cor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 col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table base line, far to much noise, susceptible to oscil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resolution ~4 keV (segments still ground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symmetric detectors more sensitive than symmetric one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here any other differences beside shape of the crysta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005 really ba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cryostat tuned to a given detector and only to that on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spic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to doubt grounding scheme in cry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m 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404640"/>
            <a:ext cx="792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6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d ground connection of cold preamp board to cold fi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7680" y="4840200"/>
            <a:ext cx="408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9.05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005 cold aga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cillations and noise unchang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27360" y="231840"/>
            <a:ext cx="7281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2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ded that A005 should be tested in Cologne with different cry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nted B005 in TestC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5.06.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005 c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oscillating just like A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asymmetric detectors more sensitive than symmetric one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here any other differences beside shape of the crystal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both A005 and B005 really bad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cryostat tuned to S003 and only to that on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7:08:05Z</dcterms:created>
  <dc:creator>Andreas Goergen</dc:creator>
  <dc:description/>
  <dc:language>en-US</dc:language>
  <cp:lastModifiedBy>Andreas Goergen</cp:lastModifiedBy>
  <dcterms:modified xsi:type="dcterms:W3CDTF">2008-07-10T09:24:14Z</dcterms:modified>
  <cp:revision>35</cp:revision>
  <dc:subject/>
  <dc:title>AGATA Detector Laboratory at Saclay</dc:title>
</cp:coreProperties>
</file>