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1C0-9166-481E-8437-F3309C95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468F-CEF9-4C6D-817F-1FA1E24F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D2B-CF23-413E-A34C-FFE0068F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799-453A-4A23-AACD-5D58247C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E5C4-8B5E-40CD-A76F-6C04D589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1B8E-47A2-4F95-9100-D1A53416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AFD6-898A-476B-A3AE-6EE11E6F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161E-FAF8-47B7-8328-85E2B521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71B7-0B7E-4349-BCB6-455C93AA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04AF-379C-4681-A74B-E8B82A14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B84C-9BCE-4CA7-B838-507804A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B24-28FB-488E-9B21-A76CFE0E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9F83-3F77-4CD2-A2CB-65766C96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2B84-D21A-4B37-A07F-83397980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4131-810B-44BA-82E1-D939E754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CE60-8F20-4655-B20B-06B70318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615F-6DE6-4E7F-94F8-FF724403B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F4FF-7479-4F04-B093-DFAC3AEC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EBE-CF6B-4B09-A72B-8AE37519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47D3-C7EE-4EA2-BBAF-D7C25FF2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EB7-E773-4365-9208-817FE309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7D4-74B0-4228-9E7E-8DF2295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36B-B60F-4EA4-920B-32918F5F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EDC-CA5B-4654-99F8-B9A422FC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21BF-7E2D-4206-A823-748EAE4BA9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1D1C-AB84-41DD-A9D8-AAEE1B8FDCEF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395E-F642-428F-9A61-477495B9FB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E019-AB1F-44AD-B187-41C2A9EF2B8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2320" y="1980720"/>
            <a:ext cx="534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GAVA INTERAC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61960" y="5105520"/>
            <a:ext cx="518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Barbara Dul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4745-CD92-428C-BF9E-9C3E98510B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8D88159-B50E-4029-B5C6-0E3432D82C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04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 in VXI system at Gan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s in CBLT mode at Legn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of new release of AGAVA with the new release of GTS mezzanine car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3915-7E98-41EE-9EDF-F7C98CF312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ED349-1D9B-4FFE-B75F-06B3B0CDA193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sts in VXI system at Gani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of AGAVA in VXI environment done in October 2007 with Frederic Saillant and 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s were not finished because of time limitation and have to be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greed to continue the tests with the new version of AG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AGAVA is ready for the tests since May 2008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38C-7F66-487F-B8FC-3E498B8766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1C81E-1B81-4561-8699-9AB1D9D2BA06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sts in CBLT mode at Legnaro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est of CBLT mode was done in Legnaro on 5- 9 May 2008 with Sergio Brambi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was done us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truck PCI/cPCI to VME interfa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GAVA board release 1 and 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EN V775 32 channel TD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EN V785 32 channel AD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AEN V538A 8channel NIM-ECL/ECL-NIM Transla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AVA was the first, TDC intermediate, ADC last in the ch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ernal trigger (~20kHz pulser) was used for AGAVA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MAX software was  used on the Struck for control and data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 was running whole night (&gt;8 hours) with total acqusition rate ~1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A88D-5B49-4A79-9111-766F73D50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11341-0869-482F-9941-232F58F07780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ests of new release of AGAVA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GAVA rel. 2 was tested in the same configuration as rel.1 in the CBLT mode and standard VME access mode successfu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the GTS release 1 (based on Virtex 2Pro) will be not produced anymore it was necessary to test AGAVA board with the new GTS release 2 (based on Virtex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sts of AGAVA release 1 and 2 with new GTS (release2) have been done in CBLT and standard mode success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st of the Ethernet connection to the GTS via AGAVA release 2 was not successful because there were still missing components on the AGAVA release 2 (promissed from GTS 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thernet connection test should be tes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C69C-0560-439D-A7BD-D94847DA0E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A4061-A15D-49B4-B3F5-1EBFA002BDA3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x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tests in the VXI environment at Gan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of Ethernet connection to the GTS via AGAVA board releas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 WEEK Uppsala 7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083-61CC-47A5-9835-D3CC38FF71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B4046-B994-4EAA-88B4-E88EADC7C616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 Dulny</cp:lastModifiedBy>
  <dcterms:modified xsi:type="dcterms:W3CDTF">2008-07-07T06:19:00Z</dcterms:modified>
  <cp:revision>1</cp:revision>
  <dc:subject/>
  <dc:title>Prezentacja programu PowerPoint</dc:title>
</cp:coreProperties>
</file>