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A4B1-AA9B-4D04-BC33-6757C9AB4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12B-E3A6-4B1E-89A3-02A9F08F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8DDC-CAFD-4C98-AFAC-9AFBA30B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E16E-FF99-4190-A757-932E9572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C10-6AEA-4B23-9DCA-76976E02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5C74-B131-4930-A7A4-3DF4040E1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AD5-4149-4E34-BF04-246CDB9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E93-C29A-4F0E-A05B-83E1CD81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E934-1C46-4CDA-A952-B3598A3E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FB1-4F11-44B0-891F-17E27B7A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4C1-4BC4-434D-9D60-94729A0B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A222-DE7D-496E-A616-296C3852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A68C-F85C-4764-A53B-FAA178AF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4341-E9A0-4585-8925-63E63F619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Bmovies" descr=""/>
          <p:cNvPicPr/>
          <p:nvPr/>
        </p:nvPicPr>
        <p:blipFill>
          <a:blip r:embed="rId1"/>
          <a:stretch/>
        </p:blipFill>
        <p:spPr>
          <a:xfrm>
            <a:off x="0" y="-295200"/>
            <a:ext cx="9220320" cy="720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24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origin o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ial Crosstal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segmented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 Bruyneel  for the AGATA week , Uppsala, Sweden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3320" y="860400"/>
            <a:ext cx="8507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lk is present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ed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energy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s strong energy shifts proportional to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PSA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talk mixes with transien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and accurate crosstalk detection and energy correction method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o : Crosstalk measurement and correction in P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181840" cy="353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12960" y="342252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um of segment Energies vs 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ross talk</a:t>
            </a:r>
            <a:r>
              <a:rPr b="1" lang="de-DE" sz="3200" spc="-1" strike="noStrike">
                <a:solidFill>
                  <a:srgbClr val="3333cc"/>
                </a:solidFill>
                <a:latin typeface="Comic Sans MS"/>
              </a:rPr>
              <a:t> analysi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10360" y="3544920"/>
          <a:ext cx="3501720" cy="288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0360" y="3544920"/>
                    <a:ext cx="350172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843520" y="4230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72120" y="349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alk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talk in all its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4411800"/>
            <a:ext cx="2687040" cy="1932840"/>
            <a:chOff x="990720" y="4411800"/>
            <a:chExt cx="2687040" cy="1932840"/>
          </a:xfrm>
        </p:grpSpPr>
        <p:sp>
          <p:nvSpPr>
            <p:cNvPr id="62" name=""/>
            <p:cNvSpPr/>
            <p:nvPr/>
          </p:nvSpPr>
          <p:spPr>
            <a:xfrm>
              <a:off x="1143000" y="4799160"/>
              <a:ext cx="200916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105640" y="4507200"/>
              <a:ext cx="77328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54320" y="4678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1920" y="4773600"/>
              <a:ext cx="4716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492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00000" y="4799160"/>
              <a:ext cx="129528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89160" y="5740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760" y="5835960"/>
              <a:ext cx="4716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2113920" y="5571000"/>
              <a:ext cx="77292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65280" y="5303880"/>
              <a:ext cx="453600" cy="152280"/>
              <a:chOff x="1565280" y="5303880"/>
              <a:chExt cx="453600" cy="152280"/>
            </a:xfrm>
          </p:grpSpPr>
          <p:sp>
            <p:nvSpPr>
              <p:cNvPr id="72" name=""/>
              <p:cNvSpPr/>
              <p:nvPr/>
            </p:nvSpPr>
            <p:spPr>
              <a:xfrm rot="5400000">
                <a:off x="1715760" y="5153040"/>
                <a:ext cx="152280" cy="45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6720" y="5303880"/>
                <a:ext cx="30276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56720" y="5396040"/>
                <a:ext cx="30276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38240" y="53802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76040" y="543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28760" y="52563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6920" y="531360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1240" y="4799160"/>
              <a:ext cx="15192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66680" y="4986360"/>
              <a:ext cx="15192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95360" y="484668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0520" y="484668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8956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809880" y="4724280"/>
            <a:ext cx="510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tal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rtional Xtalk model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ller = 1/sA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ler does not expla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ise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preamplifier…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920" y="1182600"/>
            <a:ext cx="8610480" cy="2932200"/>
            <a:chOff x="304920" y="1182600"/>
            <a:chExt cx="8610480" cy="2932200"/>
          </a:xfrm>
        </p:grpSpPr>
        <p:sp>
          <p:nvSpPr>
            <p:cNvPr id="86" name=""/>
            <p:cNvSpPr/>
            <p:nvPr/>
          </p:nvSpPr>
          <p:spPr>
            <a:xfrm>
              <a:off x="3733920" y="1535040"/>
              <a:ext cx="51814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rtional Xtalk (5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decay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ner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ferential Xtalk (only during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iseti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920" y="1182600"/>
              <a:ext cx="3502080" cy="2932200"/>
              <a:chOff x="304920" y="1182600"/>
              <a:chExt cx="3502080" cy="293220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304920" y="1230120"/>
              <a:ext cx="3502080" cy="2884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230120"/>
                        <a:ext cx="3502080" cy="288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838440" y="19159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67040" y="1182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ure Xtalk signal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752480" y="2678040"/>
              <a:ext cx="1981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16113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p model describing rise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4440" y="1100160"/>
          <a:ext cx="685332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100160"/>
                    <a:ext cx="6853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09680" y="213372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out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 = Z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148280"/>
            <a:ext cx="1295640" cy="828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7432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129200"/>
            <a:ext cx="2743200" cy="9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452840"/>
            <a:ext cx="2590920" cy="51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A + 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71629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ld Resist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- E. Gatti and P. Manfredi – Il Nuovo Cimento vol. 9 serie 3 (198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“Analogue circuits techniques Part II ” F. Anghinolfi , CERN (2002) – (available on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75240" y="1514520"/>
            <a:ext cx="2305800" cy="1371600"/>
            <a:chOff x="5475240" y="1514520"/>
            <a:chExt cx="2305800" cy="1371600"/>
          </a:xfrm>
        </p:grpSpPr>
        <p:sp>
          <p:nvSpPr>
            <p:cNvPr id="104" name=""/>
            <p:cNvSpPr/>
            <p:nvPr/>
          </p:nvSpPr>
          <p:spPr>
            <a:xfrm>
              <a:off x="5475240" y="1514520"/>
              <a:ext cx="2209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51200" y="1666800"/>
              <a:ext cx="2229840" cy="1025640"/>
              <a:chOff x="5551200" y="1666800"/>
              <a:chExt cx="2229840" cy="10256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03120" y="2054160"/>
                <a:ext cx="1552320" cy="609480"/>
              </a:xfrm>
              <a:custGeom>
                <a:avLst/>
                <a:gdLst/>
                <a:ahLst/>
                <a:rect l="l" t="t" r="r" b="b"/>
                <a:pathLst>
                  <a:path w="1488" h="384">
                    <a:moveTo>
                      <a:pt x="0" y="384"/>
                    </a:moveTo>
                    <a:lnTo>
                      <a:pt x="0" y="0"/>
                    </a:lnTo>
                    <a:lnTo>
                      <a:pt x="14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6208920" y="1762200"/>
                <a:ext cx="773280" cy="58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57240" y="1933560"/>
                <a:ext cx="52380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25560" y="202860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51200" y="21780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98360" y="26352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36520" y="269244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7160" y="2241360"/>
                <a:ext cx="151920" cy="177840"/>
              </a:xfrm>
              <a:custGeom>
                <a:avLst/>
                <a:gdLst/>
                <a:ahLst/>
                <a:rect l="l" t="t" r="r" b="b"/>
                <a:pathLst>
                  <a:path w="96" h="112">
                    <a:moveTo>
                      <a:pt x="0" y="56"/>
                    </a:moveTo>
                    <a:cubicBezTo>
                      <a:pt x="20" y="84"/>
                      <a:pt x="40" y="112"/>
                      <a:pt x="48" y="104"/>
                    </a:cubicBezTo>
                    <a:cubicBezTo>
                      <a:pt x="56" y="96"/>
                      <a:pt x="40" y="16"/>
                      <a:pt x="48" y="8"/>
                    </a:cubicBezTo>
                    <a:cubicBezTo>
                      <a:pt x="56" y="0"/>
                      <a:pt x="76" y="28"/>
                      <a:pt x="96" y="56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1440" y="1781280"/>
                <a:ext cx="52344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855400" y="2190600"/>
            <a:ext cx="335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talk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0880"/>
            <a:ext cx="2687760" cy="1932840"/>
            <a:chOff x="380880" y="1820880"/>
            <a:chExt cx="2687760" cy="1932840"/>
          </a:xfrm>
        </p:grpSpPr>
        <p:sp>
          <p:nvSpPr>
            <p:cNvPr id="118" name=""/>
            <p:cNvSpPr/>
            <p:nvPr/>
          </p:nvSpPr>
          <p:spPr>
            <a:xfrm>
              <a:off x="533520" y="2208240"/>
              <a:ext cx="200952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496880" y="1916280"/>
              <a:ext cx="77328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4840" y="2087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513160" y="2182680"/>
              <a:ext cx="4752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23320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0520" y="2208240"/>
              <a:ext cx="129564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9680" y="3149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48000" y="3245040"/>
              <a:ext cx="4752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504800" y="2979720"/>
              <a:ext cx="77292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55440" y="2712960"/>
              <a:ext cx="453960" cy="152280"/>
              <a:chOff x="955440" y="2712960"/>
              <a:chExt cx="453960" cy="15228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1106280" y="2562120"/>
                <a:ext cx="152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46520" y="2712960"/>
                <a:ext cx="30312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6520" y="2805120"/>
                <a:ext cx="30312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8760" y="2789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560" y="28465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2665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7440" y="2722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1760" y="2208240"/>
              <a:ext cx="15228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7200" y="2395440"/>
              <a:ext cx="15228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5880" y="2255760"/>
              <a:ext cx="7632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41040" y="225576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798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2057400"/>
            <a:ext cx="5715000" cy="2044080"/>
            <a:chOff x="3276720" y="2057400"/>
            <a:chExt cx="5715000" cy="2044080"/>
          </a:xfrm>
        </p:grpSpPr>
        <p:sp>
          <p:nvSpPr>
            <p:cNvPr id="141" name=""/>
            <p:cNvSpPr/>
            <p:nvPr/>
          </p:nvSpPr>
          <p:spPr>
            <a:xfrm>
              <a:off x="3276720" y="2057400"/>
              <a:ext cx="571500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/s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tal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s 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Proportional + Differential Xta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1160" y="2571480"/>
              <a:ext cx="121932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640" y="2590560"/>
              <a:ext cx="144756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62320" y="4267080"/>
            <a:ext cx="4419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= 1000%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2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Other ways possible to create Derivative Xtal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tic simulation (Multisi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530360"/>
            <a:ext cx="200988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0" y="38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648800" y="1238040"/>
            <a:ext cx="77328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7120" y="140976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5440" y="1504800"/>
            <a:ext cx="4752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54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43160" y="153036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0" y="0"/>
                </a:moveTo>
                <a:lnTo>
                  <a:pt x="0" y="672"/>
                </a:lnTo>
                <a:lnTo>
                  <a:pt x="81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471760"/>
            <a:ext cx="524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0280" y="2567160"/>
            <a:ext cx="4752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1657080" y="2301840"/>
            <a:ext cx="77292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07720" y="2035080"/>
            <a:ext cx="453960" cy="152280"/>
            <a:chOff x="1107720" y="2035080"/>
            <a:chExt cx="453960" cy="152280"/>
          </a:xfrm>
        </p:grpSpPr>
        <p:sp>
          <p:nvSpPr>
            <p:cNvPr id="157" name=""/>
            <p:cNvSpPr/>
            <p:nvPr/>
          </p:nvSpPr>
          <p:spPr>
            <a:xfrm rot="5400000">
              <a:off x="1258560" y="1884240"/>
              <a:ext cx="1522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8800" y="2035080"/>
              <a:ext cx="30312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8800" y="2127240"/>
              <a:ext cx="3031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040" y="2111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200" y="2168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1717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56"/>
                </a:moveTo>
                <a:cubicBezTo>
                  <a:pt x="20" y="84"/>
                  <a:pt x="40" y="112"/>
                  <a:pt x="48" y="104"/>
                </a:cubicBezTo>
                <a:cubicBezTo>
                  <a:pt x="56" y="96"/>
                  <a:pt x="40" y="16"/>
                  <a:pt x="48" y="8"/>
                </a:cubicBezTo>
                <a:cubicBezTo>
                  <a:pt x="56" y="0"/>
                  <a:pt x="76" y="28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120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2204" b="0"/>
          <a:stretch/>
        </p:blipFill>
        <p:spPr>
          <a:xfrm>
            <a:off x="380880" y="3429000"/>
            <a:ext cx="288000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Pream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1348" t="0" r="1348" b="0"/>
          <a:stretch/>
        </p:blipFill>
        <p:spPr>
          <a:xfrm>
            <a:off x="3951360" y="1752480"/>
            <a:ext cx="466704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01000" y="167472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472284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ifferential Xtalk from Proportional Xtal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317480" y="2427480"/>
            <a:ext cx="2438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capac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1222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3933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176640"/>
            <a:ext cx="198144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g to s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pa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143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will show up in adjacent segments and within sam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 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286680" cy="3162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762120" y="3886200"/>
            <a:ext cx="7721280" cy="2286000"/>
            <a:chOff x="762120" y="3886200"/>
            <a:chExt cx="7721280" cy="2286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rcRect l="0" t="0" r="1063" b="0"/>
            <a:stretch/>
          </p:blipFill>
          <p:spPr>
            <a:xfrm>
              <a:off x="762120" y="3949560"/>
              <a:ext cx="5126040" cy="222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5943600" y="3886200"/>
              <a:ext cx="2539800" cy="2171880"/>
              <a:chOff x="5943600" y="3886200"/>
              <a:chExt cx="2539800" cy="2171880"/>
            </a:xfrm>
          </p:grpSpPr>
          <p:pic>
            <p:nvPicPr>
              <p:cNvPr id="194" name="" descr=""/>
              <p:cNvPicPr/>
              <p:nvPr/>
            </p:nvPicPr>
            <p:blipFill>
              <a:blip r:embed="rId3"/>
              <a:srcRect l="0" t="0" r="2074" b="0"/>
              <a:stretch/>
            </p:blipFill>
            <p:spPr>
              <a:xfrm>
                <a:off x="5943600" y="3886200"/>
                <a:ext cx="2539800" cy="21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4"/>
              <a:srcRect l="0" t="0" r="19316" b="0"/>
              <a:stretch/>
            </p:blipFill>
            <p:spPr>
              <a:xfrm>
                <a:off x="6400800" y="4038480"/>
                <a:ext cx="272880" cy="38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41120" y="6362640"/>
            <a:ext cx="88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Bruyneel et al. NIM A 569 (2006) 774-789  /  MGS workshop (April 2005)   /   AGATA week (Nov 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76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280" y="1123920"/>
            <a:ext cx="4724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ulse Shape Characterization an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or the TIGRESS Gamma-ray Detect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 Robin Prest TRIUMF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physics.uoguelph.ca/Nucweb/tigres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391000"/>
            <a:ext cx="51246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“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Differential Analysis” using mirror interaction po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 from transients of mirror interactions are pu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33440" y="2639880"/>
            <a:ext cx="2792160" cy="2465640"/>
            <a:chOff x="1333440" y="2639880"/>
            <a:chExt cx="2792160" cy="2465640"/>
          </a:xfrm>
        </p:grpSpPr>
        <p:sp>
          <p:nvSpPr>
            <p:cNvPr id="201" name=""/>
            <p:cNvSpPr/>
            <p:nvPr/>
          </p:nvSpPr>
          <p:spPr>
            <a:xfrm>
              <a:off x="1379520" y="2639880"/>
              <a:ext cx="2261880" cy="235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94000" y="263988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6320" y="267012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9600" y="4545000"/>
              <a:ext cx="696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727440"/>
              <a:ext cx="17604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598480" y="3003120"/>
              <a:ext cx="6955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8480" y="382896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0960" y="382896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11360" y="3919320"/>
              <a:ext cx="0" cy="10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514600" y="265248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3440" y="4560840"/>
              <a:ext cx="69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25480" y="2884320"/>
              <a:ext cx="1011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a,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3440" y="3389400"/>
              <a:ext cx="9921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b,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3048120"/>
              <a:ext cx="50472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0080" y="3911760"/>
            <a:ext cx="3429000" cy="2431800"/>
            <a:chOff x="5410080" y="3911760"/>
            <a:chExt cx="3429000" cy="2431800"/>
          </a:xfrm>
        </p:grpSpPr>
        <p:pic>
          <p:nvPicPr>
            <p:cNvPr id="216" name="rpair354045" descr=""/>
            <p:cNvPicPr/>
            <p:nvPr/>
          </p:nvPicPr>
          <p:blipFill>
            <a:blip r:embed="rId1"/>
            <a:srcRect l="0" t="3546" r="54809" b="52109"/>
            <a:stretch/>
          </p:blipFill>
          <p:spPr>
            <a:xfrm>
              <a:off x="5410080" y="3911760"/>
              <a:ext cx="342900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553080" y="4133880"/>
              <a:ext cx="2057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Differential analysis</a:t>
              </a:r>
              <a:r>
                <a:rPr b="0" lang="en-GB" sz="1200" spc="-1" strike="noStrike" baseline="-30000">
                  <a:solidFill>
                    <a:srgbClr val="000000"/>
                  </a:solidFill>
                  <a:latin typeface="Times New Roman"/>
                  <a:ea typeface="Bitstream Vera Sans"/>
                </a:rPr>
                <a:t>.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for simulation (green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and experiment (r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10080" y="1238400"/>
            <a:ext cx="3448080" cy="2665440"/>
            <a:chOff x="5410080" y="1238400"/>
            <a:chExt cx="3448080" cy="2665440"/>
          </a:xfrm>
        </p:grpSpPr>
        <p:pic>
          <p:nvPicPr>
            <p:cNvPr id="221" name="convexp-3540b4" descr=""/>
            <p:cNvPicPr/>
            <p:nvPr/>
          </p:nvPicPr>
          <p:blipFill>
            <a:blip r:embed="rId2"/>
            <a:srcRect l="0" t="0" r="54809" b="51666"/>
            <a:stretch/>
          </p:blipFill>
          <p:spPr>
            <a:xfrm>
              <a:off x="5410080" y="1238400"/>
              <a:ext cx="344808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095880" y="1619280"/>
              <a:ext cx="2667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imulated signal (green) compa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to experimental signal (red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uffering from cross-ta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297400" y="1122480"/>
            <a:ext cx="89532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01:25Z</dcterms:created>
  <dc:creator>Bart Bruyneel</dc:creator>
  <dc:description/>
  <dc:language>en-US</dc:language>
  <cp:lastModifiedBy>user</cp:lastModifiedBy>
  <dcterms:modified xsi:type="dcterms:W3CDTF">2008-07-08T23:31:40Z</dcterms:modified>
  <cp:revision>16</cp:revision>
  <dc:subject/>
  <dc:title>title</dc:title>
</cp:coreProperties>
</file>